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5/16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E42-7523-4AFD-95FC-9DDFC21B7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14840" cy="30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lectric Field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18148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05/16/2008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Lecture 17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C768-A37F-4809-A4DD-7B59ADF48275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000-578B-4593-9AC8-E3397B7C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309-4AD9-4C47-B781-88ECF38F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929-E183-435F-B66D-DB0A6975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A2F-BB3B-4C39-B667-DFF4B8A6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7A1-8BEC-47F6-A56A-4E5A7536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F58-59F2-4107-A73E-A99D1270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3B3-9140-4289-BF84-6642C967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CEE-C7A3-4F8C-8A55-7BF39824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623-5CB4-4287-922E-75E0C3F1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E4A-5DCE-4E86-B74C-376065C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CA9-18E9-4252-99F2-C33DAD35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D15-B762-4D06-B463-6BF2920A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C660-57D1-47C6-B3D4-1A91089D77A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457200"/>
            <a:ext cx="8686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36440" y="1440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UCS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467480" y="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hysics 1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ormchasing.nl/lightn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he Electric For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 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 Fiel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 Bea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Picture 4" descr="dipole"/>
          <p:cNvPicPr/>
          <p:nvPr/>
        </p:nvPicPr>
        <p:blipFill>
          <a:blip r:embed="rId1"/>
          <a:stretch/>
        </p:blipFill>
        <p:spPr>
          <a:xfrm>
            <a:off x="2590920" y="609480"/>
            <a:ext cx="3943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1BDA-ADB6-4639-B643-BC819264AF5B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ulomb Law Illustrated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ke charges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rep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nlike charges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ttra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1523880" y="3657600"/>
            <a:ext cx="3429000" cy="380880"/>
            <a:chOff x="1523880" y="3657600"/>
            <a:chExt cx="3429000" cy="380880"/>
          </a:xfrm>
        </p:grpSpPr>
        <p:sp>
          <p:nvSpPr>
            <p:cNvPr id="134" name="Oval 5"/>
            <p:cNvSpPr/>
            <p:nvPr/>
          </p:nvSpPr>
          <p:spPr>
            <a:xfrm>
              <a:off x="1523880" y="36576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4572000" y="3657600"/>
              <a:ext cx="38088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1905120" y="385596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 flipH="1">
              <a:off x="3885840" y="385596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837720" y="2590920"/>
            <a:ext cx="4800960" cy="380880"/>
            <a:chOff x="837720" y="2590920"/>
            <a:chExt cx="4800960" cy="380880"/>
          </a:xfrm>
        </p:grpSpPr>
        <p:sp>
          <p:nvSpPr>
            <p:cNvPr id="139" name="Oval 4"/>
            <p:cNvSpPr/>
            <p:nvPr/>
          </p:nvSpPr>
          <p:spPr>
            <a:xfrm>
              <a:off x="1523880" y="2590920"/>
              <a:ext cx="38124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>
              <a:off x="4572000" y="2590920"/>
              <a:ext cx="38088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952880" y="278748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 flipH="1">
              <a:off x="837720" y="278748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3" name="Group 18"/>
          <p:cNvGrpSpPr/>
          <p:nvPr/>
        </p:nvGrpSpPr>
        <p:grpSpPr>
          <a:xfrm>
            <a:off x="1676520" y="2986200"/>
            <a:ext cx="3124080" cy="398880"/>
            <a:chOff x="1676520" y="2986200"/>
            <a:chExt cx="3124080" cy="398880"/>
          </a:xfrm>
        </p:grpSpPr>
        <p:sp>
          <p:nvSpPr>
            <p:cNvPr id="144" name="Line 14"/>
            <p:cNvSpPr/>
            <p:nvPr/>
          </p:nvSpPr>
          <p:spPr>
            <a:xfrm>
              <a:off x="1676520" y="3352680"/>
              <a:ext cx="31240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3109320" y="29862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46" name="Text Box 16"/>
          <p:cNvSpPr/>
          <p:nvPr/>
        </p:nvSpPr>
        <p:spPr>
          <a:xfrm>
            <a:off x="892440" y="4994280"/>
            <a:ext cx="70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charges are of same magnitude (and same separation)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l the forces will be the same magnitude, with differ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7" name="Group 33"/>
          <p:cNvGrpSpPr/>
          <p:nvPr/>
        </p:nvGrpSpPr>
        <p:grpSpPr>
          <a:xfrm>
            <a:off x="837720" y="4343400"/>
            <a:ext cx="4800960" cy="380880"/>
            <a:chOff x="837720" y="4343400"/>
            <a:chExt cx="4800960" cy="380880"/>
          </a:xfrm>
        </p:grpSpPr>
        <p:sp>
          <p:nvSpPr>
            <p:cNvPr id="148" name="Line 28"/>
            <p:cNvSpPr/>
            <p:nvPr/>
          </p:nvSpPr>
          <p:spPr>
            <a:xfrm>
              <a:off x="4952880" y="454032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 flipH="1">
              <a:off x="837720" y="454032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Oval 30"/>
            <p:cNvSpPr/>
            <p:nvPr/>
          </p:nvSpPr>
          <p:spPr>
            <a:xfrm>
              <a:off x="4572000" y="4343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Oval 31"/>
            <p:cNvSpPr/>
            <p:nvPr/>
          </p:nvSpPr>
          <p:spPr>
            <a:xfrm>
              <a:off x="1523880" y="43434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D0B3-E030-4372-A820-53CDAA81375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ulomb Force Law, Qualitativel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one of th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doubl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ge sign of one of th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changes dire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ge sign of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o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stays the sa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the distance between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four times weak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both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four times strong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A3FC-EA27-4781-A2E6-96C17112E23E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orce a lot like Gravit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ame 1/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dependence; charge takes place of mas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es this mean electricity is product of geometry, just like gravity (general relativity)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, because gravity as geometry accounts for the fact that all masses accelerate the sam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s depends on applied force being proportional to inertial mass 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charged particles, force is proportional to charge, not inertial mas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fferen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harge-to-mass ratio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lead to different accelerati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oton has 1/2000 charge-to-mass of electr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proton sluggis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B104-29FF-4265-8EFF-2B4949E4B5E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ield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 think of electric force as establishing “field” telling particles which way to move and how fa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4" name="Group 37"/>
          <p:cNvGrpSpPr/>
          <p:nvPr/>
        </p:nvGrpSpPr>
        <p:grpSpPr>
          <a:xfrm>
            <a:off x="152280" y="2556000"/>
            <a:ext cx="3810240" cy="3879360"/>
            <a:chOff x="152280" y="2556000"/>
            <a:chExt cx="3810240" cy="3879360"/>
          </a:xfrm>
        </p:grpSpPr>
        <p:grpSp>
          <p:nvGrpSpPr>
            <p:cNvPr id="165" name="Group 9"/>
            <p:cNvGrpSpPr/>
            <p:nvPr/>
          </p:nvGrpSpPr>
          <p:grpSpPr>
            <a:xfrm>
              <a:off x="685800" y="3124080"/>
              <a:ext cx="2743200" cy="2743200"/>
              <a:chOff x="685800" y="3124080"/>
              <a:chExt cx="2743200" cy="2743200"/>
            </a:xfrm>
          </p:grpSpPr>
          <p:sp>
            <p:nvSpPr>
              <p:cNvPr id="166" name="Line 4"/>
              <p:cNvSpPr/>
              <p:nvPr/>
            </p:nvSpPr>
            <p:spPr>
              <a:xfrm>
                <a:off x="685800" y="3124080"/>
                <a:ext cx="2743200" cy="274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7" name="Line 6"/>
              <p:cNvSpPr/>
              <p:nvPr/>
            </p:nvSpPr>
            <p:spPr>
              <a:xfrm flipH="1" flipV="1">
                <a:off x="1294920" y="3733920"/>
                <a:ext cx="762120" cy="761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8" name="Line 7"/>
              <p:cNvSpPr/>
              <p:nvPr/>
            </p:nvSpPr>
            <p:spPr>
              <a:xfrm>
                <a:off x="2056680" y="4494960"/>
                <a:ext cx="76212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0"/>
            <p:cNvGrpSpPr/>
            <p:nvPr/>
          </p:nvGrpSpPr>
          <p:grpSpPr>
            <a:xfrm>
              <a:off x="685800" y="3124080"/>
              <a:ext cx="2743200" cy="2743200"/>
              <a:chOff x="685800" y="3124080"/>
              <a:chExt cx="2743200" cy="2743200"/>
            </a:xfrm>
          </p:grpSpPr>
          <p:sp>
            <p:nvSpPr>
              <p:cNvPr id="170" name="Line 11"/>
              <p:cNvSpPr/>
              <p:nvPr/>
            </p:nvSpPr>
            <p:spPr>
              <a:xfrm flipV="1">
                <a:off x="685800" y="3124080"/>
                <a:ext cx="2743200" cy="274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 flipH="1">
                <a:off x="1295640" y="4496040"/>
                <a:ext cx="76176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2" name="Line 13"/>
              <p:cNvSpPr/>
              <p:nvPr/>
            </p:nvSpPr>
            <p:spPr>
              <a:xfrm flipV="1">
                <a:off x="2056680" y="3734280"/>
                <a:ext cx="76212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27"/>
            <p:cNvGrpSpPr/>
            <p:nvPr/>
          </p:nvGrpSpPr>
          <p:grpSpPr>
            <a:xfrm>
              <a:off x="2054880" y="2556000"/>
              <a:ext cx="2520" cy="3879360"/>
              <a:chOff x="2054880" y="2556000"/>
              <a:chExt cx="2520" cy="3879360"/>
            </a:xfrm>
          </p:grpSpPr>
          <p:sp>
            <p:nvSpPr>
              <p:cNvPr id="174" name="Line 24"/>
              <p:cNvSpPr/>
              <p:nvPr/>
            </p:nvSpPr>
            <p:spPr>
              <a:xfrm>
                <a:off x="2057400" y="2556000"/>
                <a:ext cx="0" cy="387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5" name="Line 25"/>
              <p:cNvSpPr/>
              <p:nvPr/>
            </p:nvSpPr>
            <p:spPr>
              <a:xfrm flipV="1">
                <a:off x="2054880" y="3417120"/>
                <a:ext cx="360" cy="1077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6" name="Line 26"/>
              <p:cNvSpPr/>
              <p:nvPr/>
            </p:nvSpPr>
            <p:spPr>
              <a:xfrm>
                <a:off x="2055600" y="4494600"/>
                <a:ext cx="0" cy="1077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Line 28"/>
            <p:cNvSpPr/>
            <p:nvPr/>
          </p:nvSpPr>
          <p:spPr>
            <a:xfrm>
              <a:off x="2057400" y="4495680"/>
              <a:ext cx="1066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H="1">
              <a:off x="990360" y="4495680"/>
              <a:ext cx="1066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>
              <a:off x="152280" y="4495680"/>
              <a:ext cx="38102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0" name="Oval 31"/>
          <p:cNvSpPr/>
          <p:nvPr/>
        </p:nvSpPr>
        <p:spPr>
          <a:xfrm>
            <a:off x="1905120" y="4343400"/>
            <a:ext cx="304560" cy="304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4043880" y="2057400"/>
            <a:ext cx="510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ectric “field lines” tell 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rge which way to mov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example, a positive charge itsel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as field lines pointing away from it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ecause this is how a positively-charg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st-particle” would respond if plac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the vicinity (repulsive force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Oval 34"/>
          <p:cNvSpPr/>
          <p:nvPr/>
        </p:nvSpPr>
        <p:spPr>
          <a:xfrm>
            <a:off x="3505320" y="59436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3733920" y="5486400"/>
            <a:ext cx="1600200" cy="380880"/>
          </a:xfrm>
          <a:prstGeom prst="wedgeEllipseCallout">
            <a:avLst>
              <a:gd name="adj1" fmla="val -44643"/>
              <a:gd name="adj2" fmla="val 70000"/>
            </a:avLst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Run Away!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2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0DE6-11B6-4843-B25C-EA753FE3AB1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xample Electric Fields Around Charge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87" name="Picture 3" descr="dipole_field"/>
          <p:cNvPicPr/>
          <p:nvPr/>
        </p:nvPicPr>
        <p:blipFill>
          <a:blip r:embed="rId1"/>
          <a:stretch/>
        </p:blipFill>
        <p:spPr>
          <a:xfrm>
            <a:off x="2286000" y="1295280"/>
            <a:ext cx="45813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C369-5610-4419-9866-85F7213AF8F1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ields in Circuit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int away from positive terminal, towards negati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neled by conductor (wir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s flow opposite field lines (neg. charg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2" name="Picture 4" descr="battery"/>
          <p:cNvPicPr/>
          <p:nvPr/>
        </p:nvPicPr>
        <p:blipFill>
          <a:blip r:embed="rId1"/>
          <a:stretch/>
        </p:blipFill>
        <p:spPr>
          <a:xfrm>
            <a:off x="914400" y="3733920"/>
            <a:ext cx="852480" cy="177948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5"/>
          <p:cNvSpPr/>
          <p:nvPr/>
        </p:nvSpPr>
        <p:spPr>
          <a:xfrm>
            <a:off x="1523880" y="3352680"/>
            <a:ext cx="2590920" cy="24386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1632" h="1536">
                <a:moveTo>
                  <a:pt x="0" y="1344"/>
                </a:moveTo>
                <a:lnTo>
                  <a:pt x="0" y="1536"/>
                </a:lnTo>
                <a:lnTo>
                  <a:pt x="1632" y="1536"/>
                </a:lnTo>
                <a:lnTo>
                  <a:pt x="1632" y="144"/>
                </a:lnTo>
                <a:lnTo>
                  <a:pt x="1632" y="0"/>
                </a:ln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Freeform 6"/>
          <p:cNvSpPr/>
          <p:nvPr/>
        </p:nvSpPr>
        <p:spPr>
          <a:xfrm>
            <a:off x="1219320" y="3048120"/>
            <a:ext cx="3200400" cy="3047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3047760"/>
              <a:gd name="textAreaBottom" fmla="*/ 3048120 h 3047760"/>
            </a:gdLst>
            <a:ahLst/>
            <a:rect l="textAreaLeft" t="textAreaTop" r="textAreaRight" b="textAreaBottom"/>
            <a:pathLst>
              <a:path w="2016" h="1920">
                <a:moveTo>
                  <a:pt x="0" y="1536"/>
                </a:moveTo>
                <a:lnTo>
                  <a:pt x="0" y="1920"/>
                </a:lnTo>
                <a:lnTo>
                  <a:pt x="2016" y="1920"/>
                </a:lnTo>
                <a:lnTo>
                  <a:pt x="2016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2819520" y="3200400"/>
            <a:ext cx="7617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1905120" y="5943600"/>
            <a:ext cx="7617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267080" y="4267080"/>
            <a:ext cx="0" cy="76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516040" y="3048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116240" y="3962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2668320" y="5791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01" name="Group 16"/>
          <p:cNvGrpSpPr/>
          <p:nvPr/>
        </p:nvGrpSpPr>
        <p:grpSpPr>
          <a:xfrm>
            <a:off x="3352680" y="5943600"/>
            <a:ext cx="381240" cy="75960"/>
            <a:chOff x="3352680" y="5943600"/>
            <a:chExt cx="381240" cy="75960"/>
          </a:xfrm>
        </p:grpSpPr>
        <p:sp>
          <p:nvSpPr>
            <p:cNvPr id="202" name="Oval 14"/>
            <p:cNvSpPr/>
            <p:nvPr/>
          </p:nvSpPr>
          <p:spPr>
            <a:xfrm>
              <a:off x="3352680" y="594360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429000" y="598320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04" name="Group 17"/>
          <p:cNvGrpSpPr/>
          <p:nvPr/>
        </p:nvGrpSpPr>
        <p:grpSpPr>
          <a:xfrm>
            <a:off x="4876920" y="3429000"/>
            <a:ext cx="380520" cy="75960"/>
            <a:chOff x="4876920" y="3429000"/>
            <a:chExt cx="380520" cy="75960"/>
          </a:xfrm>
        </p:grpSpPr>
        <p:sp>
          <p:nvSpPr>
            <p:cNvPr id="205" name="Oval 18"/>
            <p:cNvSpPr/>
            <p:nvPr/>
          </p:nvSpPr>
          <p:spPr>
            <a:xfrm>
              <a:off x="4876920" y="342900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952880" y="346860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07" name="Group 20"/>
          <p:cNvGrpSpPr/>
          <p:nvPr/>
        </p:nvGrpSpPr>
        <p:grpSpPr>
          <a:xfrm>
            <a:off x="4267080" y="5334480"/>
            <a:ext cx="75960" cy="380520"/>
            <a:chOff x="4267080" y="5334480"/>
            <a:chExt cx="75960" cy="380520"/>
          </a:xfrm>
        </p:grpSpPr>
        <p:sp>
          <p:nvSpPr>
            <p:cNvPr id="208" name="Oval 21"/>
            <p:cNvSpPr/>
            <p:nvPr/>
          </p:nvSpPr>
          <p:spPr>
            <a:xfrm rot="16200000">
              <a:off x="4267080" y="56390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Line 22"/>
            <p:cNvSpPr/>
            <p:nvPr/>
          </p:nvSpPr>
          <p:spPr>
            <a:xfrm flipV="1">
              <a:off x="4306680" y="53344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1600560" y="3124080"/>
            <a:ext cx="380520" cy="75960"/>
            <a:chOff x="1600560" y="3124080"/>
            <a:chExt cx="380520" cy="75960"/>
          </a:xfrm>
        </p:grpSpPr>
        <p:sp>
          <p:nvSpPr>
            <p:cNvPr id="211" name="Oval 24"/>
            <p:cNvSpPr/>
            <p:nvPr/>
          </p:nvSpPr>
          <p:spPr>
            <a:xfrm flipH="1">
              <a:off x="1904760" y="31240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Line 25"/>
            <p:cNvSpPr/>
            <p:nvPr/>
          </p:nvSpPr>
          <p:spPr>
            <a:xfrm flipH="1">
              <a:off x="1600560" y="316368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13" name="Group 26"/>
          <p:cNvGrpSpPr/>
          <p:nvPr/>
        </p:nvGrpSpPr>
        <p:grpSpPr>
          <a:xfrm>
            <a:off x="4267080" y="3200760"/>
            <a:ext cx="75960" cy="380520"/>
            <a:chOff x="4267080" y="3200760"/>
            <a:chExt cx="75960" cy="380520"/>
          </a:xfrm>
        </p:grpSpPr>
        <p:sp>
          <p:nvSpPr>
            <p:cNvPr id="214" name="Oval 27"/>
            <p:cNvSpPr/>
            <p:nvPr/>
          </p:nvSpPr>
          <p:spPr>
            <a:xfrm rot="16200000">
              <a:off x="4267080" y="3505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Line 28"/>
            <p:cNvSpPr/>
            <p:nvPr/>
          </p:nvSpPr>
          <p:spPr>
            <a:xfrm flipV="1">
              <a:off x="4306680" y="320076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6" name="Text Box 29"/>
          <p:cNvSpPr/>
          <p:nvPr/>
        </p:nvSpPr>
        <p:spPr>
          <a:xfrm>
            <a:off x="5313960" y="329076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electrons &amp; direction of mo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5181480" y="3994200"/>
            <a:ext cx="7621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Text Box 31"/>
          <p:cNvSpPr/>
          <p:nvPr/>
        </p:nvSpPr>
        <p:spPr>
          <a:xfrm>
            <a:off x="48783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6019560" y="38098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lectric field direc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584A-48A7-493E-B8B7-E4D26D1776D5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on Beams; Cathode Ray Tubes (CRTs)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elevisions, Oscilloscopes, Monitors, etc. use an electron beam steered by electric fields to light up the (phosphorescent) screen at specified point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24" name="Group 46"/>
          <p:cNvGrpSpPr/>
          <p:nvPr/>
        </p:nvGrpSpPr>
        <p:grpSpPr>
          <a:xfrm>
            <a:off x="3505320" y="4140360"/>
            <a:ext cx="2189880" cy="1106280"/>
            <a:chOff x="3505320" y="4140360"/>
            <a:chExt cx="2189880" cy="1106280"/>
          </a:xfrm>
        </p:grpSpPr>
        <p:sp>
          <p:nvSpPr>
            <p:cNvPr id="225" name="Line 7"/>
            <p:cNvSpPr/>
            <p:nvPr/>
          </p:nvSpPr>
          <p:spPr>
            <a:xfrm>
              <a:off x="350532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373212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395928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418608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441324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464040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486720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4877280" y="457200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E-field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3" name="Group 45"/>
          <p:cNvGrpSpPr/>
          <p:nvPr/>
        </p:nvGrpSpPr>
        <p:grpSpPr>
          <a:xfrm>
            <a:off x="3352680" y="3809880"/>
            <a:ext cx="2959920" cy="2044800"/>
            <a:chOff x="3352680" y="3809880"/>
            <a:chExt cx="2959920" cy="2044800"/>
          </a:xfrm>
        </p:grpSpPr>
        <p:sp>
          <p:nvSpPr>
            <p:cNvPr id="234" name="Line 5"/>
            <p:cNvSpPr/>
            <p:nvPr/>
          </p:nvSpPr>
          <p:spPr>
            <a:xfrm>
              <a:off x="3352680" y="4114800"/>
              <a:ext cx="1600200" cy="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352680" y="5257800"/>
              <a:ext cx="1600200" cy="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Text Box 38"/>
            <p:cNvSpPr/>
            <p:nvPr/>
          </p:nvSpPr>
          <p:spPr>
            <a:xfrm>
              <a:off x="5028480" y="548640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metal plates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Text Box 39"/>
            <p:cNvSpPr/>
            <p:nvPr/>
          </p:nvSpPr>
          <p:spPr>
            <a:xfrm>
              <a:off x="3408480" y="5181480"/>
              <a:ext cx="15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-   -   -   -   -   -   -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Text Box 40"/>
            <p:cNvSpPr/>
            <p:nvPr/>
          </p:nvSpPr>
          <p:spPr>
            <a:xfrm>
              <a:off x="3405960" y="380988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  +  +  +  +  +  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" name="Line 42"/>
            <p:cNvSpPr/>
            <p:nvPr/>
          </p:nvSpPr>
          <p:spPr>
            <a:xfrm flipH="1" flipV="1">
              <a:off x="4952880" y="5333760"/>
              <a:ext cx="152640" cy="228600"/>
            </a:xfrm>
            <a:prstGeom prst="line">
              <a:avLst/>
            </a:prstGeom>
            <a:ln w="12600">
              <a:solidFill>
                <a:srgbClr val="66ff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0" name="Group 53"/>
          <p:cNvGrpSpPr/>
          <p:nvPr/>
        </p:nvGrpSpPr>
        <p:grpSpPr>
          <a:xfrm>
            <a:off x="1752120" y="2784600"/>
            <a:ext cx="6207480" cy="3879360"/>
            <a:chOff x="1752120" y="2784600"/>
            <a:chExt cx="6207480" cy="3879360"/>
          </a:xfrm>
        </p:grpSpPr>
        <p:sp>
          <p:nvSpPr>
            <p:cNvPr id="241" name="Oval 14"/>
            <p:cNvSpPr/>
            <p:nvPr/>
          </p:nvSpPr>
          <p:spPr>
            <a:xfrm>
              <a:off x="25891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2" name="Oval 15"/>
            <p:cNvSpPr/>
            <p:nvPr/>
          </p:nvSpPr>
          <p:spPr>
            <a:xfrm>
              <a:off x="28177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" name="Oval 16"/>
            <p:cNvSpPr/>
            <p:nvPr/>
          </p:nvSpPr>
          <p:spPr>
            <a:xfrm>
              <a:off x="30463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32749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" name="Oval 18"/>
            <p:cNvSpPr/>
            <p:nvPr/>
          </p:nvSpPr>
          <p:spPr>
            <a:xfrm>
              <a:off x="3503520" y="460692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" name="Oval 19"/>
            <p:cNvSpPr/>
            <p:nvPr/>
          </p:nvSpPr>
          <p:spPr>
            <a:xfrm>
              <a:off x="3732120" y="457848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3960720" y="4533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4189320" y="446868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4417920" y="43862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" name="Oval 23"/>
            <p:cNvSpPr/>
            <p:nvPr/>
          </p:nvSpPr>
          <p:spPr>
            <a:xfrm>
              <a:off x="4646520" y="428616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4875120" y="41673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Oval 25"/>
            <p:cNvSpPr/>
            <p:nvPr/>
          </p:nvSpPr>
          <p:spPr>
            <a:xfrm>
              <a:off x="5103720" y="402120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" name="Oval 26"/>
            <p:cNvSpPr/>
            <p:nvPr/>
          </p:nvSpPr>
          <p:spPr>
            <a:xfrm>
              <a:off x="5332320" y="38847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" name="Oval 27"/>
            <p:cNvSpPr/>
            <p:nvPr/>
          </p:nvSpPr>
          <p:spPr>
            <a:xfrm>
              <a:off x="5560920" y="374652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" name="Oval 28"/>
            <p:cNvSpPr/>
            <p:nvPr/>
          </p:nvSpPr>
          <p:spPr>
            <a:xfrm>
              <a:off x="5789520" y="361008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" name="Oval 29"/>
            <p:cNvSpPr/>
            <p:nvPr/>
          </p:nvSpPr>
          <p:spPr>
            <a:xfrm>
              <a:off x="6018120" y="347328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" name="Oval 30"/>
            <p:cNvSpPr/>
            <p:nvPr/>
          </p:nvSpPr>
          <p:spPr>
            <a:xfrm>
              <a:off x="6246720" y="333540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" name="Text Box 36"/>
            <p:cNvSpPr/>
            <p:nvPr/>
          </p:nvSpPr>
          <p:spPr>
            <a:xfrm>
              <a:off x="1752120" y="502920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Times New Roman"/>
                </a:rPr>
                <a:t>electron beam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" name="Line 41"/>
            <p:cNvSpPr/>
            <p:nvPr/>
          </p:nvSpPr>
          <p:spPr>
            <a:xfrm flipV="1">
              <a:off x="2590920" y="4723920"/>
              <a:ext cx="304560" cy="3812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" name="Arc 33"/>
            <p:cNvSpPr/>
            <p:nvPr/>
          </p:nvSpPr>
          <p:spPr>
            <a:xfrm rot="2680200">
              <a:off x="4648320" y="3352680"/>
              <a:ext cx="2743200" cy="274320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Text Box 43"/>
            <p:cNvSpPr/>
            <p:nvPr/>
          </p:nvSpPr>
          <p:spPr>
            <a:xfrm>
              <a:off x="6614640" y="33908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Times New Roman"/>
                </a:rPr>
                <a:t>screen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AutoShape 49"/>
            <p:cNvSpPr/>
            <p:nvPr/>
          </p:nvSpPr>
          <p:spPr>
            <a:xfrm>
              <a:off x="6324480" y="3124080"/>
              <a:ext cx="228600" cy="30492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1141920" y="4038480"/>
            <a:ext cx="1602720" cy="811440"/>
            <a:chOff x="1141920" y="4038480"/>
            <a:chExt cx="1602720" cy="811440"/>
          </a:xfrm>
        </p:grpSpPr>
        <p:grpSp>
          <p:nvGrpSpPr>
            <p:cNvPr id="264" name="Group 44"/>
            <p:cNvGrpSpPr/>
            <p:nvPr/>
          </p:nvGrpSpPr>
          <p:grpSpPr>
            <a:xfrm>
              <a:off x="1141920" y="4038480"/>
              <a:ext cx="1602720" cy="811440"/>
              <a:chOff x="1141920" y="4038480"/>
              <a:chExt cx="1602720" cy="811440"/>
            </a:xfrm>
          </p:grpSpPr>
          <p:sp>
            <p:nvSpPr>
              <p:cNvPr id="265" name="Freeform 4"/>
              <p:cNvSpPr/>
              <p:nvPr/>
            </p:nvSpPr>
            <p:spPr>
              <a:xfrm>
                <a:off x="1828800" y="446868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432" h="240">
                    <a:moveTo>
                      <a:pt x="432" y="96"/>
                    </a:moveTo>
                    <a:lnTo>
                      <a:pt x="432" y="0"/>
                    </a:lnTo>
                    <a:lnTo>
                      <a:pt x="0" y="0"/>
                    </a:lnTo>
                    <a:lnTo>
                      <a:pt x="0" y="240"/>
                    </a:lnTo>
                    <a:lnTo>
                      <a:pt x="432" y="240"/>
                    </a:lnTo>
                    <a:lnTo>
                      <a:pt x="432" y="14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6" name="Text Box 37"/>
              <p:cNvSpPr/>
              <p:nvPr/>
            </p:nvSpPr>
            <p:spPr>
              <a:xfrm>
                <a:off x="1141920" y="40384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80"/>
                    </a:solidFill>
                    <a:latin typeface="Times New Roman"/>
                  </a:rPr>
                  <a:t>cathode emitter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Freeform 51"/>
            <p:cNvSpPr/>
            <p:nvPr/>
          </p:nvSpPr>
          <p:spPr>
            <a:xfrm>
              <a:off x="1981080" y="4459320"/>
              <a:ext cx="533520" cy="3808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36" h="240">
                  <a:moveTo>
                    <a:pt x="336" y="144"/>
                  </a:moveTo>
                  <a:lnTo>
                    <a:pt x="336" y="240"/>
                  </a:lnTo>
                  <a:lnTo>
                    <a:pt x="0" y="24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96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E29A-C648-4EDC-9008-1D57F87FA79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Assignment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ed readings from Hewitt Chaps. 23, 24, 25, 26 (specific pages listed on assignments pag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W 6 due 5/23: 22.E.1, 22.E.5, 22.E.11, 22.E.16, 22.E.20, 22.E.30, 22.E.33, 22.P.1, 23.E.3, 26.E.7, 26.E.9, 26.E.1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10D3-CC3F-4B6D-881A-35CE658B7B33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Charg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call that fundamental particles carry something called electric 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rot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have exactly one uni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have exactly one unit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magnetic force is one of the basic interactions in na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ke charges experience repulsive forc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pposite charges attracted to each other (like gravit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al current is flow of charge (electrons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F4FB-D155-46E9-922D-BAD3F142AB8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arge Balan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eutral atoms are made of equal quantities of positive and negativ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utral carbon ha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 prot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 electr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(&amp; neutrons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s can be stripped off of ato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ectrons occupy the vulnerable outskirts of ato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sually charge flows in such a way as to maintain neutral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cess positive charge attracts excess negative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Your body has 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positive charges and 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negative charges, balanced within millions or billi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ECA3-F5C7-4AE0-8A91-D40074E4D515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arge Separation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 separate charges by rubbing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et on carpe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tmosphere across groun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lk on gla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lloon on hair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sulators keep charges where they are (no flow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ductors distribute charge equally on surfa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rge is free to “move about the cabin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hy do the charges collect on the surface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21E-FA25-4776-99F3-4ED469AB6201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Induced Charg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rge can also be coaxed to redistribute itself within an obje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Oval 4"/>
          <p:cNvSpPr/>
          <p:nvPr/>
        </p:nvSpPr>
        <p:spPr>
          <a:xfrm>
            <a:off x="1066680" y="3200400"/>
            <a:ext cx="2590920" cy="259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1" name="Group 36"/>
          <p:cNvGrpSpPr/>
          <p:nvPr/>
        </p:nvGrpSpPr>
        <p:grpSpPr>
          <a:xfrm>
            <a:off x="4572000" y="2743200"/>
            <a:ext cx="2895480" cy="1632600"/>
            <a:chOff x="4572000" y="2743200"/>
            <a:chExt cx="2895480" cy="1632600"/>
          </a:xfrm>
        </p:grpSpPr>
        <p:sp>
          <p:nvSpPr>
            <p:cNvPr id="72" name="Freeform 7"/>
            <p:cNvSpPr/>
            <p:nvPr/>
          </p:nvSpPr>
          <p:spPr>
            <a:xfrm>
              <a:off x="4572000" y="2743200"/>
              <a:ext cx="2895480" cy="16002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824" h="1008">
                  <a:moveTo>
                    <a:pt x="1680" y="0"/>
                  </a:moveTo>
                  <a:lnTo>
                    <a:pt x="144" y="576"/>
                  </a:lnTo>
                  <a:lnTo>
                    <a:pt x="48" y="640"/>
                  </a:lnTo>
                  <a:lnTo>
                    <a:pt x="0" y="720"/>
                  </a:lnTo>
                  <a:lnTo>
                    <a:pt x="0" y="864"/>
                  </a:lnTo>
                  <a:lnTo>
                    <a:pt x="48" y="960"/>
                  </a:lnTo>
                  <a:lnTo>
                    <a:pt x="144" y="1008"/>
                  </a:lnTo>
                  <a:lnTo>
                    <a:pt x="240" y="1008"/>
                  </a:lnTo>
                  <a:lnTo>
                    <a:pt x="1824" y="384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" name="Text Box 10"/>
            <p:cNvSpPr/>
            <p:nvPr/>
          </p:nvSpPr>
          <p:spPr>
            <a:xfrm>
              <a:off x="4573440" y="3854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106600" y="393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" name="Text Box 18"/>
            <p:cNvSpPr/>
            <p:nvPr/>
          </p:nvSpPr>
          <p:spPr>
            <a:xfrm>
              <a:off x="525924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" name="Text Box 19"/>
            <p:cNvSpPr/>
            <p:nvPr/>
          </p:nvSpPr>
          <p:spPr>
            <a:xfrm>
              <a:off x="541152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" name="Text Box 20"/>
            <p:cNvSpPr/>
            <p:nvPr/>
          </p:nvSpPr>
          <p:spPr>
            <a:xfrm>
              <a:off x="5335200" y="3352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5563800" y="3625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5792400" y="3352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" name="Text Box 23"/>
            <p:cNvSpPr/>
            <p:nvPr/>
          </p:nvSpPr>
          <p:spPr>
            <a:xfrm>
              <a:off x="600516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" name="Text Box 24"/>
            <p:cNvSpPr/>
            <p:nvPr/>
          </p:nvSpPr>
          <p:spPr>
            <a:xfrm>
              <a:off x="4878000" y="3886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" name="Text Box 25"/>
            <p:cNvSpPr/>
            <p:nvPr/>
          </p:nvSpPr>
          <p:spPr>
            <a:xfrm>
              <a:off x="5030640" y="3701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Text Box 26"/>
            <p:cNvSpPr/>
            <p:nvPr/>
          </p:nvSpPr>
          <p:spPr>
            <a:xfrm>
              <a:off x="495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Text Box 27"/>
            <p:cNvSpPr/>
            <p:nvPr/>
          </p:nvSpPr>
          <p:spPr>
            <a:xfrm>
              <a:off x="4649400" y="4038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4573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480204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87" name="Group 37"/>
          <p:cNvGrpSpPr/>
          <p:nvPr/>
        </p:nvGrpSpPr>
        <p:grpSpPr>
          <a:xfrm>
            <a:off x="1010880" y="3581280"/>
            <a:ext cx="2644920" cy="2090160"/>
            <a:chOff x="1010880" y="3581280"/>
            <a:chExt cx="2644920" cy="2090160"/>
          </a:xfrm>
        </p:grpSpPr>
        <p:sp>
          <p:nvSpPr>
            <p:cNvPr id="88" name="Text Box 9"/>
            <p:cNvSpPr/>
            <p:nvPr/>
          </p:nvSpPr>
          <p:spPr>
            <a:xfrm>
              <a:off x="3354120" y="4038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1068120" y="4191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1601640" y="5334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1373040" y="5181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12204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087200" y="4724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101088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Text Box 30"/>
            <p:cNvSpPr/>
            <p:nvPr/>
          </p:nvSpPr>
          <p:spPr>
            <a:xfrm>
              <a:off x="3278160" y="4844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3354120" y="4616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3360600" y="43434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3208320" y="3778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3049560" y="3581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5540760" y="4129200"/>
            <a:ext cx="33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d rod approaches sphe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3484080" y="519588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charge attracted to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charge in ro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757800" y="5791320"/>
            <a:ext cx="26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ge repelled by ro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3" name="Group 44"/>
          <p:cNvGrpSpPr/>
          <p:nvPr/>
        </p:nvGrpSpPr>
        <p:grpSpPr>
          <a:xfrm>
            <a:off x="3046680" y="2743200"/>
            <a:ext cx="2463840" cy="1676520"/>
            <a:chOff x="3046680" y="2743200"/>
            <a:chExt cx="2463840" cy="1676520"/>
          </a:xfrm>
        </p:grpSpPr>
        <p:grpSp>
          <p:nvGrpSpPr>
            <p:cNvPr id="104" name="Group 42"/>
            <p:cNvGrpSpPr/>
            <p:nvPr/>
          </p:nvGrpSpPr>
          <p:grpSpPr>
            <a:xfrm>
              <a:off x="3657600" y="4114800"/>
              <a:ext cx="914400" cy="304920"/>
              <a:chOff x="3657600" y="4114800"/>
              <a:chExt cx="914400" cy="304920"/>
            </a:xfrm>
          </p:grpSpPr>
          <p:sp>
            <p:nvSpPr>
              <p:cNvPr id="105" name="Line 40"/>
              <p:cNvSpPr/>
              <p:nvPr/>
            </p:nvSpPr>
            <p:spPr>
              <a:xfrm flipH="1">
                <a:off x="4191120" y="4114800"/>
                <a:ext cx="38088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" name="Line 41"/>
              <p:cNvSpPr/>
              <p:nvPr/>
            </p:nvSpPr>
            <p:spPr>
              <a:xfrm flipV="1">
                <a:off x="3657600" y="4267080"/>
                <a:ext cx="38088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 Box 43"/>
            <p:cNvSpPr/>
            <p:nvPr/>
          </p:nvSpPr>
          <p:spPr>
            <a:xfrm>
              <a:off x="3046680" y="274320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Times New Roman"/>
                </a:rPr>
                <a:t>Result: Attraction!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12D1-193F-4D10-8185-7E51062210E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tatic Electricit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bbing action redistributes charge (unbalanced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f enough charge builds up, we get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is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ir spark is actually due to “breakdown” of ai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utral air molecules separate into ions (electrons are stripped awa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urrent can then flow through the “plasma-field” ai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essence, air becomes a “wire” for a short b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s happens at 3 million volts per met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cm spark then at 30,000 volt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ypical finger-spark may involve a few billion electr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old onto key to reduce pain of spark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6629400" y="609480"/>
            <a:ext cx="533520" cy="685800"/>
          </a:xfrm>
          <a:prstGeom prst="lightningBolt">
            <a:avLst/>
          </a:prstGeom>
          <a:solidFill>
            <a:srgbClr val="fb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828800" y="685800"/>
            <a:ext cx="533520" cy="685800"/>
          </a:xfrm>
          <a:prstGeom prst="lightningBolt">
            <a:avLst/>
          </a:prstGeom>
          <a:solidFill>
            <a:srgbClr val="fb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4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DF41-8332-4093-9944-91832F79D35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Lightning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80920" y="1447920"/>
            <a:ext cx="54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ghtning is an unbelievably huge dis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ouds get charged through air fri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 kilometer strike means 3 billion volts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ain path forms temporary “wire” along which charge equaliz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ften bounces a few times before equ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under is bang produced by the extreme pressure variations induced by the formation and collapse of the plasma condu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stormchasing.nl/lightning.htm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Picture 5" descr="lightning"/>
          <p:cNvPicPr/>
          <p:nvPr/>
        </p:nvPicPr>
        <p:blipFill>
          <a:blip r:embed="rId2"/>
          <a:stretch/>
        </p:blipFill>
        <p:spPr>
          <a:xfrm>
            <a:off x="228600" y="1447920"/>
            <a:ext cx="325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E6E1-18C5-4ACB-9FE5-2429546A8E1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Lightning Rod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form two func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vide safe conduit for lightning away from hou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ffuse situation via “coronal discharge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3" name="Picture 4" descr="rod"/>
          <p:cNvPicPr/>
          <p:nvPr/>
        </p:nvPicPr>
        <p:blipFill>
          <a:blip r:embed="rId1"/>
          <a:stretch/>
        </p:blipFill>
        <p:spPr>
          <a:xfrm>
            <a:off x="1828800" y="2971800"/>
            <a:ext cx="2365200" cy="3532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552920" y="3138480"/>
            <a:ext cx="424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s are attracted to tip of rod, an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lectric field” is highly concentrate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re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s “leak” away, diffusing charg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 what is sometimes called “St. Elmo’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re”, or “coronal discharge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5F53-EECA-4711-98FA-807620FEB470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ostatic” For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wo charge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, separated by distanc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exert a force on each other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/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s a constant (9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s in Coulomb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n mete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unit of charge (proton) ha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1.6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oulomb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oks a lot like Newton’s gravitation in for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 and proton attract each other 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40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imes stronger electrically than gravitationally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ood thing charge is usually balanced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22:41:45Z</dcterms:created>
  <dc:creator>Tom Murphy</dc:creator>
  <dc:description/>
  <dc:language>en-US</dc:language>
  <cp:lastModifiedBy>Victoria Evans</cp:lastModifiedBy>
  <dcterms:modified xsi:type="dcterms:W3CDTF">2012-02-01T09:07:26Z</dcterms:modified>
  <cp:revision>48</cp:revision>
  <dc:subject/>
  <dc:title>PowerPoint Presentation</dc:title>
</cp:coreProperties>
</file>