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5FA0-118E-434F-8D66-D254C1D09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14840" cy="30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18148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CFF6-FFA8-4210-A731-C6441DEDC61E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C1B-48BF-4BF8-8BD2-B7B3A91AD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ADA-9E57-403C-97ED-02E13AD4A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13CF-2B61-4EDC-854E-E48D4AF5A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B8E9-A4EF-4B7E-A785-96310AB0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B93A-000F-4132-983D-50C9FA70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4A10-464E-437D-B10D-438DF20AC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AC51-F4C6-4264-BF9C-F0287B8A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FB01-9591-4A60-8D90-2BC6247D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4015-09F2-4474-908B-BD4335C8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D23-D2BE-46F5-890D-4DCE35C0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AA96-2E9B-4D68-A312-462C03FF1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38EF-B78E-48BC-9409-1F41FDD2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FBA6-76C9-4BFB-80D3-57B96058874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457200"/>
            <a:ext cx="8686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36440" y="144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UCS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467480" y="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hysics 1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ormchasing.nl/lightn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e Electric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B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Picture 4" descr="dipole"/>
          <p:cNvPicPr/>
          <p:nvPr/>
        </p:nvPicPr>
        <p:blipFill>
          <a:blip r:embed="rId1"/>
          <a:stretch/>
        </p:blipFill>
        <p:spPr>
          <a:xfrm>
            <a:off x="2590920" y="609480"/>
            <a:ext cx="394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544FC-7823-4930-A8D4-4B7C8C0D979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Law Illustrate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rep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n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ttra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523880" y="3657600"/>
            <a:ext cx="3429000" cy="380880"/>
            <a:chOff x="1523880" y="3657600"/>
            <a:chExt cx="3429000" cy="380880"/>
          </a:xfrm>
        </p:grpSpPr>
        <p:sp>
          <p:nvSpPr>
            <p:cNvPr id="134" name="Oval 5"/>
            <p:cNvSpPr/>
            <p:nvPr/>
          </p:nvSpPr>
          <p:spPr>
            <a:xfrm>
              <a:off x="1523880" y="36576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4572000" y="365760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190512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H="1">
              <a:off x="388584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837720" y="2590920"/>
            <a:ext cx="4800960" cy="380880"/>
            <a:chOff x="837720" y="2590920"/>
            <a:chExt cx="4800960" cy="380880"/>
          </a:xfrm>
        </p:grpSpPr>
        <p:sp>
          <p:nvSpPr>
            <p:cNvPr id="139" name="Oval 4"/>
            <p:cNvSpPr/>
            <p:nvPr/>
          </p:nvSpPr>
          <p:spPr>
            <a:xfrm>
              <a:off x="1523880" y="2590920"/>
              <a:ext cx="38124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4572000" y="259092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95288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 flipH="1">
              <a:off x="83772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3" name="Group 18"/>
          <p:cNvGrpSpPr/>
          <p:nvPr/>
        </p:nvGrpSpPr>
        <p:grpSpPr>
          <a:xfrm>
            <a:off x="1676520" y="2986200"/>
            <a:ext cx="3124080" cy="398880"/>
            <a:chOff x="1676520" y="2986200"/>
            <a:chExt cx="3124080" cy="398880"/>
          </a:xfrm>
        </p:grpSpPr>
        <p:sp>
          <p:nvSpPr>
            <p:cNvPr id="144" name="Line 14"/>
            <p:cNvSpPr/>
            <p:nvPr/>
          </p:nvSpPr>
          <p:spPr>
            <a:xfrm>
              <a:off x="1676520" y="3352680"/>
              <a:ext cx="31240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3109320" y="29862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46" name="Text Box 16"/>
          <p:cNvSpPr/>
          <p:nvPr/>
        </p:nvSpPr>
        <p:spPr>
          <a:xfrm>
            <a:off x="892440" y="499428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harges are of same magnitude (and same separation)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the forces will be the same magnitude, with differ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7" name="Group 33"/>
          <p:cNvGrpSpPr/>
          <p:nvPr/>
        </p:nvGrpSpPr>
        <p:grpSpPr>
          <a:xfrm>
            <a:off x="837720" y="4343400"/>
            <a:ext cx="4800960" cy="380880"/>
            <a:chOff x="837720" y="4343400"/>
            <a:chExt cx="4800960" cy="380880"/>
          </a:xfrm>
        </p:grpSpPr>
        <p:sp>
          <p:nvSpPr>
            <p:cNvPr id="148" name="Line 28"/>
            <p:cNvSpPr/>
            <p:nvPr/>
          </p:nvSpPr>
          <p:spPr>
            <a:xfrm>
              <a:off x="495288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 flipH="1">
              <a:off x="83772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Oval 30"/>
            <p:cNvSpPr/>
            <p:nvPr/>
          </p:nvSpPr>
          <p:spPr>
            <a:xfrm>
              <a:off x="4572000" y="4343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Oval 31"/>
            <p:cNvSpPr/>
            <p:nvPr/>
          </p:nvSpPr>
          <p:spPr>
            <a:xfrm>
              <a:off x="1523880" y="43434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B436F-11AE-437A-843B-1F8ECF30B27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Force Law, Qualitativel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doubl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changes dire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stays the sa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the distance between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weak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both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strong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F9A7-D03F-402A-A8BD-78CF6184FC9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orce a lot like Grav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ame 1/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dependence; charge takes place of mas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es this mean electricity is product of geometry, just like gravity (general relativity)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, because gravity as geometry accounts for the fact that all masses accelerate the sam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depends on applied force being proportional to inertial mass 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charged particles, force is proportional to charge, not inertial mas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eren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harge-to-mass ratio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lead to different accelera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ton has 1/2000 charge-to-mass of electr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proton sluggis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6A57-4D93-460B-8C57-3CE4F44834E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think of electric force as establishing “field” telling particles which way to move and how fa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152280" y="2556000"/>
            <a:ext cx="3810240" cy="3879360"/>
            <a:chOff x="152280" y="2556000"/>
            <a:chExt cx="3810240" cy="3879360"/>
          </a:xfrm>
        </p:grpSpPr>
        <p:grpSp>
          <p:nvGrpSpPr>
            <p:cNvPr id="165" name="Group 9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66" name="Line 4"/>
              <p:cNvSpPr/>
              <p:nvPr/>
            </p:nvSpPr>
            <p:spPr>
              <a:xfrm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 flipH="1" flipV="1">
                <a:off x="1294920" y="3733920"/>
                <a:ext cx="762120" cy="761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8" name="Line 7"/>
              <p:cNvSpPr/>
              <p:nvPr/>
            </p:nvSpPr>
            <p:spPr>
              <a:xfrm>
                <a:off x="2056680" y="449496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70" name="Line 11"/>
              <p:cNvSpPr/>
              <p:nvPr/>
            </p:nvSpPr>
            <p:spPr>
              <a:xfrm flipV="1"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H="1">
                <a:off x="1295640" y="4496040"/>
                <a:ext cx="76176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 flipV="1">
                <a:off x="2056680" y="373428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27"/>
            <p:cNvGrpSpPr/>
            <p:nvPr/>
          </p:nvGrpSpPr>
          <p:grpSpPr>
            <a:xfrm>
              <a:off x="2054880" y="2556000"/>
              <a:ext cx="2520" cy="3879360"/>
              <a:chOff x="2054880" y="2556000"/>
              <a:chExt cx="2520" cy="3879360"/>
            </a:xfrm>
          </p:grpSpPr>
          <p:sp>
            <p:nvSpPr>
              <p:cNvPr id="174" name="Line 24"/>
              <p:cNvSpPr/>
              <p:nvPr/>
            </p:nvSpPr>
            <p:spPr>
              <a:xfrm>
                <a:off x="2057400" y="2556000"/>
                <a:ext cx="0" cy="387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5" name="Line 25"/>
              <p:cNvSpPr/>
              <p:nvPr/>
            </p:nvSpPr>
            <p:spPr>
              <a:xfrm flipV="1">
                <a:off x="2054880" y="3417120"/>
                <a:ext cx="360" cy="1077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>
                <a:off x="2055600" y="4494600"/>
                <a:ext cx="0" cy="1077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28"/>
            <p:cNvSpPr/>
            <p:nvPr/>
          </p:nvSpPr>
          <p:spPr>
            <a:xfrm>
              <a:off x="205740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H="1">
              <a:off x="99036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52280" y="4495680"/>
              <a:ext cx="38102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0" name="Oval 31"/>
          <p:cNvSpPr/>
          <p:nvPr/>
        </p:nvSpPr>
        <p:spPr>
          <a:xfrm>
            <a:off x="1905120" y="4343400"/>
            <a:ext cx="304560" cy="304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4043880" y="2057400"/>
            <a:ext cx="510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ic “field lines” tell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which way to mov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example, a positive charge itsel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as field lines pointing away from it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cause this is how a positively-charg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st-particle” would respond if plac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the vicinity (repulsive force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505320" y="59436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3733920" y="5486400"/>
            <a:ext cx="1600200" cy="380880"/>
          </a:xfrm>
          <a:prstGeom prst="wedgeEllipseCallout">
            <a:avLst>
              <a:gd name="adj1" fmla="val -44643"/>
              <a:gd name="adj2" fmla="val 70000"/>
            </a:avLst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Run Away!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2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8E45-BEFE-4A45-A64B-E768C04D284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xample Electric Fields Around Charge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87" name="Picture 3" descr="dipole_field"/>
          <p:cNvPicPr/>
          <p:nvPr/>
        </p:nvPicPr>
        <p:blipFill>
          <a:blip r:embed="rId1"/>
          <a:stretch/>
        </p:blipFill>
        <p:spPr>
          <a:xfrm>
            <a:off x="2286000" y="1295280"/>
            <a:ext cx="45813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5E662-EFA1-46BE-8BA9-4F32A5EC44B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s in Circui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int away from positive terminal, towards nega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neled by conductor (wir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flow opposite field lines (neg. char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2" name="Picture 4" descr="battery"/>
          <p:cNvPicPr/>
          <p:nvPr/>
        </p:nvPicPr>
        <p:blipFill>
          <a:blip r:embed="rId1"/>
          <a:stretch/>
        </p:blipFill>
        <p:spPr>
          <a:xfrm>
            <a:off x="914400" y="3733920"/>
            <a:ext cx="852480" cy="177948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5"/>
          <p:cNvSpPr/>
          <p:nvPr/>
        </p:nvSpPr>
        <p:spPr>
          <a:xfrm>
            <a:off x="1523880" y="3352680"/>
            <a:ext cx="2590920" cy="24386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1632" h="1536">
                <a:moveTo>
                  <a:pt x="0" y="1344"/>
                </a:moveTo>
                <a:lnTo>
                  <a:pt x="0" y="1536"/>
                </a:lnTo>
                <a:lnTo>
                  <a:pt x="1632" y="1536"/>
                </a:lnTo>
                <a:lnTo>
                  <a:pt x="1632" y="144"/>
                </a:lnTo>
                <a:lnTo>
                  <a:pt x="1632" y="0"/>
                </a:ln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1219320" y="3048120"/>
            <a:ext cx="3200400" cy="3047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3047760"/>
              <a:gd name="textAreaBottom" fmla="*/ 3048120 h 3047760"/>
            </a:gdLst>
            <a:ahLst/>
            <a:rect l="textAreaLeft" t="textAreaTop" r="textAreaRight" b="textAreaBottom"/>
            <a:pathLst>
              <a:path w="2016" h="1920">
                <a:moveTo>
                  <a:pt x="0" y="1536"/>
                </a:moveTo>
                <a:lnTo>
                  <a:pt x="0" y="1920"/>
                </a:lnTo>
                <a:lnTo>
                  <a:pt x="2016" y="1920"/>
                </a:lnTo>
                <a:lnTo>
                  <a:pt x="2016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2819520" y="32004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1905120" y="59436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267080" y="4267080"/>
            <a:ext cx="0" cy="76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516040" y="3048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116240" y="3962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2668320" y="5791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3352680" y="5943600"/>
            <a:ext cx="381240" cy="75960"/>
            <a:chOff x="3352680" y="5943600"/>
            <a:chExt cx="381240" cy="75960"/>
          </a:xfrm>
        </p:grpSpPr>
        <p:sp>
          <p:nvSpPr>
            <p:cNvPr id="202" name="Oval 14"/>
            <p:cNvSpPr/>
            <p:nvPr/>
          </p:nvSpPr>
          <p:spPr>
            <a:xfrm>
              <a:off x="3352680" y="594360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429000" y="59832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4876920" y="3429000"/>
            <a:ext cx="380520" cy="75960"/>
            <a:chOff x="4876920" y="3429000"/>
            <a:chExt cx="380520" cy="75960"/>
          </a:xfrm>
        </p:grpSpPr>
        <p:sp>
          <p:nvSpPr>
            <p:cNvPr id="205" name="Oval 18"/>
            <p:cNvSpPr/>
            <p:nvPr/>
          </p:nvSpPr>
          <p:spPr>
            <a:xfrm>
              <a:off x="4876920" y="342900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952880" y="346860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7" name="Group 20"/>
          <p:cNvGrpSpPr/>
          <p:nvPr/>
        </p:nvGrpSpPr>
        <p:grpSpPr>
          <a:xfrm>
            <a:off x="4267080" y="5334480"/>
            <a:ext cx="75960" cy="380520"/>
            <a:chOff x="4267080" y="5334480"/>
            <a:chExt cx="75960" cy="380520"/>
          </a:xfrm>
        </p:grpSpPr>
        <p:sp>
          <p:nvSpPr>
            <p:cNvPr id="208" name="Oval 21"/>
            <p:cNvSpPr/>
            <p:nvPr/>
          </p:nvSpPr>
          <p:spPr>
            <a:xfrm rot="16200000">
              <a:off x="4267080" y="56390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Line 22"/>
            <p:cNvSpPr/>
            <p:nvPr/>
          </p:nvSpPr>
          <p:spPr>
            <a:xfrm flipV="1">
              <a:off x="4306680" y="53344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1600560" y="3124080"/>
            <a:ext cx="380520" cy="75960"/>
            <a:chOff x="1600560" y="3124080"/>
            <a:chExt cx="380520" cy="75960"/>
          </a:xfrm>
        </p:grpSpPr>
        <p:sp>
          <p:nvSpPr>
            <p:cNvPr id="211" name="Oval 24"/>
            <p:cNvSpPr/>
            <p:nvPr/>
          </p:nvSpPr>
          <p:spPr>
            <a:xfrm flipH="1">
              <a:off x="1904760" y="31240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 flipH="1">
              <a:off x="1600560" y="316368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3" name="Group 26"/>
          <p:cNvGrpSpPr/>
          <p:nvPr/>
        </p:nvGrpSpPr>
        <p:grpSpPr>
          <a:xfrm>
            <a:off x="4267080" y="3200760"/>
            <a:ext cx="75960" cy="380520"/>
            <a:chOff x="4267080" y="3200760"/>
            <a:chExt cx="75960" cy="380520"/>
          </a:xfrm>
        </p:grpSpPr>
        <p:sp>
          <p:nvSpPr>
            <p:cNvPr id="214" name="Oval 27"/>
            <p:cNvSpPr/>
            <p:nvPr/>
          </p:nvSpPr>
          <p:spPr>
            <a:xfrm rot="16200000">
              <a:off x="4267080" y="3505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Line 28"/>
            <p:cNvSpPr/>
            <p:nvPr/>
          </p:nvSpPr>
          <p:spPr>
            <a:xfrm flipV="1">
              <a:off x="4306680" y="320076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6" name="Text Box 29"/>
          <p:cNvSpPr/>
          <p:nvPr/>
        </p:nvSpPr>
        <p:spPr>
          <a:xfrm>
            <a:off x="5313960" y="329076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lectrons &amp; direction of mo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181480" y="3994200"/>
            <a:ext cx="7621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48783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6019560" y="38098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lectric field direc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0B18D-400E-4F9B-9932-C2DD3ECEE2C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n Beams; Cathode Ray Tubes (CRTs)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elevisions, Oscilloscopes, Monitors, etc. use an electron beam steered by electric fields to light up the (phosphorescent) screen at specified poin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24" name="Group 46"/>
          <p:cNvGrpSpPr/>
          <p:nvPr/>
        </p:nvGrpSpPr>
        <p:grpSpPr>
          <a:xfrm>
            <a:off x="3505320" y="4140360"/>
            <a:ext cx="2189880" cy="1106280"/>
            <a:chOff x="3505320" y="4140360"/>
            <a:chExt cx="2189880" cy="1106280"/>
          </a:xfrm>
        </p:grpSpPr>
        <p:sp>
          <p:nvSpPr>
            <p:cNvPr id="225" name="Line 7"/>
            <p:cNvSpPr/>
            <p:nvPr/>
          </p:nvSpPr>
          <p:spPr>
            <a:xfrm>
              <a:off x="35053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37321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39592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41860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441324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46404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48672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4877280" y="45720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E-field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3" name="Group 45"/>
          <p:cNvGrpSpPr/>
          <p:nvPr/>
        </p:nvGrpSpPr>
        <p:grpSpPr>
          <a:xfrm>
            <a:off x="3352680" y="3809880"/>
            <a:ext cx="2959920" cy="2044800"/>
            <a:chOff x="3352680" y="3809880"/>
            <a:chExt cx="2959920" cy="2044800"/>
          </a:xfrm>
        </p:grpSpPr>
        <p:sp>
          <p:nvSpPr>
            <p:cNvPr id="234" name="Line 5"/>
            <p:cNvSpPr/>
            <p:nvPr/>
          </p:nvSpPr>
          <p:spPr>
            <a:xfrm>
              <a:off x="3352680" y="4114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352680" y="5257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Text Box 38"/>
            <p:cNvSpPr/>
            <p:nvPr/>
          </p:nvSpPr>
          <p:spPr>
            <a:xfrm>
              <a:off x="5028480" y="54864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metal plate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Text Box 39"/>
            <p:cNvSpPr/>
            <p:nvPr/>
          </p:nvSpPr>
          <p:spPr>
            <a:xfrm>
              <a:off x="3408480" y="5181480"/>
              <a:ext cx="15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-   -   -   -   -   -   -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Text Box 40"/>
            <p:cNvSpPr/>
            <p:nvPr/>
          </p:nvSpPr>
          <p:spPr>
            <a:xfrm>
              <a:off x="3405960" y="380988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  +  +  +  +  +  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Line 42"/>
            <p:cNvSpPr/>
            <p:nvPr/>
          </p:nvSpPr>
          <p:spPr>
            <a:xfrm flipH="1" flipV="1">
              <a:off x="4952880" y="5333760"/>
              <a:ext cx="152640" cy="228600"/>
            </a:xfrm>
            <a:prstGeom prst="line">
              <a:avLst/>
            </a:prstGeom>
            <a:ln w="12600">
              <a:solidFill>
                <a:srgbClr val="66ff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0" name="Group 53"/>
          <p:cNvGrpSpPr/>
          <p:nvPr/>
        </p:nvGrpSpPr>
        <p:grpSpPr>
          <a:xfrm>
            <a:off x="1752120" y="2784600"/>
            <a:ext cx="6207480" cy="3879360"/>
            <a:chOff x="1752120" y="2784600"/>
            <a:chExt cx="6207480" cy="3879360"/>
          </a:xfrm>
        </p:grpSpPr>
        <p:sp>
          <p:nvSpPr>
            <p:cNvPr id="241" name="Oval 14"/>
            <p:cNvSpPr/>
            <p:nvPr/>
          </p:nvSpPr>
          <p:spPr>
            <a:xfrm>
              <a:off x="25891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28177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30463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32749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Oval 18"/>
            <p:cNvSpPr/>
            <p:nvPr/>
          </p:nvSpPr>
          <p:spPr>
            <a:xfrm>
              <a:off x="3503520" y="46069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Oval 19"/>
            <p:cNvSpPr/>
            <p:nvPr/>
          </p:nvSpPr>
          <p:spPr>
            <a:xfrm>
              <a:off x="3732120" y="45784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3960720" y="4533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4189320" y="44686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4417920" y="43862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Oval 23"/>
            <p:cNvSpPr/>
            <p:nvPr/>
          </p:nvSpPr>
          <p:spPr>
            <a:xfrm>
              <a:off x="4646520" y="428616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4875120" y="41673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>
              <a:off x="5103720" y="40212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Oval 26"/>
            <p:cNvSpPr/>
            <p:nvPr/>
          </p:nvSpPr>
          <p:spPr>
            <a:xfrm>
              <a:off x="5332320" y="38847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Oval 27"/>
            <p:cNvSpPr/>
            <p:nvPr/>
          </p:nvSpPr>
          <p:spPr>
            <a:xfrm>
              <a:off x="5560920" y="37465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Oval 28"/>
            <p:cNvSpPr/>
            <p:nvPr/>
          </p:nvSpPr>
          <p:spPr>
            <a:xfrm>
              <a:off x="5789520" y="36100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Oval 29"/>
            <p:cNvSpPr/>
            <p:nvPr/>
          </p:nvSpPr>
          <p:spPr>
            <a:xfrm>
              <a:off x="6018120" y="34732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6246720" y="33354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Text Box 36"/>
            <p:cNvSpPr/>
            <p:nvPr/>
          </p:nvSpPr>
          <p:spPr>
            <a:xfrm>
              <a:off x="1752120" y="50292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Times New Roman"/>
                </a:rPr>
                <a:t>electron beam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Line 41"/>
            <p:cNvSpPr/>
            <p:nvPr/>
          </p:nvSpPr>
          <p:spPr>
            <a:xfrm flipV="1">
              <a:off x="2590920" y="4723920"/>
              <a:ext cx="304560" cy="3812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Arc 33"/>
            <p:cNvSpPr/>
            <p:nvPr/>
          </p:nvSpPr>
          <p:spPr>
            <a:xfrm rot="2680200">
              <a:off x="4648320" y="3352680"/>
              <a:ext cx="2743200" cy="274320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Text Box 43"/>
            <p:cNvSpPr/>
            <p:nvPr/>
          </p:nvSpPr>
          <p:spPr>
            <a:xfrm>
              <a:off x="6614640" y="33908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Times New Roman"/>
                </a:rPr>
                <a:t>screen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AutoShape 49"/>
            <p:cNvSpPr/>
            <p:nvPr/>
          </p:nvSpPr>
          <p:spPr>
            <a:xfrm>
              <a:off x="6324480" y="3124080"/>
              <a:ext cx="228600" cy="30492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1141920" y="4038480"/>
            <a:ext cx="1602720" cy="811440"/>
            <a:chOff x="1141920" y="4038480"/>
            <a:chExt cx="1602720" cy="811440"/>
          </a:xfrm>
        </p:grpSpPr>
        <p:grpSp>
          <p:nvGrpSpPr>
            <p:cNvPr id="264" name="Group 44"/>
            <p:cNvGrpSpPr/>
            <p:nvPr/>
          </p:nvGrpSpPr>
          <p:grpSpPr>
            <a:xfrm>
              <a:off x="1141920" y="4038480"/>
              <a:ext cx="1602720" cy="811440"/>
              <a:chOff x="1141920" y="4038480"/>
              <a:chExt cx="1602720" cy="811440"/>
            </a:xfrm>
          </p:grpSpPr>
          <p:sp>
            <p:nvSpPr>
              <p:cNvPr id="265" name="Freeform 4"/>
              <p:cNvSpPr/>
              <p:nvPr/>
            </p:nvSpPr>
            <p:spPr>
              <a:xfrm>
                <a:off x="1828800" y="446868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432" h="240">
                    <a:moveTo>
                      <a:pt x="432" y="96"/>
                    </a:moveTo>
                    <a:lnTo>
                      <a:pt x="432" y="0"/>
                    </a:lnTo>
                    <a:lnTo>
                      <a:pt x="0" y="0"/>
                    </a:lnTo>
                    <a:lnTo>
                      <a:pt x="0" y="240"/>
                    </a:lnTo>
                    <a:lnTo>
                      <a:pt x="432" y="240"/>
                    </a:lnTo>
                    <a:lnTo>
                      <a:pt x="432" y="14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6" name="Text Box 37"/>
              <p:cNvSpPr/>
              <p:nvPr/>
            </p:nvSpPr>
            <p:spPr>
              <a:xfrm>
                <a:off x="1141920" y="40384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Times New Roman"/>
                  </a:rPr>
                  <a:t>cathode emitter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Freeform 51"/>
            <p:cNvSpPr/>
            <p:nvPr/>
          </p:nvSpPr>
          <p:spPr>
            <a:xfrm>
              <a:off x="1981080" y="4459320"/>
              <a:ext cx="533520" cy="3808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36" h="240">
                  <a:moveTo>
                    <a:pt x="336" y="144"/>
                  </a:moveTo>
                  <a:lnTo>
                    <a:pt x="336" y="240"/>
                  </a:lnTo>
                  <a:lnTo>
                    <a:pt x="0" y="24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9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4EE0-689C-490A-9912-07C5DCA0EE6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Assignmen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ed readings from Hewitt Chaps. 23, 24, 25, 26 (specific pages listed on assignments pa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W 6 due 5/23: 22.E.1, 22.E.5, 22.E.11, 22.E.16, 22.E.20, 22.E.30, 22.E.33, 22.P.1, 23.E.3, 26.E.7, 26.E.9, 26.E.1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323F9-0BB4-4F7E-8E8A-AD8BCF27725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call that fundamental particles carry something called 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magnetic force is one of the basic interactions in na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ke charges experience repulsive forc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pposite charges attracted to each other (like gravit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al current is flow of charge (electrons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0B13A-3FF2-4CF3-8FEC-35647440BBF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Balan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utral atoms are made of equal quantities of positive and negativ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carbon ha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 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(&amp; neutron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can be stripped off of ato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ons occupy the vulnerable outskirts of ato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sually charge flows in such a way as to maintain neutra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cess positive charge attracts excess negative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our body has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positive charges and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negative charges, balanced within millions or billi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FB85D-CDA7-4160-8071-D201C57660D0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Separation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separate charges by rubbing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et on carpe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tmosphere across grou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lk on gla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lloon on hair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ulators keep charges where they are (no flow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ductors distribute charge equally on surfa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is free to “move about the cabin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hy do the charges collect on the surface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57DC-DAB4-4BC7-ADBE-1859B1D3061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Induced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rge can also be coaxed to redistribute itself within an obje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Oval 4"/>
          <p:cNvSpPr/>
          <p:nvPr/>
        </p:nvSpPr>
        <p:spPr>
          <a:xfrm>
            <a:off x="1066680" y="3200400"/>
            <a:ext cx="259092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1" name="Group 36"/>
          <p:cNvGrpSpPr/>
          <p:nvPr/>
        </p:nvGrpSpPr>
        <p:grpSpPr>
          <a:xfrm>
            <a:off x="4572000" y="2743200"/>
            <a:ext cx="2895480" cy="1632600"/>
            <a:chOff x="4572000" y="2743200"/>
            <a:chExt cx="2895480" cy="1632600"/>
          </a:xfrm>
        </p:grpSpPr>
        <p:sp>
          <p:nvSpPr>
            <p:cNvPr id="72" name="Freeform 7"/>
            <p:cNvSpPr/>
            <p:nvPr/>
          </p:nvSpPr>
          <p:spPr>
            <a:xfrm>
              <a:off x="4572000" y="2743200"/>
              <a:ext cx="2895480" cy="16002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824" h="1008">
                  <a:moveTo>
                    <a:pt x="1680" y="0"/>
                  </a:moveTo>
                  <a:lnTo>
                    <a:pt x="144" y="576"/>
                  </a:lnTo>
                  <a:lnTo>
                    <a:pt x="48" y="640"/>
                  </a:lnTo>
                  <a:lnTo>
                    <a:pt x="0" y="720"/>
                  </a:lnTo>
                  <a:lnTo>
                    <a:pt x="0" y="864"/>
                  </a:lnTo>
                  <a:lnTo>
                    <a:pt x="48" y="960"/>
                  </a:lnTo>
                  <a:lnTo>
                    <a:pt x="144" y="1008"/>
                  </a:lnTo>
                  <a:lnTo>
                    <a:pt x="240" y="1008"/>
                  </a:lnTo>
                  <a:lnTo>
                    <a:pt x="1824" y="384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4573440" y="3854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106600" y="393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52592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Text Box 19"/>
            <p:cNvSpPr/>
            <p:nvPr/>
          </p:nvSpPr>
          <p:spPr>
            <a:xfrm>
              <a:off x="541152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53352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5563800" y="3625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57924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600516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4878000" y="3886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Text Box 25"/>
            <p:cNvSpPr/>
            <p:nvPr/>
          </p:nvSpPr>
          <p:spPr>
            <a:xfrm>
              <a:off x="5030640" y="3701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Text Box 26"/>
            <p:cNvSpPr/>
            <p:nvPr/>
          </p:nvSpPr>
          <p:spPr>
            <a:xfrm>
              <a:off x="495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Text Box 27"/>
            <p:cNvSpPr/>
            <p:nvPr/>
          </p:nvSpPr>
          <p:spPr>
            <a:xfrm>
              <a:off x="4649400" y="4038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4573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48020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87" name="Group 37"/>
          <p:cNvGrpSpPr/>
          <p:nvPr/>
        </p:nvGrpSpPr>
        <p:grpSpPr>
          <a:xfrm>
            <a:off x="1010880" y="3581280"/>
            <a:ext cx="2644920" cy="2090160"/>
            <a:chOff x="1010880" y="3581280"/>
            <a:chExt cx="2644920" cy="2090160"/>
          </a:xfrm>
        </p:grpSpPr>
        <p:sp>
          <p:nvSpPr>
            <p:cNvPr id="88" name="Text Box 9"/>
            <p:cNvSpPr/>
            <p:nvPr/>
          </p:nvSpPr>
          <p:spPr>
            <a:xfrm>
              <a:off x="3354120" y="4038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1068120" y="4191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1601640" y="5334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373040" y="5181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12204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087200" y="4724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01088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Text Box 30"/>
            <p:cNvSpPr/>
            <p:nvPr/>
          </p:nvSpPr>
          <p:spPr>
            <a:xfrm>
              <a:off x="3278160" y="4844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3354120" y="4616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3360600" y="43434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3208320" y="3778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3049560" y="3581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5540760" y="4129200"/>
            <a:ext cx="33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d rod approaches sphe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484080" y="519588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charge attracted to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charge in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757800" y="5791320"/>
            <a:ext cx="26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ge repelled by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3" name="Group 44"/>
          <p:cNvGrpSpPr/>
          <p:nvPr/>
        </p:nvGrpSpPr>
        <p:grpSpPr>
          <a:xfrm>
            <a:off x="3046680" y="2743200"/>
            <a:ext cx="2463840" cy="1676520"/>
            <a:chOff x="3046680" y="2743200"/>
            <a:chExt cx="2463840" cy="1676520"/>
          </a:xfrm>
        </p:grpSpPr>
        <p:grpSp>
          <p:nvGrpSpPr>
            <p:cNvPr id="104" name="Group 42"/>
            <p:cNvGrpSpPr/>
            <p:nvPr/>
          </p:nvGrpSpPr>
          <p:grpSpPr>
            <a:xfrm>
              <a:off x="3657600" y="4114800"/>
              <a:ext cx="914400" cy="304920"/>
              <a:chOff x="3657600" y="4114800"/>
              <a:chExt cx="914400" cy="304920"/>
            </a:xfrm>
          </p:grpSpPr>
          <p:sp>
            <p:nvSpPr>
              <p:cNvPr id="105" name="Line 40"/>
              <p:cNvSpPr/>
              <p:nvPr/>
            </p:nvSpPr>
            <p:spPr>
              <a:xfrm flipH="1">
                <a:off x="4191120" y="4114800"/>
                <a:ext cx="38088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" name="Line 41"/>
              <p:cNvSpPr/>
              <p:nvPr/>
            </p:nvSpPr>
            <p:spPr>
              <a:xfrm flipV="1">
                <a:off x="3657600" y="4267080"/>
                <a:ext cx="38088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 Box 43"/>
            <p:cNvSpPr/>
            <p:nvPr/>
          </p:nvSpPr>
          <p:spPr>
            <a:xfrm>
              <a:off x="3046680" y="27432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Times New Roman"/>
                </a:rPr>
                <a:t>Result: Attraction!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CEF4-FE65-4E29-8835-F00EE475BB8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tatic Electric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bbing action redistributes charge (unbalanced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f enough charge builds up, we get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is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ir spark is actually due to “breakdown” of ai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air molecules separate into ions (electrons are stripped awa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urrent can then flow through the “plasma-field” a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essence, air becomes a “wire” for a short b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happens at 3 million volts per met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cm spark then at 30,000 vol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ypical finger-spark may involve a few billion electr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old onto key to reduce pain of spark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6629400" y="60948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828800" y="68580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4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20E76-D3A0-4DF0-B871-A4E34EB51C8C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54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ghtning is an unbelievably huge dis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ouds get charged through air fri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 kilometer strike means 3 billion volts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ain path forms temporary “wire” along which charge equaliz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ften bounces a few times before equ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under is bang produced by the extreme pressure variations induced by the formation and collapse of the plasma condu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stormchasing.nl/lightning.htm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Picture 5" descr="lightning"/>
          <p:cNvPicPr/>
          <p:nvPr/>
        </p:nvPicPr>
        <p:blipFill>
          <a:blip r:embed="rId2"/>
          <a:stretch/>
        </p:blipFill>
        <p:spPr>
          <a:xfrm>
            <a:off x="228600" y="1447920"/>
            <a:ext cx="325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EAA4-B0A6-41E7-A301-67D9149245E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 Rod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 two func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vide safe conduit for lightning away from hou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use situation via “coronal discharge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Picture 4" descr="rod"/>
          <p:cNvPicPr/>
          <p:nvPr/>
        </p:nvPicPr>
        <p:blipFill>
          <a:blip r:embed="rId1"/>
          <a:stretch/>
        </p:blipFill>
        <p:spPr>
          <a:xfrm>
            <a:off x="1828800" y="2971800"/>
            <a:ext cx="2365200" cy="3532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52920" y="3138480"/>
            <a:ext cx="424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are attracted to tip of rod, an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lectric field” is highly concentrate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re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“leak” away, diffusing char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 what is sometimes called “St. Elmo’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re”, or “coronal discharge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D79C6-CD41-4B7F-9539-F3ECBBF9C824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static”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wo charge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separated by distanc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exert a force on each other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/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a constant (9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in Coulomb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met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unit of charge (proton) h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1.6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oulomb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oks a lot like Newton’s gravitation in for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and proton attract each other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40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imes stronger electrically than gravitationally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ood thing charge is usually balanced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22:41:45Z</dcterms:created>
  <dc:creator>Tom Murphy</dc:creator>
  <dc:description/>
  <dc:language>en-US</dc:language>
  <cp:lastModifiedBy>Victoria Evans</cp:lastModifiedBy>
  <dcterms:modified xsi:type="dcterms:W3CDTF">2012-02-01T09:07:26Z</dcterms:modified>
  <cp:revision>48</cp:revision>
  <dc:subject/>
  <dc:title>PowerPoint Presentation</dc:title>
</cp:coreProperties>
</file>