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D657-56BB-4160-9A22-B76786E0C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A201-F0C9-4574-AC51-9F2A09125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C46-5821-4FB1-B4A5-9B99268D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68C-8F3E-4C93-9733-F790F3FA7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F809-3FA4-4578-BC7F-65EF5906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FB05-F05C-456B-A07D-DEA77D56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7761-1FBE-4D16-AD86-96371D5C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5E81-153B-4986-9E4B-24A200866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376-13BD-46C1-BECE-7EA42C71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0C49-35D9-40B2-AA92-6FE75CA2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1F3B-9C50-4017-9119-7EB65B5E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086B-690F-4A11-82BB-B215E1A9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B5D0-0684-47E7-9F86-E396DA05D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 H A P T E R   20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ctric Circuit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5800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Arial"/>
              </a:rPr>
              <a:t>Electrical Resist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447920"/>
            <a:ext cx="80773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electric current flows through a metal wire there exists a hindrance to the flow, known as electrical resist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because as the electrons move through they will collide with the atoms of the conducto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of resistance is the ohm (Ω), after Georg Simon Ohm (1787-1854), a German physicist, who discovered Ohm’s law, which will be discussed in the next se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resistor is a material that provides a specified resistance in an electric circui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143000" y="2133720"/>
            <a:ext cx="73152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838080"/>
            <a:ext cx="853416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rg Simon Ohm (1787-1854), a German physicist, discovered Ohm’s law in 1826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is an experimental law, valid for both alternating current (ac) and direct current (dc) circu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en you pass an electric current (I) through a resistance (R) there will be a potential difference or voltage (V) created across the resista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m’s law gives a relationship between the voltage (V), current (I), and resistance (R)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V = I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57200" y="2133720"/>
          <a:ext cx="8001000" cy="4064040"/>
        </p:xfrm>
        <a:graphic>
          <a:graphicData uri="http://schemas.openxmlformats.org/drawingml/2006/table">
            <a:tbl>
              <a:tblPr/>
              <a:tblGrid>
                <a:gridCol w="2008080"/>
                <a:gridCol w="1703520"/>
                <a:gridCol w="1703520"/>
                <a:gridCol w="258588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Quant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 N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t Abbrevi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p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ag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st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h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Ω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lashligh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1148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048120" y="1965240"/>
            <a:ext cx="254952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ance,R and Resistivity,</a:t>
            </a:r>
            <a:r>
              <a:rPr b="0" lang="el-G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1600200"/>
            <a:ext cx="58672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istance of a conductor is directly proportional to the length since the current needs to pass through all the atoms in the lengt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esistance is inversely proportional to the cross-sectional area since there is more room for the current to pass through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above observations can be combined and the resistance, R of the conductor is written as follow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72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800600" y="5562720"/>
                <a:ext cx="17524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r>
                      <m:t xml:space="preserve">ρ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6" name="" descr="A heating element from an electric stove. ( David Chasey/PhotoDisc, Inc./Getty Images)"/>
          <p:cNvPicPr/>
          <p:nvPr/>
        </p:nvPicPr>
        <p:blipFill>
          <a:blip r:embed="rId1"/>
          <a:stretch/>
        </p:blipFill>
        <p:spPr>
          <a:xfrm>
            <a:off x="304920" y="1676520"/>
            <a:ext cx="2643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istivity of Materia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5238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Resistivi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an inherent property of a material, inherent in the same sense that density is an inherent proper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12840" y="1058760"/>
            <a:ext cx="11160" cy="111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154240" y="1776240"/>
            <a:ext cx="11160" cy="11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"/>
          <p:cNvGraphicFramePr/>
          <p:nvPr/>
        </p:nvGraphicFramePr>
        <p:xfrm>
          <a:off x="2362320" y="2590920"/>
          <a:ext cx="4143240" cy="37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2320" y="2590920"/>
                    <a:ext cx="414324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dance plethysmography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1371600"/>
            <a:ext cx="7696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technique of impedance plethysmography, the electrical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resist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f the calf is measured to diagnose deep venous thrombosis (blood clotting in the veins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3394080" cy="34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Energy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1576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4400" y="1905120"/>
            <a:ext cx="8001000" cy="44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daily life depends on electrical energ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 use many electrical devices that transform electrical energy into other forms of energ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xample, a light bulb transforms electrical energy into light and hea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al devices have various power require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ectric Power,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576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5257800" y="838080"/>
                <a:ext cx="197172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nergy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480" y="1828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ce the electrical energy is charge times voltag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V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 above equation becom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72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00400" y="2666880"/>
                <a:ext cx="166680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"/>
          <p:cNvSpPr/>
          <p:nvPr/>
        </p:nvSpPr>
        <p:spPr>
          <a:xfrm>
            <a:off x="762120" y="38098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nce the current is charge flow per unit time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Q/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the above equation becom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8612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038480" y="4419720"/>
                <a:ext cx="32767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QV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457200" y="52578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Sinc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V = I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, the above equation can also be written 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2436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81080" y="5715000"/>
                <a:ext cx="2590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I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4876920" y="60199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 Unit of Pow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att(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lectr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3733920"/>
            <a:ext cx="507960" cy="888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85800" y="1905120"/>
            <a:ext cx="65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around you. Chances are that there is an electrical device nearby - a cell phone, a computer, a projector - something that needs electrical energy to opera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038480" y="3886200"/>
          <a:ext cx="60012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886200"/>
                    <a:ext cx="6001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illowatt-hour (kWh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480" y="228600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he SI unit of power is watt, after James Watt (1736-1819), who developed steam engines.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4572000"/>
            <a:ext cx="792504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tility companies use the unit kilowatt-hour to measure the electrical energy used by customers. One kilowatt-hour, kWh is the energy consumed for one hour at a power rate of 1 kW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7676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057400" y="3276720"/>
                <a:ext cx="399564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watt</m:t>
                    </m:r>
                    <m:r>
                      <m:t xml:space="preserve">=</m:t>
                    </m:r>
                    <m:r>
                      <m:t xml:space="preserve">W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joul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  <m:r>
                          <m:rPr>
                            <m:lit/>
                            <m:nor/>
                          </m:rPr>
                          <m:t xml:space="preserve">on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J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0.5 Alternating Curr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828800" y="2133720"/>
            <a:ext cx="5668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= V</a:t>
            </a:r>
            <a:r>
              <a:rPr b="0" lang="en-US" sz="4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 0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 2 </a:t>
            </a:r>
            <a:r>
              <a:rPr b="0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 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819520" y="2362320"/>
            <a:ext cx="3349440" cy="277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lternating Voltage from the outl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9009000" cy="3710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914400" y="609588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ive voltag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115 V, called the RMS val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 val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267080" y="2590920"/>
            <a:ext cx="2286000" cy="1143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914400" y="2057400"/>
            <a:ext cx="2389320" cy="1981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495680" y="4495680"/>
            <a:ext cx="206244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D- P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09480" y="2666880"/>
            <a:ext cx="769644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 Batteries and the Symbol Used to Represent Them in </a:t>
            </a:r>
            <a:r>
              <a:rPr b="0" lang="en-US" sz="36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lectric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rcuit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523880" y="2286000"/>
            <a:ext cx="5715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lectromotive Force (emf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905120"/>
            <a:ext cx="3048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295280"/>
            <a:ext cx="80773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nergy needed to run a CD player, f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ance, comes from batter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thin a battery, a chemical reaction occurs that transfers electrons from one terminal (leaving it positively charged) to another terminal (leaving it negatively charged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of the positive and negative charges on the battery terminals, an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electric potent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ifference exists between them. The maximum potential difference is called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lectromotive force</a:t>
            </a:r>
            <a:r>
              <a:rPr b="1" i="1" lang="en-US" sz="2400" spc="-1" strike="noStrike">
                <a:solidFill>
                  <a:srgbClr val="009999"/>
                </a:solidFill>
                <a:latin typeface="Times New Roman"/>
              </a:rPr>
              <a:t>*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(emf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the batt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lectric potential difference is also known as the voltage, 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for voltage is the volt, after Alessandro Volta (1745-1827) who invented the electric battery. 1 volt = 1 J/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0" y="0"/>
          <a:ext cx="1971720" cy="25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971720" cy="25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f’s or Voltages of Common Batte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85800" y="1905120"/>
            <a:ext cx="441972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 batter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AA, AA, C, D = 1.5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-volt battery = 9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tern battery = 6 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 Curr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1752480"/>
            <a:ext cx="7772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electr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amount of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har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er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u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me that passes through a surface that is perpendicular to the motion of the char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447920" y="3276720"/>
            <a:ext cx="2422440" cy="1417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28600" y="49528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I unit of electric current is the ampere (A), aft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French mathematician André Ampére (1775-1836). 1 A = 1 C/s. Ampere is a large unit for current. In practice milliampere (mA) and microampere (μA) are used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290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5029200" y="3429000"/>
                <a:ext cx="1600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ΔQ</m:t>
                        </m:r>
                      </m:num>
                      <m:den>
                        <m:r>
                          <m:t xml:space="preserve">Δ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ion of Current 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98560" y="1641600"/>
            <a:ext cx="405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1828800"/>
            <a:ext cx="74674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ctric current is a flow of electrons. In a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ircu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lectrons actually flow through the metal wir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ventional electric current is defined using the flow of positive charg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 is customary to use a conventional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  <a:ea typeface="Times New Roman"/>
              </a:rPr>
              <a:t>curren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in the opposite direction to the electron f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6880" y="4560840"/>
            <a:ext cx="325764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 and D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676520"/>
            <a:ext cx="7620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charges move around a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ircu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 the same direction at all times, the 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cur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rect current (dc)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is the kind produced by batteri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contrast, the current is said to b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lternating current (ac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he charges move first one way and then the opposite way, changing direction from moment to moment. Outlets give us ac voltag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0T22:04:08Z</dcterms:created>
  <dc:creator>mahesp</dc:creator>
  <dc:description/>
  <dc:language>en-US</dc:language>
  <cp:lastModifiedBy>mahesp</cp:lastModifiedBy>
  <dcterms:modified xsi:type="dcterms:W3CDTF">2006-02-10T13:57:55Z</dcterms:modified>
  <cp:revision>12</cp:revision>
  <dc:subject/>
  <dc:title>PowerPoint Presentation</dc:title>
</cp:coreProperties>
</file>