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0EE-713C-4F11-86E2-924B1F4D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2BF-568E-417F-AAFB-2D1A26F8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CAF-A550-4BB7-91E9-8532C38D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59C-F6A9-495D-A80B-A3437AB3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683-18F3-41A1-B3F0-6EFA2221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813-1250-4DF7-AEF9-45634F46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D00-D53B-4B77-9D51-6BC25052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947-58E1-460F-BE17-D5CC6CA5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6D2-B5D3-4FF7-B22A-ADAF954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EC7-D844-4391-AF07-147DD1F1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127-DADE-49BB-BC74-9DCC8B67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74F-1E0F-44C2-B934-241606F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63F1-6F75-4F1D-8CE1-089B88674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 H A P T E R   2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 Circui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Electric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0773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electric current flows through a metal wire there exists a hindrance to the flow, known as electrical re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as the electrons move through they will collide with the atoms of the cond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resistance is the ohm (Ω), after Georg Simon Ohm (1787-1854), a German physicist, who discovered Ohm’s law, which will be discussed in the next s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istor is a material that provides a specified resistance in an electric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3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 Simon Ohm (1787-1854), a German physicist, discovered Ohm’s law in 182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perimental law, valid for both alternating current (ac) and direct current (dc)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you pass an electric current (I) through a resistance (R) there will be a potential difference or voltage (V) created across the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 gives a relationship between the voltage (V), current (I), and resistance (R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 = I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2133720"/>
          <a:ext cx="8001000" cy="4064040"/>
        </p:xfrm>
        <a:graphic>
          <a:graphicData uri="http://schemas.openxmlformats.org/drawingml/2006/table">
            <a:tbl>
              <a:tblPr/>
              <a:tblGrid>
                <a:gridCol w="2008080"/>
                <a:gridCol w="1703520"/>
                <a:gridCol w="1703520"/>
                <a:gridCol w="25858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Abbr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148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1965240"/>
            <a:ext cx="2549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,R and Resistivity,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5867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of a conductor is directly proportional to the length since the current needs to pass through all the atoms in the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is inversely proportional to the cross-sectional area since there is more room for the current to pass thro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observations can be combined and the resistance, R of the conductor is written as foll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00600" y="5562720"/>
                <a:ext cx="1752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" name="" descr="A heating element from an electric stove. ( David Chasey/PhotoDisc, Inc./Getty Images)"/>
          <p:cNvPicPr/>
          <p:nvPr/>
        </p:nvPicPr>
        <p:blipFill>
          <a:blip r:embed="rId1"/>
          <a:stretch/>
        </p:blipFill>
        <p:spPr>
          <a:xfrm>
            <a:off x="304920" y="1676520"/>
            <a:ext cx="264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ivity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herent property of a material, inherent in the same sense that density is an inherent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12840" y="105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54240" y="177624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362320" y="2590920"/>
          <a:ext cx="41432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41432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e plethysmograph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echnique of impedance plethysmography, the electric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alf is measured to diagnose deep venous thrombosis (blood clotting in the veins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394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daily life depends on electrical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many electrical devices that transform electrical energy into other forms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light bulb transforms electrical energy into light and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devices have various pow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 Power,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257800" y="838080"/>
                <a:ext cx="1971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4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electrical energy is charge time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above equation becom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666880"/>
                <a:ext cx="1666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76212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the current is charge flow per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/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becom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38480" y="4419720"/>
                <a:ext cx="32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 = 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can also be writt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71500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876920" y="6019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 Unit of Po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t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88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905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round you. Chances are that there is an electrical device nearby - a cell phone, a computer, a projector - something that needs electrical energy to op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3886200"/>
          <a:ext cx="600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8862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owatt-hour (kW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I unit of power is watt, after James Watt (1736-1819), who developed steam engines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57200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tility companies use the unit kilowatt-hour to measure the electrical energy used by customers. One kilowatt-hour, kWh is the energy consumed for one hour at a power rate of 1 k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7400" y="3276720"/>
                <a:ext cx="3995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tt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on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5 Alternating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668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V</a:t>
            </a:r>
            <a:r>
              <a:rPr b="0" lang="en-US" sz="4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2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494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ng Voltage from the out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900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6095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volt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5 V, called the RMS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3893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062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76964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atteries and the Symbol Used to Represent Them in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715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ectromotive Force (emf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8077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needed to run a CD player,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, comes from batt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battery, a chemical reaction occurs that transfers electrons from one terminal (leaving it positively charged) to another terminal (leaving it negatively charge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positive and negative charges on the battery terminals, a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lectric pot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ce exists between them. The maximum potential difference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ectromotive force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em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ic potential difference is also known as the voltage,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for voltage is the volt, after Alessandro Volta (1745-1827) who invented the electric battery. 1 volt = 1 J/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197172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7172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f’s or Voltages of Common Batt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441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batt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, AA, C, D = 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volt battery = 9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tern battery = 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that passes through a surface that is perpendicular to the motion of th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42244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4952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electric current is the ampere (A), af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nch mathematician André Ampére (1775-1836). 1 A = 1 C/s. Ampere is a large unit for current. In practice milliampere (mA) and microampere (μA) are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34290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Current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64160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467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 is a flow of electrons. In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ectrons actually flow through the metal w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electric current is defined using the flow of positive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ustomary to use a convention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n the opposite direction to the electron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4560840"/>
            <a:ext cx="3257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and 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7620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arges move around 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ame direction at all times, th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rect current (dc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kind produced by batte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the current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ing current (a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harges move first one way and then the opposite way, changing direction from moment to moment. Outlets give us ac voltag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2:04:08Z</dcterms:created>
  <dc:creator>mahesp</dc:creator>
  <dc:description/>
  <dc:language>en-US</dc:language>
  <cp:lastModifiedBy>mahesp</cp:lastModifiedBy>
  <dcterms:modified xsi:type="dcterms:W3CDTF">2006-02-10T13:57:55Z</dcterms:modified>
  <cp:revision>12</cp:revision>
  <dc:subject/>
  <dc:title>PowerPoint Presentation</dc:title>
</cp:coreProperties>
</file>