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FCC5-5B37-4B38-AAAC-3E2B48428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E594-D669-4F24-814C-6A586CDA8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CFFC-755F-4CF0-A4CD-F215A30AD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1B42-15D2-443F-88BA-FB3D490B2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2D45-A025-4CAF-BCFF-920193F5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F2A2-9B4E-484B-A679-5843FB2B6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8F8D-131B-4789-B755-1EC630E0A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3681-B455-4EF8-88CD-8302A2D36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B154-BDD2-47B0-BD36-D19140F6D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F810-C308-4AD2-BE73-B3349D1F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E20F-0205-4969-BD4C-48B28374A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0145-FECF-4825-883C-72F40975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CDED-05D5-4C5E-9DAE-73736435E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 H A P T E R   20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lectric Circuit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858000" cy="51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  <a:ea typeface="Arial"/>
              </a:rPr>
              <a:t>Electrical Resist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447920"/>
            <a:ext cx="807732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electric current flows through a metal wire there exists a hindrance to the flow, known as electrical resist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because as the electrons move through they will collide with the atoms of the conduct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 unit of resistance is the ohm (Ω), after Georg Simon Ohm (1787-1854), a German physicist, who discovered Ohm’s law, which will be discussed in the next se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esistor is a material that provides a specified resistance in an electric circu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m’s La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7315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m’s La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838080"/>
            <a:ext cx="853416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rg Simon Ohm (1787-1854), a German physicist, discovered Ohm’s law in 1826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n experimental law, valid for both alternating current (ac) and direct current (dc) circu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n you pass an electric current (I) through a resistance (R) there will be a potential difference or voltage (V) created across the resi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m’s law gives a relationship between the voltage (V), current (I), and resistance (R)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 = I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2133720"/>
          <a:ext cx="8001000" cy="4064040"/>
        </p:xfrm>
        <a:graphic>
          <a:graphicData uri="http://schemas.openxmlformats.org/drawingml/2006/table">
            <a:tbl>
              <a:tblPr/>
              <a:tblGrid>
                <a:gridCol w="2008080"/>
                <a:gridCol w="1703520"/>
                <a:gridCol w="1703520"/>
                <a:gridCol w="258588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 Abbrevi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r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ist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h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Ω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ashl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1148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048120" y="1965240"/>
            <a:ext cx="25495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ance,R and Resistivity,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1600200"/>
            <a:ext cx="58672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istance of a conductor is directly proportional to the length since the current needs to pass through all the atoms in the lengt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istance is inversely proportional to the cross-sectional area since there is more room for the current to pass throug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bove observations can be combined and the resistance, R of the conductor is written as follow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721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800600" y="5562720"/>
                <a:ext cx="175248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ρ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6" name="" descr="A heating element from an electric stove. ( David Chasey/PhotoDisc, Inc./Getty Images)"/>
          <p:cNvPicPr/>
          <p:nvPr/>
        </p:nvPicPr>
        <p:blipFill>
          <a:blip r:embed="rId1"/>
          <a:stretch/>
        </p:blipFill>
        <p:spPr>
          <a:xfrm>
            <a:off x="304920" y="1676520"/>
            <a:ext cx="2643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ivity of Materi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15238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Resistiv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 inherent property of a material, inherent in the same sense that density is an inherent proper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112840" y="105876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154240" y="1776240"/>
            <a:ext cx="11160" cy="11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2362320" y="2590920"/>
          <a:ext cx="4143240" cy="37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2590920"/>
                    <a:ext cx="414324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dance plethysmograph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1371600"/>
            <a:ext cx="7696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technique of impedance plethysmography, the electrical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resis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calf is measured to diagnose deep venous thrombosis (blood clotting in the veins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90920" y="2971800"/>
            <a:ext cx="339408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al Energ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576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1905120"/>
            <a:ext cx="8001000" cy="44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daily life depends on electrical energ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use many electrical devices that transform electrical energy into other forms of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a light bulb transforms electrical energy into light and he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al devices have various power requir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lectric Power,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576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257800" y="838080"/>
                <a:ext cx="197172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nerg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609480" y="18288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the electrical energy is charge times voltag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V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above equation becom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721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200400" y="2666880"/>
                <a:ext cx="166680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762120" y="38098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ince the current is charge flow per unit tim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Q/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the above equation becom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038480" y="4419720"/>
                <a:ext cx="32767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×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457200" y="52578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i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 = I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the above equation can also be written 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2436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81080" y="5715000"/>
                <a:ext cx="25909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V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4876920" y="6019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 Unit of Pow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tt(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lectrical De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0" y="3733920"/>
            <a:ext cx="507960" cy="888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1905120"/>
            <a:ext cx="65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around you. Chances are that there is an electrical device nearby - a cell phone, a computer, a projector - something that needs electrical energy to ope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038480" y="3886200"/>
          <a:ext cx="600120" cy="64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8480" y="3886200"/>
                    <a:ext cx="600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illowatt-hour (kWh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22860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SI unit of power is watt, after James Watt (1736-1819), who developed steam engines.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4572000"/>
            <a:ext cx="79250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tility companies use the unit kilowatt-hour to measure the electrical energy used by customers. One kilowatt-hour, kWh is the energy consumed for one hour at a power rate of 1 k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767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057400" y="3276720"/>
                <a:ext cx="399564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att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joul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  <m:r>
                          <m:rPr>
                            <m:lit/>
                            <m:nor/>
                          </m:rPr>
                          <m:t xml:space="preserve">on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.5 Alternating Curr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5668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= V</a:t>
            </a:r>
            <a:r>
              <a:rPr b="0" lang="en-US" sz="4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n 2 </a:t>
            </a:r>
            <a:r>
              <a:rPr b="0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 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819520" y="2362320"/>
            <a:ext cx="334944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ternating Voltage from the outl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009000" cy="37101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914400" y="60958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 voltag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15 V, called the RMS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MS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267080" y="2590920"/>
            <a:ext cx="2286000" cy="1143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914400" y="2057400"/>
            <a:ext cx="2389320" cy="1981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495680" y="4495680"/>
            <a:ext cx="206244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D- P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7696440" cy="19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Batteries and the Symbol Used to Represent Them in 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Electri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ircui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5715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lectromotive Force (emf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9051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1295280"/>
            <a:ext cx="807732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nergy needed to run a CD player, f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, comes from batte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in a battery, a chemical reaction occurs that transfers electrons from one terminal (leaving it positively charged) to another terminal (leaving it negatively charged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of the positive and negative charges on the battery terminals, an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electric potent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fference exists between them. The maximum potential difference is called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lectromotive force</a:t>
            </a:r>
            <a:r>
              <a:rPr b="1" i="1" lang="en-US" sz="2400" spc="-1" strike="noStrike">
                <a:solidFill>
                  <a:srgbClr val="009999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(emf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batte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lectric potential difference is also known as the voltage, 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 unit for voltage is the volt, after Alessandro Volta (1745-1827) who invented the electric battery. 1 volt = 1 J/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0"/>
          <a:ext cx="1971720" cy="25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97172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f’s or Voltages of Common Batte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905120"/>
            <a:ext cx="441972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 batt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2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AA, AA, C, D = 1.5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-volt battery = 9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tern battery = 6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 Curr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752480"/>
            <a:ext cx="7772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electr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curr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amount of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char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u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me that passes through a surface that is perpendicular to the motion of the char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47920" y="3276720"/>
            <a:ext cx="2422440" cy="1417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8600" y="495288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 unit of electric current is the ampere (A), aft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rench mathematician André Ampére (1775-1836). 1 A = 1 C/s. Ampere is a large unit for current. In practice milliampere (mA) and microampere (μA) are use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90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029200" y="3429000"/>
                <a:ext cx="16002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ion of Current 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98560" y="1641600"/>
            <a:ext cx="405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828800"/>
            <a:ext cx="74674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 current is a flow of electrons. In a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circu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lectrons actually flow through the metal wi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ntional electric current is defined using the flow of positive charg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customary to use a conventional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curr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in the opposite direction to the electron f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66880" y="4560840"/>
            <a:ext cx="325764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and D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1676520"/>
            <a:ext cx="7620120" cy="42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charges move around a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circu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same direction at all times, the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cur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aid to b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rect current (dc)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is the kind produced by batteri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ontrast, the current is said to b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lternating current (ac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charges move first one way and then the opposite way, changing direction from moment to moment. Outlets give us ac voltag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0T22:04:08Z</dcterms:created>
  <dc:creator>mahesp</dc:creator>
  <dc:description/>
  <dc:language>en-US</dc:language>
  <cp:lastModifiedBy>mahesp</cp:lastModifiedBy>
  <dcterms:modified xsi:type="dcterms:W3CDTF">2006-02-10T13:57:55Z</dcterms:modified>
  <cp:revision>12</cp:revision>
  <dc:subject/>
  <dc:title>PowerPoint Presentation</dc:title>
</cp:coreProperties>
</file>