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616-2B8B-40F9-89EE-FA1B2381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475-B9DB-4C47-8D82-44116B44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B61-D22E-40F4-871C-CCE10C31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7BF-4740-4E36-BE9C-91F8F5B6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13D-A290-46A1-8EB1-9A123FA7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9D9-DAF4-4A8E-87CD-FE75EE7F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645-A76A-4849-8479-B1A3657F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162-DB95-4D75-83C7-11525C47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A01-1023-4FA7-BA3C-E0270EF4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0BB-DD5F-4C5B-9A6D-3704B8AF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CCA-2CEC-4EA2-BD96-88005794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9C2-C605-4029-9609-58E74431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BFBA-B07F-48BD-9743-3E15BDDC8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 H A P T E R   20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ctric Circui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Arial"/>
              </a:rPr>
              <a:t>Electrical Res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0773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electric current flows through a metal wire there exists a hindrance to the flow, known as electrical resist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because as the electrons move through they will collide with the atoms of the conduc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of resistance is the ohm (Ω), after Georg Simon Ohm (1787-1854), a German physicist, who discovered Ohm’s law, which will be discussed in the next s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sistor is a material that provides a specified resistance in an electric circu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315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838080"/>
            <a:ext cx="853416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rg Simon Ohm (1787-1854), a German physicist, discovered Ohm’s law in 182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n experimental law, valid for both alternating current (ac) and direct current (dc) circu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you pass an electric current (I) through a resistance (R) there will be a potential difference or voltage (V) created across the re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 gives a relationship between the voltage (V), current (I), and resistance (R)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 = I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2133720"/>
          <a:ext cx="8001000" cy="4064040"/>
        </p:xfrm>
        <a:graphic>
          <a:graphicData uri="http://schemas.openxmlformats.org/drawingml/2006/table">
            <a:tbl>
              <a:tblPr/>
              <a:tblGrid>
                <a:gridCol w="2008080"/>
                <a:gridCol w="1703520"/>
                <a:gridCol w="1703520"/>
                <a:gridCol w="25858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 Abbrevi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sh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1148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8120" y="1965240"/>
            <a:ext cx="25495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ce,R and Resistivity,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1600200"/>
            <a:ext cx="5867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istance of a conductor is directly proportional to the length since the current needs to pass through all the atoms in the leng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istance is inversely proportional to the cross-sectional area since there is more room for the current to pass throug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ove observations can be combined and the resistance, R of the conductor is written as follow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72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800600" y="5562720"/>
                <a:ext cx="17524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6" name="" descr="A heating element from an electric stove. ( David Chasey/PhotoDisc, Inc./Getty Images)"/>
          <p:cNvPicPr/>
          <p:nvPr/>
        </p:nvPicPr>
        <p:blipFill>
          <a:blip r:embed="rId1"/>
          <a:stretch/>
        </p:blipFill>
        <p:spPr>
          <a:xfrm>
            <a:off x="304920" y="1676520"/>
            <a:ext cx="264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ivity of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inherent property of a material, inherent in the same sense that density is an inherent prop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12840" y="10587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54240" y="1776240"/>
            <a:ext cx="11160" cy="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362320" y="2590920"/>
          <a:ext cx="4143240" cy="37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590920"/>
                    <a:ext cx="414324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ance plethysmograph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3716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technique of impedance plethysmography, the electrical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es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calf is measured to diagnose deep venous thrombosis (blood clotting in the veins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3940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576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05120"/>
            <a:ext cx="80010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daily life depends on electrical energ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many electrical devices that transform electrical energy into other forms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a light bulb transforms electrical energy into light and h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devices have various power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ic Power,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576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257800" y="838080"/>
                <a:ext cx="1971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480" y="1828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electrical energy is charge times volta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V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above equation becom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72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00400" y="2666880"/>
                <a:ext cx="1666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762120" y="38098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nce the current is charge flow per unit tim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Q/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the above equation becom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038480" y="4419720"/>
                <a:ext cx="3276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57200" y="5257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 = 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the above equation can also be written 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81080" y="5715000"/>
                <a:ext cx="2590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876920" y="6019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 Unit of Pow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tt(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ctr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07960" cy="888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190512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round you. Chances are that there is an electrical device nearby - a cell phone, a computer, a projector - something that needs electrical energy to ope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038480" y="3886200"/>
          <a:ext cx="6001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886200"/>
                    <a:ext cx="600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illowatt-hour (kW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286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SI unit of power is watt, after James Watt (1736-1819), who developed steam engines.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572000"/>
            <a:ext cx="7925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tility companies use the unit kilowatt-hour to measure the electrical energy used by customers. One kilowatt-hour, kWh is the energy consumed for one hour at a power rate of 1 k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767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057400" y="3276720"/>
                <a:ext cx="39956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tt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oul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  <m:r>
                          <m:rPr>
                            <m:lit/>
                            <m:nor/>
                          </m:rPr>
                          <m:t xml:space="preserve">on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.5 Alternating Curr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668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V</a:t>
            </a:r>
            <a:r>
              <a:rPr b="0" lang="en-US" sz="4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 2 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3494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ternating Voltage from the out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009000" cy="3710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4400" y="60958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volta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15 V, called the RMS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238932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95680" y="4495680"/>
            <a:ext cx="206244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-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769644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Batteries and the Symbol Used to Represent Them in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lectr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rcui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715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ectromotive Force (emf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905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295280"/>
            <a:ext cx="80773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ergy needed to run a CD player, 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, comes from batt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a battery, a chemical reaction occurs that transfers electrons from one terminal (leaving it positively charged) to another terminal (leaving it negatively charge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e positive and negative charges on the battery terminals, an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lectric poten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ence exists between them. The maximum potential difference is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ectromotive force</a:t>
            </a: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em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batt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lectric potential difference is also known as the voltage,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for voltage is the volt, after Alessandro Volta (1745-1827) who invented the electric battery. 1 volt = 1 J/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0"/>
          <a:ext cx="1971720" cy="25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97172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f’s or Voltages of Common Batt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905120"/>
            <a:ext cx="4419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 batt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A, AA, C, D = 1.5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-volt battery = 9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tern battery = 6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 Cur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75248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lec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amount of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ha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 that passes through a surface that is perpendicular to the motion of the cha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3276720"/>
            <a:ext cx="2422440" cy="1417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49528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of electric current is the ampere (A), aft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ench mathematician André Ampére (1775-1836). 1 A = 1 C/s. Ampere is a large unit for current. In practice milliampere (mA) and microampere (μA) are us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90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029200" y="3429000"/>
                <a:ext cx="1600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on of Current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8560" y="164160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828800"/>
            <a:ext cx="74674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 current is a flow of electrons. In 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ectrons actually flow through the metal wi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al electric current is defined using the flow of positive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ustomary to use a conventional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in the opposite direction to the electron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4560840"/>
            <a:ext cx="325764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and D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7620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charges move around a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ircu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same direction at all times, the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rect current (dc)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the kind produced by batter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rast, the current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lternating current (ac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harges move first one way and then the opposite way, changing direction from moment to moment. Outlets give us ac voltag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22:04:08Z</dcterms:created>
  <dc:creator>mahesp</dc:creator>
  <dc:description/>
  <dc:language>en-US</dc:language>
  <cp:lastModifiedBy>mahesp</cp:lastModifiedBy>
  <dcterms:modified xsi:type="dcterms:W3CDTF">2006-02-10T13:57:55Z</dcterms:modified>
  <cp:revision>12</cp:revision>
  <dc:subject/>
  <dc:title>PowerPoint Presentation</dc:title>
</cp:coreProperties>
</file>