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6.jpeg" ContentType="image/jpeg"/>
  <Override PartName="/ppt/media/image50.jpeg" ContentType="image/jpeg"/>
  <Override PartName="/ppt/media/image16.jpeg" ContentType="image/jpeg"/>
  <Override PartName="/ppt/media/image27.jpeg" ContentType="image/jpeg"/>
  <Override PartName="/ppt/media/image5.wmf" ContentType="image/x-wmf"/>
  <Override PartName="/ppt/media/image17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12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5.jpeg" ContentType="image/jpeg"/>
  <Override PartName="/ppt/media/image29.wmf" ContentType="image/x-wmf"/>
  <Override PartName="/ppt/media/image19.jpeg" ContentType="image/jpeg"/>
  <Override PartName="/ppt/media/image59.jpeg" ContentType="image/jpeg"/>
  <Override PartName="/ppt/media/image42.jpeg" ContentType="image/jpeg"/>
  <Override PartName="/ppt/media/image35.jpeg" ContentType="image/jpeg"/>
  <Override PartName="/ppt/media/image1.jpeg" ContentType="image/jpeg"/>
  <Override PartName="/ppt/media/image18.jpeg" ContentType="image/jpeg"/>
  <Override PartName="/ppt/media/image55.wmf" ContentType="image/x-wmf"/>
  <Override PartName="/ppt/media/image26.jpeg" ContentType="image/jpeg"/>
  <Override PartName="/ppt/media/image41.jpeg" ContentType="image/jpeg"/>
  <Override PartName="/ppt/media/image14.jpeg" ContentType="image/jpeg"/>
  <Override PartName="/ppt/media/image22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51.wmf" ContentType="image/x-wmf"/>
  <Override PartName="/ppt/media/image8.jpeg" ContentType="image/jpeg"/>
  <Override PartName="/ppt/media/image39.jpeg" ContentType="image/jpeg"/>
  <Override PartName="/ppt/media/image32.jpeg" ContentType="image/jpeg"/>
  <Override PartName="/ppt/media/image33.jpeg" ContentType="image/jpeg"/>
  <Override PartName="/ppt/media/image58.wmf" ContentType="image/x-wmf"/>
  <Override PartName="/ppt/media/image34.jpeg" ContentType="image/jpeg"/>
  <Override PartName="/ppt/media/image38.jpeg" ContentType="image/jpeg"/>
  <Override PartName="/ppt/media/image13.wmf" ContentType="image/x-wmf"/>
  <Override PartName="/ppt/media/image40.jpeg" ContentType="image/jpeg"/>
  <Override PartName="/ppt/media/image43.wmf" ContentType="image/x-wmf"/>
  <Override PartName="/ppt/media/image60.wmf" ContentType="image/x-wmf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6.wmf" ContentType="image/x-wmf"/>
  <Override PartName="/ppt/media/image52.jpeg" ContentType="image/jpeg"/>
  <Override PartName="/ppt/media/image53.wmf" ContentType="image/x-wmf"/>
  <Override PartName="/ppt/media/image54.jpeg" ContentType="image/jpeg"/>
  <Override PartName="/ppt/media/image5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91FF-1112-40E5-8995-045E0D3A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AEE5-328D-47B0-84DD-135B3BA2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5D58-9E68-47DA-AF04-33E1DC1C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80E0-91CF-41D9-A6DA-7DC1D2B8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2BC5-9A88-4183-B95A-2D06F814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1ECD-7ED9-4F5E-9FB6-30EE66D5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09F3-5738-40C0-99FB-4BAC3572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77D2-474D-47C2-9BAB-E0D6426B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398C-D92C-4013-8FE6-982B33AB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4B8C-9652-44D3-ABF6-FE3A8B85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4793-8E1D-4E2D-8688-9EBAE617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2CE6-4DA4-4FF1-8B02-FDD3A272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378B-461A-4DD3-84AD-E53D3D13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C88D-5A51-41B9-9C57-49F0752D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F334-BFB2-41F4-897C-8A0E336D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87B4-EBF5-4B1B-B0AA-3ACFE367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54BB-A621-4868-8A5B-017D2242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407-3D10-4B43-9A63-B2D80E94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D5C-F057-4E64-907D-C9E15EB9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3023-05B8-4C64-ADC7-2BA52C68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8B6-5C92-48B1-BFB9-F6152179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5B0E-7988-4764-B6C7-4CA989A8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DEC4-1F26-4602-BF1F-096F0B3D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3982-F3A2-49F3-B84B-81009891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C692-310A-4231-9AD6-AD7B596ACA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D639-45AE-4D94-8E57-5174FC76E4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9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ids and Flui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ypes of Mat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rmal ma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out 5% of total ma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rk ma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fects the motion of stars in galax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as much at 25% of total ma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rk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ounts for acceleration of the expansion of the univer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as much as 70% of all ma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formation of Soli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objects are deform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possible to change the shape or size (or both) of an object through the application of external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forces are removed, the object tends to its original sha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bject undergoing this type of deformation exhibit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lastic behavi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 Properti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tres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force per unit area causing the de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trai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measure of the amount of de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lastic modulu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constant of proportionality between stress and str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sufficiently small stresses, the stress is directly proportional to the str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nstant of proportionality depends on the material being deformed and the nature of the de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 Modulu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lastic modulus can be thought of as the stiffness of the materi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aterial with a large elastic modulus is very stiff and difficult to de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ogous to the spring cons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981080" y="5410080"/>
          <a:ext cx="6161040" cy="5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410080"/>
                    <a:ext cx="61610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Young’s Modulus: 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ity in Leng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nsile stress is the ratio of the external force to the cross-sectional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nsile is because the bar is under te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lastic modulu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oung’s modu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0" y="2590920"/>
            <a:ext cx="448308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Young’s Modulu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 units of stress are Pascals, P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Pa = 1 N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ensile strain is the ratio of the change in length to the original leng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in is dimensionl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429000" y="5105520"/>
          <a:ext cx="1801800" cy="11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5105520"/>
                    <a:ext cx="180180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Young’s Modulus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ng’s modulus applies to a stress of either tension or compr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possible to exce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lastic limi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longer directly proport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inarily does not return to its original leng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57800" y="2449440"/>
            <a:ext cx="363060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reak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stress continues, it surpasses it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ltimate streng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ltimate strength is the greatest stress the object can withstand without brea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reaking poi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 brittle material, the breaking point is just beyond its ultimate streng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 ductile material, after passing the ultimate strength the material thins and stretches at a lower stress level before brea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hear Modulu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ity of Shape 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ces may be parallel to one of the object’s f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ress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hear st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hear strai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ratio of the horizontal displacement and the height of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hear modulus is 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3886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hear Modulus, Equ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is the shear modu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aterial having a large shear modulus is difficult to b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600200" y="1828800"/>
          <a:ext cx="3214800" cy="28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3214800" cy="28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029200" y="2286000"/>
            <a:ext cx="39085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ates of Mat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hear Modulus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is no volume change in this type of de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member the force is parallel to the cross-sectional are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ensile stress, the force is perpendicular to the cross-sectional are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lk Modulu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olume Elastic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modulus characterizes the response of an object to uniform squeez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se the forces are perpendicular to, and act on, all the surfa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: when an object is immersed in a flu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object undergoes a change in volume without a change in sha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lk Modulu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lume stress, ΔP, is the ratio of the force to the surface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also called the Pressure when dealing with flui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olume strain is equal to the ratio of the change in volume to the original volu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379260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lk Modulus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aterial with a large bulk modulus is difficult to compr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gative sign is included since an increase in pressure will produce a decrease in volu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 is always posi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mpressibil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reciprocal of the bulk modul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276720" y="1981080"/>
          <a:ext cx="218592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81080"/>
                    <a:ext cx="21859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tes on Moduli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ids have Young’s, Bulk, and Shear modul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quids have only bulk moduli, they will not undergo a shearing or tensile st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would flow inst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ltimate Strength of Material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ultimate strengt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a material is the maximum force per unit area the material can withstand before it breaks or fac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me materials are stronger in compression than in ten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st and Beam Arch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horizontal beam is supported by two colum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in Greek te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umns are closely spac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mited length of available st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 ultimate tensile strength of sagging stone b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38480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emicircular Arc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ed by the Rom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a wide roof span on narrow supporting colum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bility depends upon the compression of the wedge-shaped st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9337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othic Arc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used in Europe in the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emely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lying buttresses are needed to prevent the spreading of the arch supported by the tall, narrow colum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436428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ns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ensity of a substance of uniform composition is defined as its mass per unit volum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its are kg/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SI) or 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cg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 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1000 kg/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124080" y="3276720"/>
          <a:ext cx="1447920" cy="11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276720"/>
                    <a:ext cx="1447920" cy="11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li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definite volu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definite sha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lecules are held in specific lo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electrical fo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brate about equilibrium pos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modeled as springs connecting molec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390024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nsity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ensities of most liquids and solids vary slightly with changes in temperature and press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nsities of gases vary greatly with changes in temperature and press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higher normal densities of solids and liquids compared to gases implies that the average spacing between molecules in a gas is about 10 times greater than the solid or liq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cific Grav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pecific gravit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a substance is the ratio of its density to the density of water at 4° 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ensity of water at 4° C is 1000 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cific gravity is a unitless rat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 exerted by a fluid on a submerged object at any point is perpendicular to the surface of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752480" y="5105520"/>
                <a:ext cx="304956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348000" cy="49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easuring Press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pring is calibrated by a known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 the fluid exerts on the piston is then measu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657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ariation of Pressure with Dep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 fluid is at rest in a container, all portions of the fluid must be in static equilibr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points at the same depth must be at the same press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wise, the fluid would not be in equilibr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luid would flow from the higher pressure region to the lower pressure reg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and Dep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ine the darker region, assumed to be a flu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has a cross-sectional area 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s to a depth h below the surf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ee external forces act on the reg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92640" y="1828800"/>
            <a:ext cx="3714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and Depth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normal atmospheric press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01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 = 14.7 lb/in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essure does not depend upon the shape of the contai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1981080" cy="422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323856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ascal’s Princi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hange in pressure applied to an enclosed fluid is transmitted undimished to every point of the fluid and to the walls of the contain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recognized by Blaise Pascal, a French scientist (1623 – 166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ascal’s Principle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hydraulic press is an important application of Pascal’s Princi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used in hydraulic brakes, forklifts, car lift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371600" y="3657600"/>
                <a:ext cx="20574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429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bsolute vs. Gauge Press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ressure P is called the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absolut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ess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ember, P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 –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h is the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gaug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ess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Soli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ernal forces can be applied to the solid and compress the materi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model, the springs would be compres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the force is removed, the solid returns to its original shape and si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perty is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lasti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Measurement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nome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d of the U-shaped tube is open to the atmosphe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end is connected to the pressure to be measu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P in the system is greater than atmospheric pressure, h is posi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less, then h is nega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80340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Measurements: Barome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ed by Torricelli (1608 – 164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ong closed tube is filled with mercury and inverted in a dish of mercu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sures atmospheric pressure as ρ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95280"/>
            <a:ext cx="23698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lood Press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lood pressure is measured with a special type of manometer called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phygmomano-me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sure is measured in mm of mercu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551560" y="1522440"/>
            <a:ext cx="359244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Values in Various Uni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atmosphere of pressure is defined as the pressure equivalent to a column of mercury exactly 0.76 m tall at 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 where g = 9.806 65 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atmosphere (1 atm) 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6.0 cm of mercu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01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4.7 lb/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87 – 212 B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k mathematician, physicist, and engine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oyant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n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400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' Princi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y object completely or partially submerged in a fluid is buoyed up by a force whose magnitude is equal to the weight of the fluid displaced by the ob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oyant For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pward force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uoyant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hysical cause of the buoyant force is the pressure difference between the top and the bottom of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029200" y="2514600"/>
            <a:ext cx="40384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oyant Force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gnitude of the buoyant force always equals the weight of the displaced fl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buoyant force is the same for a totally submerged object of any size, shape, or dens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752480" y="3581280"/>
          <a:ext cx="4791240" cy="7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581280"/>
                    <a:ext cx="479124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oyant Force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buoyant force is exerted by the fl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ther an object sinks or floats depends on the relationship between the buoyant force and the wei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’ Principle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otally Submerged Obj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upward buoyant force is B=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flui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ownward gravitational force is w=mg=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et force is B-w=(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flui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rystalline Sol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oms have an ordered struc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example is sal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y spheres represent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een spheres represent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2951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otally Submerged Obj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 is less dense than the fl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 experiences a net upward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257800" y="2039760"/>
            <a:ext cx="322596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otally Submerged Object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 is more dense than the fl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t force is down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 accelerates down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153040" y="1905120"/>
            <a:ext cx="3319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’ Principle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oating Obj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object is in static equilibri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upward buoyant force is balanced by the downward force of gra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lume of the fluid displaced corresponds to the volume of the object beneath the fluid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’ Principle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oating Object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s ba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glects the buoyant force of the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523880" y="2971800"/>
                <a:ext cx="221004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ui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ui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051440" y="2138400"/>
            <a:ext cx="50925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uids in Motion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reamline Flo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eamline flow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ry particle that passes a particular point moves exactly along the smooth path followed by particles that passed the point earl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called laminar 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eamline is the pa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streamlines cannot cross each 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reamline at any point coincides with the direction of fluid velocity at that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reamline Flow,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251460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line flow shown around an auto in a wind 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971800" y="2286000"/>
            <a:ext cx="60199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uids in Motion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urbulent Flo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low becomes irregul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eds a certain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condition that causes abrupt changes in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dy currents are a characteristic of turbulent fl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urbulent Flow,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otating blade (dark area) forms a vortex in heated a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ick of the burner is at the bott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rbulent air flow occurs on both sides of the bl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365800" y="1905120"/>
            <a:ext cx="34891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uid Flow: Viscos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scosity is the degree of internal friction in the fl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internal friction is associated with the resistance between two adjacent layers of the fluid moving relative to each o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racteristics of an Ideal Flu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is nonvisco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re is no internal friction between adjacent lay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is incompr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s density is consta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motion is stea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s velocity, density, and pressure do not change in ti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moves without turbu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 eddy currents are pres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elements have zero angular velocity about its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morphous Sol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oms are arranged almost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 include g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362592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ation of Continu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duct of the cross-sectional area of a pipe and the fluid speed is a cons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ed is high where the pipe is narrow and speed is low where the pipe has a large diam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low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606920" y="1860480"/>
            <a:ext cx="415620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ation of Continuity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quation is a consequence of conservation of mass and a steady f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v = const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equivalent to the fact that the volume of fluid that enters one end of the tube in a given time interval equals the volume of fluid leaving the tube in the same interv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es the fluid is incompressible and there are no lea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aniel Bernoulli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700 – 178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wiss physicist and mathematic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Hydrodynam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did work that was the beginning of the kinetic theory of g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130720" y="1905120"/>
            <a:ext cx="3562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ernoulli’s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es pressure to fluid speed and ele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rnoulli’s equation is a consequence of Conservation of Energy applied to an ideal fl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es the fluid is incompressible and nonviscous, and flows in a nonturbulent, steady-state man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ernoulli’s Equation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es that the sum of the pressure, kinetic energy per unit volume, and the potential energy per unit volume has the same value at all points along a stream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209680" y="5105520"/>
                <a:ext cx="48769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ρ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an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Verdana"/>
              </a:rPr>
              <a:t>Applications of Bernoulli’s Principle: Measuring Speed</a:t>
            </a:r>
            <a:endParaRPr b="0" lang="en-US" sz="4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ws fluid flowing through a horizontal constricted pi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ed changes as diameter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used to measure the speed of the fluid 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iftly moving fluids exert less pressure than do slowly moving flui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40035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s</a:t>
            </a: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of Bernoulli’s Principle: Venturi Tub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height is higher in the constricted area of the tub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ndicates that the pressure is l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381640" y="1905120"/>
            <a:ext cx="3062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n Object Moving Through a Flu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ommon phenomena can be explained by Bernoulli’s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parti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general, an object moving through a fluid is acted upon by a net upward force as the result of any effect that causes the fluid to change its direction as it flows past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wiftly moving fluids exert less pressure than do slowing moving flui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 – Golf Bal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mples in the golf ball help move air along its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ll pushes the air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ton’s Third Law tells us the air must push up on the b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pinning ball travels farther than if it were not spi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394992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 – Airplane W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ir speed above the wing is greater than the speed be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ir pressure above the wing is less than the air pressure be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a net upward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if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factors are also invol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6259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qu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a definite volu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definite sha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ists at a higher temperature than soli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olecules “wander” through the liquid in a random fash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termolecular forces are not strong enough to keep the molecules in a fixed 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3060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urface Ten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 force on molecule A is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lled equally in all dir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 force on B is not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molecules above to act on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lled toward the interior of the flu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562720" y="2133720"/>
            <a:ext cx="303840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urface Tension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et effect of this pull on all the surface molecules is to make the surface of the liquid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s the surface area of the liquid as small as poss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 Water droplets take on a spherical shape since a sphere has the smallest surface area for a given volu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urface Tension on a Need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440" y="20178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rface tension allows the needle to float, even though the density of the steel in the needle is much higher than the density of the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eedle actually rests in a small depression in the liquid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ertical components of the force balance the we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38368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urface Tension,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rface tension is defined as the ratio of the magnitude of the surface tension force to the length along which the force ac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 units are N/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erms of energy, any equilibrium configuration of an object is one in which the energy is a minim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905120" y="3581280"/>
                <a:ext cx="914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easuring Surface Ten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rce is measured just as the ring breaks free from the fil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2L is due to the force being exerted on the inside and outside of the 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600200" y="3691080"/>
          <a:ext cx="1219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691080"/>
                    <a:ext cx="1219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334120" y="2057400"/>
            <a:ext cx="312876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inal Notes About Surface Ten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urface tension of liquids decreases with increasing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rface tension can be decreased by adding ingredients calle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urfacta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a liq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gent is an exam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 Closer Look at the Surface of Liqui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Cohesive forc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re forces between like molec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dhesive forc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re forces between unlike molec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hape of the surface depends upon the relative size of the cohesive and adhesive fo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quids in Contact with a Solid Surface – Case 1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esive forces are greater than the cohes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clings to the walls of the contai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“wets” the  su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5029200" y="3124080"/>
            <a:ext cx="402588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quids in Contact with a Solid Surface – Case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hesive forces are greater than the adhes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curves down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does not “wet” the su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145120" y="3174840"/>
            <a:ext cx="380988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tact Ang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, Φ &gt; 90° and cohesive forces are greater than adhes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b, Φ &lt; 90° and adhesive forces are greater than cohes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530360" y="1981080"/>
            <a:ext cx="6083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a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no definite volu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no definite sha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lecules are in constant random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lecules exert only weak forces on each o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erage distance between molecules is large compared to the size of the molec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apillary A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illary action is the result of surface tension and adhesive fo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iquid rises in the tube when adhesive forces are greater than cohesive fo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point of contact between the liquid and the solid, the upward forces are as shown in the dia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105520" y="1981080"/>
            <a:ext cx="37670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apillary Action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re, the cohesive forces are greater than the adhes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evel of the fluid in the tube will be below the surface of the surrounding fl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915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apillary Action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height to which the fluid is drawn into the tube is given b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200400" y="3276720"/>
                <a:ext cx="25909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iscous Fluid Flo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cosity refers to friction between the lay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yers in a viscous fluid have different veloc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elocity is greatest at the ce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hesive forces between the fluid and the walls slow down the fluid on the outs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5289480" y="1905120"/>
            <a:ext cx="3205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efficient of Viscos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e a fluid between two solid surf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orce is required to move the upper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η is the coeffic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units are N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gs units are Po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Poise = 0.1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828800" y="4114800"/>
                <a:ext cx="1143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403848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iseuille’s La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ate of flow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 fluid in a tube with pressure dif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457280" y="4467240"/>
          <a:ext cx="3106800" cy="15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4467240"/>
                    <a:ext cx="310680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876920" y="3124080"/>
            <a:ext cx="40258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ynold’s Numb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sufficiently high velocity, a fluid flow can change from streamline to turbulent f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nset of turbulence can be found by a factor called the Reynold’s Number, 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RN = 2000 or below, flow is stream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 2000 &lt;RN&lt;3000, the flow is uns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 RN = 3000 or above, the flow is turbul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2057400" y="3962520"/>
          <a:ext cx="170820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962520"/>
                    <a:ext cx="17082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ransport Phenomena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vement of a fluid may be due to differences in concent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opposed to movement due to a pressure dif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ntration is the number of molecules per unit volu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will flow from an area of high concentration to an area of low concent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cesse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ffus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osmo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ffusion and Fick’s La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lecules move from a region of high concentration to a region of low concent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ic equation for diffusion is given by Fick’s L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 is the diffusion coeffic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600200" y="4343400"/>
                <a:ext cx="63244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ffusio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at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ffu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ntration on the left is higher than on the right of the imaginary barr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of the molecules on the left can pass to the right, but few can pass from right to le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a net movement from the higher concentration to the lower concent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3530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lasma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s heated to a very high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y of the electrons are freed from the nucle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 is a collection of free, electrically charged 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smas exist inside sta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Osmosi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smosis is the movement of water from a region where its concentration is high, across a selectively permeable membrane, into a region where its concentration is l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electively permeable membra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one that allows passage of some molecules, but not oth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ion Through a Viscous Mediu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an object falls through a fluid, a viscous drag acts on 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esistive force on a small, spherical object of radius r falling through a viscous fluid is given by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toke’s Law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584360" y="5086440"/>
          <a:ext cx="292716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360" y="5086440"/>
                    <a:ext cx="2927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ion in a Viscou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ediu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52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the object falls, three forces act on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its speed increases, so does the resistive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a particular speed,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erminal spe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the net force is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427040" y="5257800"/>
          <a:ext cx="3090960" cy="10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7040" y="5257800"/>
                    <a:ext cx="309096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6629400" y="1447920"/>
            <a:ext cx="181440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erminal Velocity, Gener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okes’ Law will not work if the object is not spheric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sume the resistive force has a magnitude given by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k v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 is a coefficient to be determined experimental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terminal velocity will beco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2362320" y="5410080"/>
          <a:ext cx="320040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5410080"/>
                    <a:ext cx="320040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edimentation Rat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peed at which materials fall through a fluid is called t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dimentation 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important in clinical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te can be increased by increasing the effective value of 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can be done in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entrifu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entrifug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 angular speeds give the particles a large radial accel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ch greater than 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equation, g is replaced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3201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entrifuge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articles’ terminal velocity will be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articles with greatest mass will have the greatest terminal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st massive particles will settle out on the bottom of the test tube fir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981080" y="2895480"/>
          <a:ext cx="354960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95480"/>
                    <a:ext cx="354960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5T00:25:17Z</dcterms:created>
  <dc:creator>Marilyn Akins</dc:creator>
  <dc:description/>
  <dc:language>en-US</dc:language>
  <cp:lastModifiedBy> </cp:lastModifiedBy>
  <dcterms:modified xsi:type="dcterms:W3CDTF">2008-07-31T14:47:46Z</dcterms:modified>
  <cp:revision>32</cp:revision>
  <dc:subject/>
  <dc:title>Chapter 9</dc:title>
</cp:coreProperties>
</file>