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image50.jpeg" ContentType="image/jpeg"/>
  <Override PartName="/ppt/media/image16.jpeg" ContentType="image/jpeg"/>
  <Override PartName="/ppt/media/image27.jpeg" ContentType="image/jpeg"/>
  <Override PartName="/ppt/media/image5.wmf" ContentType="image/x-wmf"/>
  <Override PartName="/ppt/media/image17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5.jpeg" ContentType="image/jpeg"/>
  <Override PartName="/ppt/media/image29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5.wmf" ContentType="image/x-wmf"/>
  <Override PartName="/ppt/media/image26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1.wmf" ContentType="image/x-wmf"/>
  <Override PartName="/ppt/media/image8.jpeg" ContentType="image/jpeg"/>
  <Override PartName="/ppt/media/image39.jpeg" ContentType="image/jpeg"/>
  <Override PartName="/ppt/media/image32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38.jpeg" ContentType="image/jpeg"/>
  <Override PartName="/ppt/media/image13.wmf" ContentType="image/x-wmf"/>
  <Override PartName="/ppt/media/image40.jpeg" ContentType="image/jpeg"/>
  <Override PartName="/ppt/media/image43.wmf" ContentType="image/x-wmf"/>
  <Override PartName="/ppt/media/image60.wmf" ContentType="image/x-wmf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6.wmf" ContentType="image/x-wmf"/>
  <Override PartName="/ppt/media/image52.jpeg" ContentType="image/jpeg"/>
  <Override PartName="/ppt/media/image53.wmf" ContentType="image/x-wmf"/>
  <Override PartName="/ppt/media/image54.jpeg" ContentType="image/jpeg"/>
  <Override PartName="/ppt/media/image5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D1F-0ABE-47AB-B826-12046663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731-E19C-4B67-9E96-A9DAC81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A04-5FD7-4D08-9C5B-88C25DD6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1FD-4A3A-40FB-B370-C86A6BF8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D7DA-CD4D-47D0-B2EF-E576A52B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82D6-6D30-42C7-9523-3E7A0B2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687B-6794-4101-BEAF-F673BDEF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01B9-4497-40BC-88F7-6128AF12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84D4-B376-440D-9C91-498F7D39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0476-1522-403D-BF2A-D149D83F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3070-5B8E-4A4C-A855-30100A8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F13-D17D-4305-9229-C726B712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A35-E964-49A0-9C20-9D505F9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AFE3-517F-452E-85D7-BF76695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F5F1-E200-41A3-86FB-4D03DC03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DDD9-F027-4B19-B344-E66EFDD7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3B43-D2F2-4A59-91B3-ACA66B15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A8F-7E41-4239-A9C3-A3BBE5B1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444-6FE7-4315-B21A-C1DE3A6A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BBB-AD19-45A6-A718-5A82A11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242-3E0B-4931-AB4D-99BCD640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B93-0521-47E9-8D6E-C00FFDE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F54-A314-430A-94F6-6056F6A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F40-C7FA-436B-8AC4-8CEDC33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42C2-4D31-4435-8E0F-D6019E5CA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62A-6033-49AC-9C43-D0828D28E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and Flu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ects the motion of stars in galax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t 2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unts for acceleration of the expansion of the unive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s 70% of al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formation of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are deform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change the shape or size (or both) of an object through the application of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forces are removed, the object tends to its original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ject undergoing this type of deformation exhib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force per unit area causing the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measure of the amount of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constant of proportionality between stress and str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ufficiently small stresses, the stress is directly proportional to the st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tant of proportionality depends on the material being deformed and the nature of the de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Modul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astic modulus can be thought of as the stiffness of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elastic modulus is very stiff and difficult to de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ous to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5410080"/>
          <a:ext cx="61610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10080"/>
                    <a:ext cx="6161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: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in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le stress is the ratio of the external force to the cross-sectional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le is because the bar is under 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astic modulu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oung’s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48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stress are Pascals, 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nsile strain is the ratio of the change in length to the original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in is dimension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29000" y="5105520"/>
          <a:ext cx="18018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05520"/>
                    <a:ext cx="1801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’s modulus applies to a stress of either tension or com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possible to exce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lim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longer directly propor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rily does not return to its original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49440"/>
            <a:ext cx="3630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ea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ress continues, it surpasses i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ltimate strength is the greatest stress the object can withstand without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eaking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brittle material, the breaking point is just beyond its ultimate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ductile material, after passing the ultimate strength the material thins and stretches at a lower stress level before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of Shape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s may be parallel to one of the object’s 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s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atio of the horizontal displacement and the height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hear modulus is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is the shear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terial having a large shear modulus is difficult to b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1828800"/>
          <a:ext cx="32148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32148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3908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is no volume change in this type of de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the force is parallel to the cross-sectional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nsile stress, the force is perpendicular to the cross-sectional are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olume Elasti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modulus characterizes the response of an object to uniform squ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the forces are perpendicular to, and act on, all the surf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when an object is immersed in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undergoes a change in volume without a change in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stress, ΔP, is the ratio of the force to the surfac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called the Pressure when dealing with flu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olume strain is equal to the ratio of the change in volume to the original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7926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bulk modulus is difficult to comp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gative sign is included since an increase in pressure will produce a decrease i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is alway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ressi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reciprocal of the bulk mod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76720" y="1981080"/>
          <a:ext cx="21859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2185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Modu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have Young’s, Bulk, and Shear modu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s have only bulk moduli, they will not undergo a shearing or tensile st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would flow inst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ltimate Strength of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material is the maximum force per unit area the material can withstand before it breaks or fa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aterials are stronger in compression than in 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t and Beam Arch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beam is supported by two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Greek te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are closely sp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length of available 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ultimate tensile strength of sagging stone b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84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micircular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the Ro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wide roof span on narrow supporting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bility depends upon the compression of the wedge-shaped s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933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thic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used in Europe in th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l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ying buttresses are needed to prevent the spreading of the arch supported by the tall, narrow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364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y of a substance of uniform composition is defined as its mass per unit vol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I) or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1000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24080" y="3276720"/>
          <a:ext cx="14479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144792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cules are held in specific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lectrical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brate about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modeled as springs connecting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9002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ies of most liquids and solids vary sligh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sities of gases vary grea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igher normal densities of solids and liquids compared to gases implies that the average spacing between molecules in a gas is about 10 times greater than the solid or liq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the ratio of its density to the density of water at 4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water at 4° C is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gravity is a unitless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exerted by a fluid on a submerged object at any point is perpendicular to the surface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752480" y="5105520"/>
                <a:ext cx="30495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3480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calibrated by a known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the fluid exerts on the piston is then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ation of Pressure with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fluid is at rest in a container, all portions of the fluid must be in static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ints at the same depth must be at the same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, the fluid would not be in equilib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id would flow from the higher pressure region to the lower pressur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darker region, assumed to be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a cross-sectional are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s to a depth h below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external forces act o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92640" y="1828800"/>
            <a:ext cx="371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normal atmospheric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 = 14.7 lb/in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does not depend upon the shape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1981080" cy="42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2385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hange in pressure applied to an enclosed fluid is transmitted undimished to every point of the fluid and to the walls of the contain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recognized by Blaise Pascal, a French scientist (1623 – 166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ydraulic press is an important application of Pascal’s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d in hydraulic brakes, forklifts, car lif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71600" y="365760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2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solute vs. Gauge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sure P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P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is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gau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s can be applied to the solid and compress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odel, the springs would be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orce is removed, the solid returns to its original shape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perty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n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d of the U-shaped tube is open to the atmosp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end is connected to the pressure to be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 in the system is greater than atmospheric pressure, h i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less, then h is neg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34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 Bar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by Torricelli (1608 – 164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 closed tube is filled with mercury and inverted in a dish of merc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atmospheric pressure as ρ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698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od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od pressure is measured with a special type of manometer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ygmomano-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is measured in m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51560" y="1522440"/>
            <a:ext cx="359244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Values in Various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of pressure is defined as the pressure equivalent to a column of mercury exactly 0.76 m t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 where g = 9.806 6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(1 atm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6.0 c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7 l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7 – 212 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k mathematician, physicist, and engin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'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bject completely or partially submerged in a fluid is buoyed up by a force whose magnitude is equal to the weight of the fluid displaced by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ward forc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ysical cause of the buoyant force is the pressure difference between the top and the bottom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40384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buoyant force always equals the weight of the displaced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the same for a totally submerged object of any size, shape, or d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52480" y="3581280"/>
          <a:ext cx="47912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4791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exerted by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ther an object sinks or floats depends on the relationship between the buoyant force and the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ownward gravitational force is w=mg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is B-w=(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rystalline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have an ordered struc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ample is sa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y spheres represent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spheres represent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95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less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experiences a net upwar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57800" y="2039760"/>
            <a:ext cx="32259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more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accelerat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153040" y="1905120"/>
            <a:ext cx="3319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is in static 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alanced by the downward force of gra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me of the fluid displaced corresponds to the volume of the object beneath the fluid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s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lects the buoyant force of the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523880" y="2971800"/>
                <a:ext cx="2210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051440" y="2138400"/>
            <a:ext cx="50925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f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article that passes a particular point moves exactly along the smooth path followed by particles that passed the point ear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lamin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is the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treamlines cannot cross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amline at any point coincides with the direction of fluid velocity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5146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line flow shown around an auto in a win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60199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low becomes ir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eds a certa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condition that causes abrupt changes 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dy currents are a characteristic of turbulent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tating blade (dark area) forms a vortex in heated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ck of the burner is at the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rbulent air flow occurs on both sides of the bl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65800" y="1905120"/>
            <a:ext cx="3489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 Flow: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cosity is the degree of internal friction in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nal friction is associated with the resistance between two adjacent layers of the fluid moving relative to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nonvisc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internal friction between adjacent l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incompr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density is cons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tion is ste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velocity, density, and pressure do not change in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ves without turbu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eddy currents are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ments have zero angular velocity about its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orphous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are arranged almost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includ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6259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he cross-sectional area of a pipe and the fluid speed is a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is high where the pipe is narrow and speed is low where the pipe has a large di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ow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06920" y="1860480"/>
            <a:ext cx="41562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ation is a consequence of conservation of mass and a steady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 =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quivalent to the fact that the volume of fluid that enters one end of the tube in a given time interval equals the volume of fluid leaving the tube in the sa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the fluid is incompressible and there are no lea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niel Bernoul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00 – 178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ss physicist and mathematic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rodyna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did work that was the beginning of the kinetic theory of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130720" y="1905120"/>
            <a:ext cx="35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s pressure to fluid speed and ele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noulli’s equation is a consequence of Conservation of Energy applied to an ideal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e fluid is incompressible and nonviscous, and flows in a nonturbulent, steady-state m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s that the sum of the pressure, kinetic energy per unit volume, and the potential energy per unit volume has the same value at all points along a stream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09680" y="5105520"/>
                <a:ext cx="4876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s of Bernoulli’s Principle: Measuring Speed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s fluid flowing through a horizontal constricted 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changes as diameter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measure the speed of the flui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ftly moving fluids exert less pressure than do slowly moving flu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035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</a:t>
            </a: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f Bernoulli’s Principle: Venturi Tub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eight is higher in the constricted area of the tu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ndicates that the pressure is 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81640" y="1905120"/>
            <a:ext cx="30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Object Moving Through a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ommon phenomena can be explained by Bernoulli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par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n object moving through a fluid is acted upon by a net upward force as the result of any effect that causes the fluid to change its direction as it flows pas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ftly moving fluids exert less pressure than do slowing moving flu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Golf B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mples in the golf ball help move air along it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l pushes the air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Third Law tells us the air must push up on the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inning ball travels farther than if it were not sp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9499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Airplane W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speed above the wing is greater than the speed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pressure above the wing is less than the air pressure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upward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actors are also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25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s at a higher temperature than sol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“wander” through the liquid in a random fash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molecular forces are not strong enough to keep the molecules in a fixed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06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molecule A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equally in al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B is not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lecules above to act o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toward the interior of the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0384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effect of this pull on all the surface molecules is to make the surface of the liquid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s the surface area of the liquid as small as poss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Water droplets take on a spherical shape since a sphere has the smallest surface area for a give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 on a Need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ace tension allows the needle to float, even though the density of the steel in the needle is much higher than the density of the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edle actually rests in a small depression in the liquid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ical components of the force balance the w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836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tension is defined as the ratio of the magnitude of the surface tension force to the length along which the force a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N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rms of energy, any equilibrium configuration of an object is one in which the energy is a min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05120" y="358128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is measured just as the ring breaks free from the f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2L is due to the force being exerted on the inside and outside of the 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00200" y="3691080"/>
          <a:ext cx="1219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91080"/>
                    <a:ext cx="1219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1287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nal Notes About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rface tension of liquids decreases with increasing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face tension can be decreased by adding ingredient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rfacta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a 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gent is an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loser Look at the Surface of Liqu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un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ape of the surface depends upon the relative size of the cohesive and adhesive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esive forces are greater than the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lings to the walls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“wets” the 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4025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urv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does not “wet”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145120" y="3174840"/>
            <a:ext cx="38098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tact Ang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, Φ &gt; 90° and cohesive forces are greater than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b, Φ &lt; 90° and adhesive forces are greater than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8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volu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are in constant random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exert only weak forces on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distance between molecules is large compared to the size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y action is the result of surface tension and ad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quid rises in the tube when adhesive forces are greater than co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point of contact between the liquid and the solid, the upward forces are as shown in the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767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, the 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vel of the fluid in the tube will be below the surface of the surrounding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91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height to which the fluid is drawn into the tube is given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200400" y="3276720"/>
                <a:ext cx="25909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iscous Fluid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cosity refers to friction between th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in a viscous fluid have different velo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locity is greatest at the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esive forces between the fluid and the walls slow down the fluid on the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289480" y="1905120"/>
            <a:ext cx="32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efficient of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a fluid between two solid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ce is required to move the uppe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η is the coeffic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units are N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gs units are Po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Poise = 0.1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828800" y="4114800"/>
                <a:ext cx="1143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0384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iseuille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te of flo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fluid in a tube with pressure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57280" y="4467240"/>
          <a:ext cx="31068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4467240"/>
                    <a:ext cx="31068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124080"/>
            <a:ext cx="40258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ynold’s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sufficiently high velocity, a fluid flow can change from streamline to turbulent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nset of turbulence can be found by a factor called the Reynold’s Number, 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RN = 2000 or below, flow is stream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2000 &lt;RN&lt;3000, the flow is un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RN = 3000 or above, the flow is turbul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057400" y="3962520"/>
          <a:ext cx="1708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962520"/>
                    <a:ext cx="1708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port Phenomen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ment of a fluid may be due to differences in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movement due to a pressure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is the number of molecules per uni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will flow from an area of high concentration to an area of low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osm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 and Fick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move from a region of high concentration to a region of low concen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equation for diffusion is given by Fick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is the diffusion coeffic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600200" y="4343400"/>
                <a:ext cx="63244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ffus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on the left is higher than on the right of the imaginary barr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of the molecules on the left can pass to the right, but few can pass from right to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movement from the higher concentration to the lower concen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 heated to a very hig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of the electrons are freed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is a collection of free, electrically charged 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s exist inside st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smosi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mosis is the movement of water from a region where its concentration is high, across a selectively permeable membrane, into a region where its concentration is 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that allows passage of some molecules, but not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Through a Viscous 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n object falls through a fluid, a viscous drag acts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istive force on a small, spherical object of radius r falling through a viscous fluid is given b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toke’s La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84360" y="5086440"/>
          <a:ext cx="2927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5086440"/>
                    <a:ext cx="2927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in a Visco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object falls, three forces act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s speed increases, so does the resistiv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a particular speed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inal sp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net force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27040" y="5257800"/>
          <a:ext cx="309096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5257800"/>
                    <a:ext cx="30909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1814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rminal Velocity, Gener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okes’ Law will not work if the object is not spher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e the resistive force has a magnitude given by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k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 is a coefficient to be determined experiment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erminal velocity will beco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362320" y="5410080"/>
          <a:ext cx="32004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410080"/>
                    <a:ext cx="32004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dimentation Ra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at which materials fall through a fluid is called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dimentat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in clinic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can be increased by increasing the effective value of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an be done 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angular speeds give the particles a large radial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h greater than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quation, g is replac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0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’ terminal velocity will be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 with greatest mass will have the greatest terminal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massive particles will settle out on the bottom of the test tube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981080" y="2895480"/>
          <a:ext cx="35496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35496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0:25:17Z</dcterms:created>
  <dc:creator>Marilyn Akins</dc:creator>
  <dc:description/>
  <dc:language>en-US</dc:language>
  <cp:lastModifiedBy> </cp:lastModifiedBy>
  <dcterms:modified xsi:type="dcterms:W3CDTF">2008-07-31T14:47:46Z</dcterms:modified>
  <cp:revision>32</cp:revision>
  <dc:subject/>
  <dc:title>Chapter 9</dc:title>
</cp:coreProperties>
</file>