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6.jpeg" ContentType="image/jpeg"/>
  <Override PartName="/ppt/media/image50.jpeg" ContentType="image/jpeg"/>
  <Override PartName="/ppt/media/image16.jpeg" ContentType="image/jpeg"/>
  <Override PartName="/ppt/media/image27.jpeg" ContentType="image/jpeg"/>
  <Override PartName="/ppt/media/image5.wmf" ContentType="image/x-wmf"/>
  <Override PartName="/ppt/media/image17.wmf" ContentType="image/x-wmf"/>
  <Override PartName="/ppt/media/image31.jpeg" ContentType="image/jpeg"/>
  <Override PartName="/ppt/media/image10.wmf" ContentType="image/x-wmf"/>
  <Override PartName="/ppt/media/image4.jpeg" ContentType="image/jpeg"/>
  <Override PartName="/ppt/media/image25.jpeg" ContentType="image/jpeg"/>
  <Override PartName="/ppt/media/image12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5.jpeg" ContentType="image/jpeg"/>
  <Override PartName="/ppt/media/image29.wmf" ContentType="image/x-wmf"/>
  <Override PartName="/ppt/media/image19.jpeg" ContentType="image/jpeg"/>
  <Override PartName="/ppt/media/image59.jpeg" ContentType="image/jpeg"/>
  <Override PartName="/ppt/media/image42.jpeg" ContentType="image/jpeg"/>
  <Override PartName="/ppt/media/image35.jpeg" ContentType="image/jpeg"/>
  <Override PartName="/ppt/media/image1.jpeg" ContentType="image/jpeg"/>
  <Override PartName="/ppt/media/image18.jpeg" ContentType="image/jpeg"/>
  <Override PartName="/ppt/media/image55.wmf" ContentType="image/x-wmf"/>
  <Override PartName="/ppt/media/image26.jpeg" ContentType="image/jpeg"/>
  <Override PartName="/ppt/media/image41.jpeg" ContentType="image/jpeg"/>
  <Override PartName="/ppt/media/image14.jpeg" ContentType="image/jpeg"/>
  <Override PartName="/ppt/media/image22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51.wmf" ContentType="image/x-wmf"/>
  <Override PartName="/ppt/media/image8.jpeg" ContentType="image/jpeg"/>
  <Override PartName="/ppt/media/image39.jpeg" ContentType="image/jpeg"/>
  <Override PartName="/ppt/media/image32.jpeg" ContentType="image/jpeg"/>
  <Override PartName="/ppt/media/image33.jpeg" ContentType="image/jpeg"/>
  <Override PartName="/ppt/media/image58.wmf" ContentType="image/x-wmf"/>
  <Override PartName="/ppt/media/image34.jpeg" ContentType="image/jpeg"/>
  <Override PartName="/ppt/media/image38.jpeg" ContentType="image/jpeg"/>
  <Override PartName="/ppt/media/image13.wmf" ContentType="image/x-wmf"/>
  <Override PartName="/ppt/media/image40.jpeg" ContentType="image/jpeg"/>
  <Override PartName="/ppt/media/image43.wmf" ContentType="image/x-wmf"/>
  <Override PartName="/ppt/media/image60.wmf" ContentType="image/x-wmf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6.wmf" ContentType="image/x-wmf"/>
  <Override PartName="/ppt/media/image52.jpeg" ContentType="image/jpeg"/>
  <Override PartName="/ppt/media/image53.wmf" ContentType="image/x-wmf"/>
  <Override PartName="/ppt/media/image54.jpeg" ContentType="image/jpeg"/>
  <Override PartName="/ppt/media/image5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97B1-E582-4D41-80E7-4358377A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3156-F174-4A5B-A05D-900D6DAC0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A4D0-A526-4C7A-9D5E-D6F0E596F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7E60-C4E3-4D74-9D8B-53E7949B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7E0D-9189-48A5-8232-A973F8F65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B10C7-7034-4E07-B22E-F62CD4F41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F4B4-4C9E-414F-AB58-58D2EDF4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6D0E-12C4-43B5-8D57-26995AC3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AC26-FE25-490B-A997-F593FC153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11102-78FD-446E-BD0D-B6E395374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6812-6BA0-49A4-8179-43196587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6CFE-1DA7-4BE6-BB5B-78CBA9B4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59D1-3EA5-439D-ADE5-4BFD0E81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51C8-4E7E-4B32-8155-F332E1C5B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3E9E-40A0-4B57-9C33-A385423E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F27A-9390-4C3F-B113-F4EB8651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020E9-8DC7-4EBF-B414-E2E960428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1525-489D-4D73-A6CB-4733DD93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A358-C604-4B9C-8185-548BA86EE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947C-0B07-4533-B411-2D0A3DB8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27DD-44D2-46F6-8EFE-39AE7480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91EA-5BE0-4D21-BB04-61F4BE07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FDD7-8F77-406F-A030-7A19F745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90C3-4C63-498E-A741-2FB81C18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17000" indent="-20340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4160" indent="-20340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830960" indent="-20340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347CC-C12B-4CEB-8008-21C6A459A7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2C888-2103-4E6F-827C-7C9EDFBA123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image" Target="../media/image57.jpeg"/><Relationship Id="rId4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374920"/>
            <a:ext cx="777240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pter 9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ids and Flui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ypes of Mat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rmal ma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bout 5% of total ma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rk mat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fects the motion of stars in galax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be as much at 25% of total ma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rk energ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ounts for acceleration of the expansion of the univer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y be as much as 70% of all mat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formation of Solid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objects are deform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possible to change the shape or size (or both) of an object through the application of external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 the forces are removed, the object tends to its original shap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bject undergoing this type of deformation exhibit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lastic behavi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astic Properti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tres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force per unit area causing the de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trai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a measure of the amount of de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lastic modulu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constant of proportionality between stress and strai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sufficiently small stresses, the stress is directly proportional to the strai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constant of proportionality depends on the material being deformed and the nature of the de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astic Modulu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elastic modulus can be thought of as the stiffness of the materi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aterial with a large elastic modulus is very stiff and difficult to defor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ogous to the spring cons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1981080" y="5410080"/>
          <a:ext cx="6161040" cy="5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5410080"/>
                    <a:ext cx="616104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Young’s Modulus: 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asticity in Lengt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nsile stress is the ratio of the external force to the cross-sectional ar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nsile is because the bar is under tens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elastic modulus is called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Young’s modu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572000" y="2590920"/>
            <a:ext cx="4483080" cy="327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Young’s Modulus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 units of stress are Pascals, P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 Pa = 1 N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tensile strain is the ratio of the change in length to the original length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ain is dimensionl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3429000" y="5105520"/>
          <a:ext cx="1801800" cy="112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5105520"/>
                    <a:ext cx="1801800" cy="112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Young’s Modulus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Young’s modulus applies to a stress of either tension or compres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 is possible to exce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elastic limi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mate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longer directly proportio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dinarily does not return to its original lengt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5257800" y="2449440"/>
            <a:ext cx="363060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reak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stress continues, it surpasses its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ultimate streng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ltimate strength is the greatest stress the object can withstand without brea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breaking point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 brittle material, the breaking point is just beyond its ultimate strengt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a ductile material, after passing the ultimate strength the material thins and stretches at a lower stress level before brea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hear Modulu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lasticity of Shape 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ces may be parallel to one of the object’s f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tress is called a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hear st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shear strai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s the ratio of the horizontal displacement and the height of the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hear modulus is 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5029200" y="2743200"/>
            <a:ext cx="3886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hear Modulus, Equation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 is the shear modulu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material having a large shear modulus is difficult to be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600200" y="1828800"/>
          <a:ext cx="3214800" cy="28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28800"/>
                    <a:ext cx="3214800" cy="28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029200" y="2286000"/>
            <a:ext cx="39085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ates of Mat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qu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s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hear Modulus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re is no volume change in this type of de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member the force is parallel to the cross-sectional are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ensile stress, the force is perpendicular to the cross-sectional are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ulk Modulu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olume Elastic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modulus characterizes the response of an object to uniform squeez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se the forces are perpendicular to, and act on, all the surfa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: when an object is immersed in a flu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object undergoes a change in volume without a change in sha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ulk Modulus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olume stress, ΔP, is the ratio of the force to the surface ar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is also called the Pressure when dealing with fluid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olume strain is equal to the ratio of the change in volume to the original volu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3792600" cy="37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ulk Modulus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material with a large bulk modulus is difficult to compr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egative sign is included since an increase in pressure will produce a decrease in volu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 is always posi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ompressibilit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the reciprocal of the bulk modul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276720" y="1981080"/>
          <a:ext cx="2185920" cy="98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1981080"/>
                    <a:ext cx="2185920" cy="98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Notes on Moduli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lids have Young’s, Bulk, and Shear modul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quids have only bulk moduli, they will not undergo a shearing or tensile str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quid would flow inst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Ultimate Strength of Material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ultimate strength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a material is the maximum force per unit area the material can withstand before it breaks or fact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me materials are stronger in compression than in tens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st and Beam Arch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horizontal beam is supported by two colum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sed in Greek te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lumns are closely spac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mited length of available st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w ultimate tensile strength of sagging stone be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0" y="2057400"/>
            <a:ext cx="438480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emicircular Arc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veloped by the Rom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lows a wide roof span on narrow supporting colum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bility depends upon the compression of the wedge-shaped st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93372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othic Arc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7720" y="20574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rst used in Europe in the 1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entu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tremely hi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lying buttresses are needed to prevent the spreading of the arch supported by the tall, narrow colum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4364280" cy="45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ns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ensity of a substance of uniform composition is defined as its mass per unit volume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nits are kg/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SI) or 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(cg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 g/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1000 kg/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124080" y="3276720"/>
          <a:ext cx="1447920" cy="115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3276720"/>
                    <a:ext cx="1447920" cy="11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olid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definite volu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ve definite sha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olecules are held in specific loc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y electrical forc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brate about equilibrium posi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modeled as springs connecting molec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105520" y="2209680"/>
            <a:ext cx="3900240" cy="37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ensity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densities of most liquids and solids vary slightly with changes in temperature and press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nsities of gases vary greatly with changes in temperature and press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higher normal densities of solids and liquids compared to gases implies that the average spacing between molecules in a gas is about 10 times greater than the solid or liq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pecific Grav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pecific gravit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of a substance is the ratio of its density to the density of water at 4° 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density of water at 4° C is 1000 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pecific gravity is a unitless ratio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rce exerted by a fluid on a submerged object at any point is perpendicular to the surface of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752480" y="5105520"/>
                <a:ext cx="304956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≡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348000" cy="49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easuring Pressu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pring is calibrated by a known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rce the fluid exerts on the piston is then measu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6576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ariation of Pressure with Dept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 fluid is at rest in a container, all portions of the fluid must be in static equilibri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 points at the same depth must be at the same press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wise, the fluid would not be in equilibriu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luid would flow from the higher pressure region to the lower pressure reg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 and Depth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ine the darker region, assumed to be a flu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t has a cross-sectional area 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tends to a depth h below the surfa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ree external forces act on the reg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192640" y="1828800"/>
            <a:ext cx="37148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 and Depth equ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normal atmospheric pressu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013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5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 = 14.7 lb/in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essure does not depend upon the shape of the contain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1981080" cy="42228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5410080" y="1828800"/>
            <a:ext cx="3238560" cy="48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ascal’s Princi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change in pressure applied to an enclosed fluid is transmitted undimished to every point of the fluid and to the walls of the container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rst recognized by Blaise Pascal, a French scientist (1623 – 166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ascal’s Principle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91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hydraulic press is an important application of Pascal’s Princip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used in hydraulic brakes, forklifts, car lift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371600" y="3657600"/>
                <a:ext cx="2057400" cy="102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572000" y="2286000"/>
            <a:ext cx="4294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bsolute vs. Gauge Pressu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pressure P is called the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absolut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ess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ember, P =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 –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h is the 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gaug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ress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re About Solid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45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ternal forces can be applied to the solid and compress the materi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he model, the springs would be compres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the force is removed, the solid returns to its original shape and siz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perty is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elasti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 Measurement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anome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1911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e end of the U-shaped tube is open to the atmosphe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end is connected to the pressure to be measur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P in the system is greater than atmospheric pressure, h is posi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less, then h is negativ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105520" y="2057400"/>
            <a:ext cx="3803400" cy="44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 Measurements: Baromet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ed by Torricelli (1608 – 1647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long closed tube is filled with mercury and inverted in a dish of mercu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sures atmospheric pressure as ρg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248520" y="1295280"/>
            <a:ext cx="23698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lood Pressur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lood pressure is measured with a special type of manometer called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phygmomano-me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ssure is measured in mm of mercu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551560" y="1522440"/>
            <a:ext cx="3592440" cy="53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ressure Values in Various Unit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atmosphere of pressure is defined as the pressure equivalent to a column of mercury exactly 0.76 m tall at 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C where g = 9.806 65 m/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atmosphere (1 atm) =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6.0 cm of mercu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01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P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4.7 lb/i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chimede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87 – 212 B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ek mathematician, physicist, and engine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oyant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n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4006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chimedes' Princi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y object completely or partially submerged in a fluid is buoyed up by a force whose magnitude is equal to the weight of the fluid displaced by the obje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uoyant Forc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upward force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buoyant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hysical cause of the buoyant force is the pressure difference between the top and the bottom of the objec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5029200" y="2514600"/>
            <a:ext cx="403848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uoyant Force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agnitude of the buoyant force always equals the weight of the displaced flu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buoyant force is the same for a totally submerged object of any size, shape, or dens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1752480" y="3581280"/>
          <a:ext cx="4791240" cy="71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3581280"/>
                    <a:ext cx="4791240" cy="7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uoyant Force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buoyant force is exerted by the flu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ther an object sinks or floats depends on the relationship between the buoyant force and the weig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chimedes’ Principle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otally Submerged Objec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upward buoyant force is B=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flui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bj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downward gravitational force is w=mg=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bj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bj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et force is B-w=(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flui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ρ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bj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)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obj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rystalline Soli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oms have an ordered structu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example is sal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y spheres represent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een spheres represent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2951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otally Submerged Objec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ject is less dense than the fl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ject experiences a net upward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257800" y="2039760"/>
            <a:ext cx="322596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otally Submerged Object,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ject is more dense than the fl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net force is downw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object accelerates downw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153040" y="1905120"/>
            <a:ext cx="33195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chimedes’ Principle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oating Objec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object is in static equilibri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upward buoyant force is balanced by the downward force of grav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lume of the fluid displaced corresponds to the volume of the object beneath the fluid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rchimedes’ Principle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oating Object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orces bal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glects the buoyant force of the 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523880" y="2971800"/>
                <a:ext cx="2210040" cy="12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uid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flui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obj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4051440" y="2138400"/>
            <a:ext cx="5092560" cy="25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uids in Motion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reamline Flo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eamline flow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very particle that passes a particular point moves exactly along the smooth path followed by particles that passed the point earl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so called laminar 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reamline is the pa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fferent streamlines cannot cross each 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treamline at any point coincides with the direction of fluid velocity at that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treamline Flow,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2514600"/>
            <a:ext cx="213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eamline flow shown around an auto in a wind tun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971800" y="2286000"/>
            <a:ext cx="6019920" cy="41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uids in Motion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urbulent Flo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flow becomes irregula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eds a certain velo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condition that causes abrupt changes in velo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ddy currents are a characteristic of turbulent flo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urbulent Flow, Examp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otating blade (dark area) forms a vortex in heated ai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wick of the burner is at the bott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urbulent air flow occurs on both sides of the blad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365800" y="1905120"/>
            <a:ext cx="34891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luid Flow: Viscos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iscosity is the degree of internal friction in the flu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internal friction is associated with the resistance between two adjacent layers of the fluid moving relative to each o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haracteristics of an Ideal Flui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id is nonvisco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re is no internal friction between adjacent lay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id is incompressi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s density is consta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id motion is stea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ts velocity, density, and pressure do not change in ti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id moves without turbule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 eddy currents are pres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elements have zero angular velocity about its cent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morphous Soli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oms are arranged almost random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 include gla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29200" y="2133720"/>
            <a:ext cx="3625920" cy="35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quation of Continu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=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roduct of the cross-sectional area of a pipe and the fluid speed is a cons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eed is high where the pipe is narrow and speed is low where the pipe has a large diamet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v is called the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flow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606920" y="1860480"/>
            <a:ext cx="415620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Equation of Continuity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equation is a consequence of conservation of mass and a steady f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v = consta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equivalent to the fact that the volume of fluid that enters one end of the tube in a given time interval equals the volume of fluid leaving the tube in the same interv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051560" indent="-2102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umes the fluid is incompressible and there are no lea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aniel Bernoulli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700 – 178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wiss physicist and mathematic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ot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Hydrodynam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did work that was the beginning of the kinetic theory of ga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5130720" y="1905120"/>
            <a:ext cx="35625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ernoulli’s Equ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lates pressure to fluid speed and elev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rnoulli’s equation is a consequence of Conservation of Energy applied to an ideal fl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mes the fluid is incompressible and nonviscous, and flows in a nonturbulent, steady-state mann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Bernoulli’s Equation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tes that the sum of the pressure, kinetic energy per unit volume, and the potential energy per unit volume has the same value at all points along a streamlin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209680" y="5105520"/>
                <a:ext cx="48769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ρ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ρ</m:t>
                    </m:r>
                    <m:r>
                      <m:rPr>
                        <m:lit/>
                        <m:nor/>
                      </m:rPr>
                      <m:t xml:space="preserve">gy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an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3399"/>
                </a:solidFill>
                <a:latin typeface="Verdana"/>
              </a:rPr>
              <a:t>Applications of Bernoulli’s Principle: Measuring Speed</a:t>
            </a:r>
            <a:endParaRPr b="0" lang="en-US" sz="4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hows fluid flowing through a horizontal constricted pi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peed changes as diameter chang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n be used to measure the speed of the fluid f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wiftly moving fluids exert less pressure than do slowly moving flui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4876920" y="2514600"/>
            <a:ext cx="40035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s</a:t>
            </a:r>
            <a:r>
              <a:rPr b="0" lang="en-US" sz="36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of Bernoulli’s Principle: Venturi Tub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height is higher in the constricted area of the tub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indicates that the pressure is low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5381640" y="1905120"/>
            <a:ext cx="3062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n Object Moving Through a Flui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y common phenomena can be explained by Bernoulli’s eq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least partial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general, an object moving through a fluid is acted upon by a net upward force as the result of any effect that causes the fluid to change its direction as it flows past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wiftly moving fluids exert less pressure than do slowing moving flui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 – Golf Bal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dimples in the golf ball help move air along its su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ll pushes the air dow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wton’s Third Law tells us the air must push up on the bal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pinning ball travels farther than if it were not spinn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4952880" y="2743200"/>
            <a:ext cx="394992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pplication – Airplane Wing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ir speed above the wing is greater than the speed be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ir pressure above the wing is less than the air pressure be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a net upward for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lled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lif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her factors are also involv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362592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iquid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572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as a definite volu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definite shap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ists at a higher temperature than soli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molecules “wander” through the liquid in a random fash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termolecular forces are not strong enough to keep the molecules in a fixed posi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34120" y="2133720"/>
            <a:ext cx="3060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urface Ten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t force on molecule A is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lled equally in all dire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t force on B is not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molecules above to act on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ulled toward the interior of the flu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562720" y="2133720"/>
            <a:ext cx="303840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urface Tension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net effect of this pull on all the surface molecules is to make the surface of the liquid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s the surface area of the liquid as small as possib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  Water droplets take on a spherical shape since a sphere has the smallest surface area for a given volu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urface Tension on a Need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440" y="201780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rface tension allows the needle to float, even though the density of the steel in the needle is much higher than the density of the wa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eedle actually rests in a small depression in the liquid su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ertical components of the force balance the we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5105520" y="2362320"/>
            <a:ext cx="383688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urface Tension, Equa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urface tension is defined as the ratio of the magnitude of the surface tension force to the length along which the force act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 units are N/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terms of energy, any equilibrium configuration of an object is one in which the energy is a minim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905120" y="3581280"/>
                <a:ext cx="9144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easuring Surface Ten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force is measured just as the ring breaks free from the fil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05600" indent="-2714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2L is due to the force being exerted on the inside and outside of the 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600200" y="3691080"/>
          <a:ext cx="12193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691080"/>
                    <a:ext cx="12193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5334120" y="2057400"/>
            <a:ext cx="3128760" cy="42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Final Notes About Surface Ten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urface tension of liquids decreases with increasing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urface tension can be decreased by adding ingredients called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urfactant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o a liqui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gent is an examp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A Closer Look at the Surface of Liquid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Cohesive forc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re forces between like molec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Adhesive forc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are forces between unlike molec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hape of the surface depends upon the relative size of the cohesive and adhesive fo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iquids in Contact with a Solid Surface – Case 1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esive forces are greater than the cohesive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quid clings to the walls of the contain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quid “wets” the  su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5029200" y="3124080"/>
            <a:ext cx="4025880" cy="19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Liquids in Contact with a Solid Surface – Case 2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hesive forces are greater than the adhesive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quid curves downwa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iquid does not “wet” the surfa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145120" y="3174840"/>
            <a:ext cx="3809880" cy="17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ntact Angl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a, Φ &gt; 90° and cohesive forces are greater than adhesive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 b, Φ &lt; 90° and adhesive forces are greater than cohesive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530360" y="1981080"/>
            <a:ext cx="608328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Ga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no definite volum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no definite shap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lecules are in constant random mo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molecules exert only weak forces on each o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verage distance between molecules is large compared to the size of the molecul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apillary Act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illary action is the result of surface tension and adhesive fo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liquid rises in the tube when adhesive forces are greater than cohesive for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the point of contact between the liquid and the solid, the upward forces are as shown in the diagr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105520" y="1981080"/>
            <a:ext cx="37670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apillary Action, cont.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re, the cohesive forces are greater than the adhesive for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level of the fluid in the tube will be below the surface of the surrounding flu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915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apillary Action, fin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height to which the fluid is drawn into the tube is given by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3200400" y="3276720"/>
                <a:ext cx="259092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γ</m:t>
                        </m:r>
                      </m:num>
                      <m:den>
                        <m:r>
                          <m:t xml:space="preserve">ρ</m:t>
                        </m:r>
                        <m:r>
                          <m:rPr>
                            <m:lit/>
                            <m:nor/>
                          </m:rPr>
                          <m:t xml:space="preserve">g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Viscous Fluid Flo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2120" y="2017800"/>
            <a:ext cx="4230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iscosity refers to friction between the lay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yers in a viscous fluid have different veloc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velocity is greatest at the ce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hesive forces between the fluid and the walls slow down the fluid on the outsi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5289480" y="1905120"/>
            <a:ext cx="3205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oefficient of Viscosity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sume a fluid between two solid surfa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force is required to move the upper surfa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η is the coeffici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units are N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/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gs units are Po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 Poise = 0.1 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/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0" name=""/>
              <p:cNvSpPr txBox="1"/>
              <p:nvPr/>
            </p:nvSpPr>
            <p:spPr>
              <a:xfrm>
                <a:off x="1828800" y="4114800"/>
                <a:ext cx="114300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v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4038480" cy="34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oiseuille’s La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ives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rate of flow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a fluid in a tube with pressure dif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457280" y="4467240"/>
          <a:ext cx="3106800" cy="15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7280" y="4467240"/>
                    <a:ext cx="310680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876920" y="3124080"/>
            <a:ext cx="402588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Reynold’s Number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sufficiently high velocity, a fluid flow can change from streamline to turbulent flo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nset of turbulence can be found by a factor called the Reynold’s Number, R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RN = 2000 or below, flow is streamlin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 2000 &lt;RN&lt;3000, the flow is unstab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 RN = 3000 or above, the flow is turbul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2057400" y="3962520"/>
          <a:ext cx="1708200" cy="8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3962520"/>
                    <a:ext cx="1708200" cy="8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ransport Phenomena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vement of a fluid may be due to differences in concent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 opposed to movement due to a pressure differ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ntration is the number of molecules per unit volu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fluid will flow from an area of high concentration to an area of low concent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rocesses are calle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diffus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 osmo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ffusion and Fick’s Law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lecules move from a region of high concentration to a region of low concent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ic equation for diffusion is given by Fick’s Law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 is the diffusion coeffici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600200" y="4343400"/>
                <a:ext cx="632448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ffusion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rate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time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A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Diffusion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82600" y="415116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centration on the left is higher than on the right of the imaginary barr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of the molecules on the left can pass to the right, but few can pass from right to le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is a net movement from the higher concentration to the lower concent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895480" y="1905120"/>
            <a:ext cx="33530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Plasma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s heated to a very high tempera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y of the electrons are freed from the nucle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 is a collection of free, electrically charged 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smas exist inside sta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Osmosis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smosis is the movement of water from a region where its concentration is high, across a selectively permeable membrane, into a region where its concentration is low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selectively permeable membra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one that allows passage of some molecules, but not oth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tion Through a Viscous Mediu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an object falls through a fluid, a viscous drag acts on 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esistive force on a small, spherical object of radius r falling through a viscous fluid is given by </a:t>
            </a: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Stoke’s Law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584360" y="5086440"/>
          <a:ext cx="2927160" cy="72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4360" y="5086440"/>
                    <a:ext cx="292716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otion in a Viscou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Medium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2017800"/>
            <a:ext cx="52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the object falls, three forces act on the objec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 its speed increases, so does the resistive for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a particular speed, called the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terminal spee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the net force is ze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427040" y="5257800"/>
          <a:ext cx="3090960" cy="1030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7040" y="5257800"/>
                    <a:ext cx="309096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" descr=""/>
          <p:cNvPicPr/>
          <p:nvPr/>
        </p:nvPicPr>
        <p:blipFill>
          <a:blip r:embed="rId3"/>
          <a:stretch/>
        </p:blipFill>
        <p:spPr>
          <a:xfrm>
            <a:off x="6629400" y="1447920"/>
            <a:ext cx="181440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Terminal Velocity, General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tokes’ Law will not work if the object is not spheric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Assume the resistive force has a magnitude given by F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= k v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k is a coefficient to be determined experimental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terminal velocity will becom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2362320" y="5410080"/>
          <a:ext cx="3200400" cy="11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5410080"/>
                    <a:ext cx="320040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Sedimentation Rat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speed at which materials fall through a fluid is called the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dimentation ra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 is important in clinical analysi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8520" indent="-308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te can be increased by increasing the effective value of 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can be done in a 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centrifu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entrifuge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igh angular speeds give the particles a large radial acceler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uch greater than 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 the equation, g is replaced with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5562720" y="1905120"/>
            <a:ext cx="32018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Verdana"/>
              </a:rPr>
              <a:t>Centrifuge, cont</a:t>
            </a:r>
            <a:endParaRPr b="0" lang="en-US" sz="44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articles’ terminal velocity will beco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particles with greatest mass will have the greatest terminal veloc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ost massive particles will settle out on the bottom of the test tube fir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981080" y="2895480"/>
          <a:ext cx="3549600" cy="11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895480"/>
                    <a:ext cx="354960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5T00:25:17Z</dcterms:created>
  <dc:creator>Marilyn Akins</dc:creator>
  <dc:description/>
  <dc:language>en-US</dc:language>
  <cp:lastModifiedBy> </cp:lastModifiedBy>
  <dcterms:modified xsi:type="dcterms:W3CDTF">2008-07-31T14:47:46Z</dcterms:modified>
  <cp:revision>32</cp:revision>
  <dc:subject/>
  <dc:title>Chapter 9</dc:title>
</cp:coreProperties>
</file>