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366-ECEF-4E5B-9598-F2D76DA5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C6A-6416-428A-819B-A165CA6D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94-D72F-45DB-9E52-2BA497C7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B2A-E693-4F99-B5F1-EE01CA59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02E9-DB71-4825-9282-75E63716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B710-A3B0-4288-ADF3-E27D103D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C84D-23CE-4D1E-AFAF-C8F9D6B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FB65-431E-4CA9-84AA-B45E1EAC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64C0-AD8C-4608-AB60-7F051D5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FAF-1A5C-47B6-9054-72D8619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BAC-D131-4881-B0D0-8FC2F96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036-2E44-48E3-9D1E-0787FDBD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66DD-7F40-4312-A45D-29747AE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3E2-F60A-47D4-9544-499B5C99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F9E3-2983-48AB-8FF4-BB0DFC71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5DEC-02A5-4EE0-B182-22C8C47A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6875-B5B5-46E1-B667-31538BB3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7C1-C8C8-476F-84B7-11D16FD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1FF-C4EF-424C-AA86-6DF8D334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4D3-C367-44DC-A1FB-FF593769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17A-BE56-4A50-AA12-8939A64D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D4E-D4A8-4E9B-9B65-5857FDE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C89-613B-42C5-A77F-BD2CCAD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599-5880-4816-ADD7-B35125C0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638F-13C9-4F84-BFFB-080756C04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258-FD73-4B8E-93D7-0822E7E064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 3: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L zeroes which are SIMULTANEOUSLY to the right of the decimal point AND at the end of the number are ALWAYS significa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00"/>
                </a:solidFill>
                <a:latin typeface="Times New Roman"/>
              </a:rPr>
              <a:t>0.00230   has 3 sig. figs.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ule 4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L zeroes which are to the left of a written decimal point and are in a number &gt; or = 10 are ALWAYS significa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00"/>
                </a:solidFill>
                <a:latin typeface="Times New Roman"/>
              </a:rPr>
              <a:t>100 has only 1 sig. fig. 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100. has 3 and 100.0 has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How about 101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 1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; 2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Measured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or Approximate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xamples of 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dozen = exactly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m = exactly 100 c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amount of money in your account. Known with certaint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5,436.52 does not get cut to $5,000 if other amounts have only 1 sig. fi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00"/>
                </a:solidFill>
                <a:uFillTx/>
                <a:latin typeface="Aharoni"/>
                <a:ea typeface="Aharoni"/>
              </a:rPr>
              <a:t>Exact numbers do NOT limit significant figur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day is an exact measurement of time.  It does not have a limit to significant digits.  (1.000000000000000000…da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5840"/>
            <a:ext cx="84582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velocity, height, distance—anything MEASURED.  No measurement is perfec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We are limited by our LEAST accurate measurement when calculating with measured numbers which are approxim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</a:t>
            </a: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measurement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s recorded, only those digits that are dependable are written down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Meaningful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 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 plus 1 estimated digi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21.74cm (or 217.4mm) more accurate than 21.7c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Rule 1:  All non-zero digit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 2:  All zeros BETWEEN significant digits are significa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101 has 3.    100.002 has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4-09-04T20:22:43Z</dcterms:modified>
  <cp:revision>26</cp:revision>
  <dc:subject/>
  <dc:title>Significant Figures</dc:title>
</cp:coreProperties>
</file>