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1909-65ED-4327-8381-5C6E6AAFC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ED92-58D5-4B26-90AA-A47CAEA1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BA84-BB38-4427-AB2D-3FE7393A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5B9D-53CD-41E1-8018-86996D284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974C-D5F2-40A1-B1D4-7308CFB07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8A043-7F40-4C77-BD7C-73BF70A3C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4426-2C78-4AA5-B523-418D81F4C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BC5D3-5D66-479B-8253-74935CAD9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F307-1C16-439E-9A5A-0114D0EE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F522-F70D-4136-BFEB-627008C0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5F61-1A8E-4603-A9A4-904C670A9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77FA-D17A-45C1-A737-9462AEB3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6B08C-EBF8-420D-A092-99BB7CAC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82BFC-549D-4E26-B81D-DF68727C0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2A1A8-74CA-4203-943E-1B03C7DD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8167C-9C4A-4700-A9F7-465D3967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0A26-E667-4EAE-91F8-70E7A1B01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A6C6-ED35-49CA-8C5C-E854D9D9C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8169-AB82-4D95-ABF0-517A51C61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2314-490F-416A-9FE7-00D7E1E7D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DB28-7A75-4A31-9DE1-5A2D6EA4A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1986-CB70-44AA-A160-2D935775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43CB-91CF-44B3-8967-31CD32AB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B13B-5323-446D-ABD7-905169E0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DE70-9FD7-4039-9330-6CB222AEA00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BDFA-D947-4402-A77E-27EA515BC3E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Significant Figure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ysical Sci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0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0.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0.00003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 x 10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,000,000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en-US" sz="5400" spc="-1" strike="noStrike" baseline="30000">
                <a:solidFill>
                  <a:srgbClr val="ffffcc"/>
                </a:solidFill>
                <a:latin typeface="Times New Roman"/>
              </a:rPr>
              <a:t>nd</a:t>
            </a: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 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If zeros are sandwiched between non-zero digits, the zeros become significa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3rd 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If zeros are at the end of a number that has a decimal, the zeros are significant.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3rd 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These zeros are showing how accurate the measurement or calculation ar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 here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1.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6.76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.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0.079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7,083,000,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 here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401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.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.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0.004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8,000,050,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3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3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What about calculations with sig figs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Rule: When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adding or subtracting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measured numbers, the answer can have no more places after the decimal than the LEAST of the measured number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06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Add/Subtract examples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6880" y="1211400"/>
            <a:ext cx="7772400" cy="5333760"/>
          </a:xfrm>
          <a:prstGeom prst="rect">
            <a:avLst/>
          </a:prstGeom>
          <a:noFill/>
          <a:ln w="28440">
            <a:solidFill>
              <a:srgbClr val="b9005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2.4  c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+11.20 cm =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----------------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3.60cm,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ound off to least exact DECIMAL place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3.6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96880" y="3619440"/>
            <a:ext cx="81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286000" y="2274840"/>
            <a:ext cx="61722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7.432c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+  8       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------------------------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5.432  round t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5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Multiplication and Divis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Rule: When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imes New Roman"/>
              </a:rPr>
              <a:t>multiplying or dividing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, the result can have no more TOTAL significant figures than the least reliable measureme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What is a significant figure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There are 2 kinds of numbers: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Exact:  the amount of money in your account. Known with certaint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66"/>
                </a:solidFill>
                <a:latin typeface="Times New Roman"/>
              </a:rPr>
              <a:t>A couple of examples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56.78 cm x 2.45cm = 139.111 cm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Round to               </a:t>
            </a:r>
            <a:r>
              <a:rPr b="1" lang="en-US" sz="4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139cm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Or 1.39 X 10</a:t>
            </a:r>
            <a:r>
              <a:rPr b="1" lang="en-US" sz="4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cm</a:t>
            </a:r>
            <a:r>
              <a:rPr b="1" lang="en-US" sz="4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That’s 3 </a:t>
            </a:r>
            <a:r>
              <a:rPr b="1" i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TOTAL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 sig. figs. in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answer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75.8cm x 9.6cm = 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727.68 cm</a:t>
            </a:r>
            <a:r>
              <a:rPr b="0" lang="en-US" sz="6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=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730 cm</a:t>
            </a:r>
            <a:r>
              <a:rPr b="0" lang="en-US" sz="6600" spc="-1" strike="noStrike" baseline="30000">
                <a:solidFill>
                  <a:srgbClr val="ffffcc"/>
                </a:solidFill>
                <a:latin typeface="Times New Roman"/>
              </a:rPr>
              <a:t>2  </a:t>
            </a: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!!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ave Fun Measuring and Happy Calculating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What is a significant figure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Approximate: weight, height—anything MEASURED.  No measurement is perfect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en to use Significant fig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When a measurement is recorded only those digits that are dependable are written down. 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en to use Significant fig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If you measured the width of a paper with your ruler you might record 21.7cm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To a mathematician 21.70, or 21.700 is the sam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t, to a scientist 21.7cm and 21.70cm is NOT the sa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21.700cm to a scientist means the measurement is accurate to within one thousandth of a cm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t, to a scientist 21.7cm and 21.70cm is NOT the sa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If you used an ordinary ruler, the smallest marking is the mm, so your measurement has to be recorded as 21.7cm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Rule:  All digits are significant starting with the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imes New Roman"/>
              </a:rPr>
              <a:t>first non-zero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digit on the lef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In whole numbers that end in zero, the zeros at the end are not significa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21:18:33Z</dcterms:created>
  <dc:creator>SDUHSD</dc:creator>
  <dc:description/>
  <dc:language>en-US</dc:language>
  <cp:lastModifiedBy>Victoria Evans</cp:lastModifiedBy>
  <dcterms:modified xsi:type="dcterms:W3CDTF">2012-09-12T17:30:07Z</dcterms:modified>
  <cp:revision>17</cp:revision>
  <dc:subject/>
  <dc:title>Significant Figures</dc:title>
</cp:coreProperties>
</file>