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02D-88D5-4160-9BF2-1B066C621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BB50-B5E7-432F-9E6F-9DD6F33A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085-2581-475E-9F37-E9A805E12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D68-C455-4525-AAC0-8B8BFFCA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35703-D3F2-49CC-A614-62AA9BE88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0ECF-D3FB-4154-A102-174B568D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06ED-2CFE-4547-B4C0-44ED6044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4871-3AC9-45A8-BDAB-80D5E073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F8414-B392-4244-B69C-C07F6B66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142A-137A-42AE-83B6-06A07ED4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5CFF5-6D7D-4F71-BC61-8BC19262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57B2-F505-4E46-9712-7CF1A9B9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A7CD-B6A5-4A0A-940A-E6B4DC05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22A3-76B5-46BB-8744-57DCEBF8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78A6-7479-43DD-9C94-C8524872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63CB-2641-4776-8D23-0B4E69365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C38FD-A65D-460F-A481-367D7A441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894C-4036-452A-A6DE-410617B52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CA73-F050-4069-B44E-E45BFEE4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9EFA-3A5B-4BA2-97D2-D2C6642F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CA61-7DA3-4181-B64D-FFB8F2A7C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A821-2FF6-4773-9BAD-74A18CBC1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45B5-132D-411E-99E0-C8510B9A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004B-F852-46F9-81E0-87E23F302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1F36-1794-4697-AA9D-5F00F7B5E3F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1C9A-C2FF-495F-A808-5BAE2C8FCA15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al Sci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at the end of a number that has a decimal, the zero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Exact:  the amount of money in your account. Known with certainty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weight, height—anything MEASURED.  No measurement is perfect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measurement is recorded only those digits that are dependable are written down. 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 All digits are significant starting with the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first non-zero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digit on the lef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n whole numbers that end in zero, the zeros at the end are not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2-09-12T17:30:07Z</dcterms:modified>
  <cp:revision>17</cp:revision>
  <dc:subject/>
  <dc:title>Significant Figures</dc:title>
</cp:coreProperties>
</file>