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258-A0B0-4B2B-9C12-27096897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59D-FD68-4142-A525-CFA93B73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674-CEC1-42A2-BFD4-55EC44D5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221-A644-46DB-873D-CE3209BD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304-BCC0-48F8-B9D5-C87EC951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7B8-D6DC-49FC-B0ED-E8F41AF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860E-8D12-4C3B-8CA6-6E3D676D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6997-B893-4FB3-B36C-41ACBA72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FB7-57AA-47F4-81E3-7F814134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4FF8-56B7-47A2-A64B-0C26DCD8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DAD8-364B-4CE6-A475-94EFE88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E98-1898-4102-AB38-2D2F7E7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624-F72D-4140-824D-FC0E71FC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61E4-7028-478C-B81F-D47867B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B6E-5A55-40B6-AC4B-E6FDE474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661-9686-4CE3-A44B-0597426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9EBD-200D-4FDB-A772-55C50927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FD6-23AD-4F16-8BE0-9CE89E47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426-A57E-412B-8A6C-B5473CE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419-1850-4C27-A7F9-AA9C74E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948-6040-4F87-82B1-64AA880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932-4516-4245-BED7-848CCAA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C84-455C-45F5-BD62-B06942D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04B-2A04-4725-ACEA-935CCC2A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AE8B-E311-4B99-A65C-C77332347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B80B-80BD-4222-8AA8-918EEB75BA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at the end of a number that has a decimal, the zero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Exact:  the amount of money in your account. Known with certaint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weight, height—anything MEASURED.  No measurement is perfec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measurement is recorded only those digits that are dependable are written down. 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 All digits are significant starting with the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first non-zero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digit on the lef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n whole numbers that end in zero, the zeros at the end are not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2-09-12T17:30:07Z</dcterms:modified>
  <cp:revision>17</cp:revision>
  <dc:subject/>
  <dc:title>Significant Figures</dc:title>
</cp:coreProperties>
</file>