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404C7-ECAD-4A13-B54C-00D985D59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F9F09-A9BE-4E1A-8F67-50E5A8EFD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C0A53-A3BA-4D54-B424-C6DD586CB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F9C06-430D-496D-99F7-24E3D47C4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34401-4B6F-4403-B98B-36F72D037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DE995-D62F-46E5-A474-1F68D2C6D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27D9B-0BBE-4E01-80F9-3D56EE7BD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42D8D-287E-4544-AB00-FB45C8591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22C3F-F0E2-4D17-9F50-1750898C0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58235-B1D3-4787-8442-A30FF722E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2ADC1-7F5A-4EB9-B187-E4ADEE7AE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E591C-2762-4481-A3DE-B970F8FE3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88D5C-E320-4DC8-866E-D3403C988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7DEEF-B648-4B0B-A4C1-3C71EFC91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C4439-F7BC-453C-AEDE-EF64E5A67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B3C8B-A4C8-48A6-A2E8-A15A1A031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F3AB1-5027-4EA2-9970-F3B2AFDC0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0771D-3D21-46B5-8FD8-57C1B03DB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45399-A7C5-4256-BC91-56F044B9A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8DFA2-B0E9-4EE9-AA9C-715EF6E81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64036-EC2C-48D6-B35C-9649B108D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54345-A2AA-497A-A7F2-E46079421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B09D5-0A60-4101-BF11-653AD5817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7610E-37B0-4952-B11E-31F6808A9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"/>
          <p:cNvGrpSpPr/>
          <p:nvPr/>
        </p:nvGrpSpPr>
        <p:grpSpPr>
          <a:xfrm>
            <a:off x="457200" y="992160"/>
            <a:ext cx="8153280" cy="1600200"/>
            <a:chOff x="457200" y="992160"/>
            <a:chExt cx="8153280" cy="1600200"/>
          </a:xfrm>
        </p:grpSpPr>
        <p:sp>
          <p:nvSpPr>
            <p:cNvPr id="1" name="Arc 2"/>
            <p:cNvSpPr/>
            <p:nvPr/>
          </p:nvSpPr>
          <p:spPr>
            <a:xfrm>
              <a:off x="5707080" y="992160"/>
              <a:ext cx="2903400" cy="1600200"/>
            </a:xfrm>
            <a:custGeom>
              <a:avLst/>
              <a:gdLst/>
              <a:ahLst/>
              <a:rect l="l" t="t" r="r" b="b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  <a:lnTo>
                    <a:pt x="312" y="21600"/>
                  </a:ln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Arc 3"/>
            <p:cNvSpPr/>
            <p:nvPr/>
          </p:nvSpPr>
          <p:spPr>
            <a:xfrm>
              <a:off x="5632560" y="1157400"/>
              <a:ext cx="2906640" cy="1269720"/>
            </a:xfrm>
            <a:custGeom>
              <a:avLst/>
              <a:gdLst/>
              <a:ahLst/>
              <a:rect l="l" t="t" r="r" b="b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  <a:lnTo>
                    <a:pt x="324" y="21600"/>
                  </a:lnTo>
                  <a:lnTo>
                    <a:pt x="31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Arc 4"/>
            <p:cNvSpPr/>
            <p:nvPr/>
          </p:nvSpPr>
          <p:spPr>
            <a:xfrm>
              <a:off x="5589720" y="1378080"/>
              <a:ext cx="2904840" cy="828720"/>
            </a:xfrm>
            <a:custGeom>
              <a:avLst/>
              <a:gdLst/>
              <a:ahLst/>
              <a:rect l="l" t="t" r="r" b="b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  <a:lnTo>
                    <a:pt x="325" y="21600"/>
                  </a:lnTo>
                  <a:lnTo>
                    <a:pt x="31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AutoShape 5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9D236-3823-483D-AEBD-B7C519C1CCC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6"/>
          <p:cNvGrpSpPr/>
          <p:nvPr/>
        </p:nvGrpSpPr>
        <p:grpSpPr>
          <a:xfrm>
            <a:off x="457200" y="2363760"/>
            <a:ext cx="8153280" cy="1600200"/>
            <a:chOff x="457200" y="2363760"/>
            <a:chExt cx="8153280" cy="1600200"/>
          </a:xfrm>
        </p:grpSpPr>
        <p:sp>
          <p:nvSpPr>
            <p:cNvPr id="47" name="Arc 2"/>
            <p:cNvSpPr/>
            <p:nvPr/>
          </p:nvSpPr>
          <p:spPr>
            <a:xfrm>
              <a:off x="5707080" y="2363760"/>
              <a:ext cx="2903400" cy="1600200"/>
            </a:xfrm>
            <a:custGeom>
              <a:avLst/>
              <a:gdLst/>
              <a:ahLst/>
              <a:rect l="l" t="t" r="r" b="b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  <a:lnTo>
                    <a:pt x="312" y="21600"/>
                  </a:ln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Arc 3"/>
            <p:cNvSpPr/>
            <p:nvPr/>
          </p:nvSpPr>
          <p:spPr>
            <a:xfrm>
              <a:off x="5632560" y="2529000"/>
              <a:ext cx="2906640" cy="1269720"/>
            </a:xfrm>
            <a:custGeom>
              <a:avLst/>
              <a:gdLst/>
              <a:ahLst/>
              <a:rect l="l" t="t" r="r" b="b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  <a:lnTo>
                    <a:pt x="324" y="21600"/>
                  </a:lnTo>
                  <a:lnTo>
                    <a:pt x="31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Arc 4"/>
            <p:cNvSpPr/>
            <p:nvPr/>
          </p:nvSpPr>
          <p:spPr>
            <a:xfrm>
              <a:off x="5589720" y="2749680"/>
              <a:ext cx="2904840" cy="828720"/>
            </a:xfrm>
            <a:custGeom>
              <a:avLst/>
              <a:gdLst/>
              <a:ahLst/>
              <a:rect l="l" t="t" r="r" b="b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  <a:lnTo>
                    <a:pt x="325" y="21600"/>
                  </a:lnTo>
                  <a:lnTo>
                    <a:pt x="31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AutoShape 5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9FC85-16AC-45DA-A47E-35A980E6CA48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600" spc="-1" strike="noStrike">
                <a:solidFill>
                  <a:srgbClr val="ffcc66"/>
                </a:solidFill>
                <a:latin typeface="Times New Roman"/>
              </a:rPr>
              <a:t>Significant Figures</a:t>
            </a:r>
            <a:endParaRPr b="0" i="1" lang="en-US" sz="6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hysic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Times New Roman"/>
              </a:rPr>
              <a:t>How do I know how many Sig Figs?</a:t>
            </a:r>
            <a:endParaRPr b="0" i="1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Times New Roman"/>
              </a:rPr>
              <a:t>Rule 3:  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LL zeroes which are SIMULTANEOUSLY to the right of the decimal point AND at the end of the number are ALWAYS significant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e500"/>
                </a:solidFill>
                <a:latin typeface="Times New Roman"/>
              </a:rPr>
              <a:t>0.00230   has 3 sig. figs.!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27432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66"/>
                </a:solidFill>
                <a:latin typeface="Times New Roman"/>
              </a:rPr>
              <a:t>Rule 4:</a:t>
            </a:r>
            <a:endParaRPr b="0" i="1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447920"/>
            <a:ext cx="8229600" cy="533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ALL zeroes which are to the left of a written decimal point and are in a number &gt; or = 10 are ALWAYS significant.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1000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10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10.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100.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5960" y="457200"/>
            <a:ext cx="92199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Times New Roman"/>
              </a:rPr>
              <a:t>How do I know how many Sig Figs?</a:t>
            </a:r>
            <a:endParaRPr b="0" i="1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79246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e5e500"/>
                </a:solidFill>
                <a:latin typeface="Times New Roman"/>
              </a:rPr>
              <a:t>100 has only 1 sig. fig. !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cc"/>
                </a:solidFill>
                <a:latin typeface="Times New Roman"/>
              </a:rPr>
              <a:t>100. has 3 and 100.0 has 4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cc"/>
                </a:solidFill>
                <a:latin typeface="Times New Roman"/>
              </a:rPr>
              <a:t>How about 101?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ffcc66"/>
                </a:solidFill>
                <a:latin typeface="Times New Roman"/>
              </a:rPr>
              <a:t>How many sig figs?</a:t>
            </a:r>
            <a:endParaRPr b="0" i="1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7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40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0.5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0.00003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7 x 10</a:t>
            </a:r>
            <a:r>
              <a:rPr b="0" lang="en-US" sz="4800" spc="-1" strike="noStrike" baseline="30000">
                <a:solidFill>
                  <a:srgbClr val="ffffcc"/>
                </a:solidFill>
                <a:latin typeface="Times New Roman"/>
              </a:rPr>
              <a:t>5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7,000,000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4796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1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1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1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1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1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1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3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3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3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3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3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3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3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3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Times New Roman"/>
              </a:rPr>
              <a:t>How do I know how many Sig Figs?</a:t>
            </a:r>
            <a:endParaRPr b="0" i="1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34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cc"/>
                </a:solidFill>
                <a:latin typeface="Times New Roman"/>
              </a:rPr>
              <a:t>2</a:t>
            </a:r>
            <a:r>
              <a:rPr b="1" i="1" lang="en-US" sz="5400" spc="-1" strike="noStrike" baseline="30000">
                <a:solidFill>
                  <a:srgbClr val="ffffcc"/>
                </a:solidFill>
                <a:latin typeface="Times New Roman"/>
              </a:rPr>
              <a:t>nd</a:t>
            </a:r>
            <a:r>
              <a:rPr b="1" i="1" lang="en-US" sz="5400" spc="-1" strike="noStrike">
                <a:solidFill>
                  <a:srgbClr val="ffffcc"/>
                </a:solidFill>
                <a:latin typeface="Times New Roman"/>
              </a:rPr>
              <a:t> Exception to rule:</a:t>
            </a:r>
            <a:r>
              <a:rPr b="1" lang="en-US" sz="5400" spc="-1" strike="noStrike">
                <a:solidFill>
                  <a:srgbClr val="ffffcc"/>
                </a:solidFill>
                <a:latin typeface="Times New Roman"/>
              </a:rPr>
              <a:t> If zeros are sandwiched between non-zero digits, the zeros become significant.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Times New Roman"/>
              </a:rPr>
              <a:t>How do I know how many Sig Figs?</a:t>
            </a:r>
            <a:endParaRPr b="0" i="1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34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cc"/>
                </a:solidFill>
                <a:latin typeface="Times New Roman"/>
              </a:rPr>
              <a:t>3rd Exception to rule:</a:t>
            </a:r>
            <a:r>
              <a:rPr b="1" lang="en-US" sz="5400" spc="-1" strike="noStrike">
                <a:solidFill>
                  <a:srgbClr val="ffffcc"/>
                </a:solidFill>
                <a:latin typeface="Times New Roman"/>
              </a:rPr>
              <a:t> These zeros are showing how accurate the measurement or calculation are.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ffcc66"/>
                </a:solidFill>
                <a:latin typeface="Times New Roman"/>
              </a:rPr>
              <a:t>How many sig figs here?</a:t>
            </a:r>
            <a:endParaRPr b="0" i="1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1.2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2100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56.76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4.00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0.0792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7,083,000,000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4796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4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3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3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4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3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3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3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3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3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3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3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3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3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3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3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3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ffcc66"/>
                </a:solidFill>
                <a:latin typeface="Times New Roman"/>
              </a:rPr>
              <a:t>How many sig figs here?</a:t>
            </a:r>
            <a:endParaRPr b="0" i="1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3401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2100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2100.0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5.00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0.00412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8,000,050,000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4796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4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5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3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3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6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3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3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3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3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3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3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3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3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3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3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3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3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ffcc66"/>
                </a:solidFill>
                <a:latin typeface="Times New Roman"/>
              </a:rPr>
              <a:t>What about calculations with sig figs?</a:t>
            </a:r>
            <a:endParaRPr b="0" i="1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205704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Times New Roman"/>
              </a:rPr>
              <a:t>Rule: When </a:t>
            </a:r>
            <a:r>
              <a:rPr b="1" lang="en-US" sz="4800" spc="-1" strike="noStrike" u="sng">
                <a:solidFill>
                  <a:srgbClr val="ffffcc"/>
                </a:solidFill>
                <a:uFillTx/>
                <a:latin typeface="Times New Roman"/>
              </a:rPr>
              <a:t>adding or subtracting</a:t>
            </a:r>
            <a:r>
              <a:rPr b="1" lang="en-US" sz="4800" spc="-1" strike="noStrike">
                <a:solidFill>
                  <a:srgbClr val="ffffcc"/>
                </a:solidFill>
                <a:latin typeface="Times New Roman"/>
              </a:rPr>
              <a:t> measured numbers, the answer can have no more places after the decimal than the LEAST of the measured numbers.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2064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ffcc66"/>
                </a:solidFill>
                <a:latin typeface="Times New Roman"/>
              </a:rPr>
              <a:t>Add/Subtract examples</a:t>
            </a:r>
            <a:endParaRPr b="0" i="1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96880" y="1211400"/>
            <a:ext cx="7772400" cy="5333760"/>
          </a:xfrm>
          <a:prstGeom prst="rect">
            <a:avLst/>
          </a:prstGeom>
          <a:noFill/>
          <a:ln w="28440">
            <a:solidFill>
              <a:srgbClr val="b9005c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Times New Roman"/>
              </a:rPr>
              <a:t>     </a:t>
            </a:r>
            <a:r>
              <a:rPr b="1" lang="en-US" sz="4800" spc="-1" strike="noStrike">
                <a:solidFill>
                  <a:srgbClr val="ffffcc"/>
                </a:solidFill>
                <a:latin typeface="Times New Roman"/>
              </a:rPr>
              <a:t>2.4  cm 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Times New Roman"/>
              </a:rPr>
              <a:t>+11.20 cm = 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Times New Roman"/>
              </a:rPr>
              <a:t>----------------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1" lang="en-US" sz="4800" spc="-1" strike="noStrike">
                <a:solidFill>
                  <a:srgbClr val="ffffcc"/>
                </a:solidFill>
                <a:latin typeface="Times New Roman"/>
              </a:rPr>
              <a:t>13.60cm, 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Round off to least exact DECIMAL place!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1" lang="en-US" sz="4800" spc="-1" strike="noStrike">
                <a:solidFill>
                  <a:srgbClr val="ffffcc"/>
                </a:solidFill>
                <a:latin typeface="Times New Roman"/>
              </a:rPr>
              <a:t>13.6cm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596880" y="3619440"/>
            <a:ext cx="819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cc66"/>
                </a:solidFill>
                <a:latin typeface="Times New Roman"/>
              </a:rPr>
              <a:t>What is a significant figure?</a:t>
            </a:r>
            <a:endParaRPr b="0" i="1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600" y="175248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Times New Roman"/>
              </a:rPr>
              <a:t>There are 2 kinds of numbers: 1) </a:t>
            </a:r>
            <a:r>
              <a:rPr b="1" lang="en-US" sz="4800" spc="-1" strike="noStrike" u="sng">
                <a:solidFill>
                  <a:srgbClr val="ffffcc"/>
                </a:solidFill>
                <a:uFillTx/>
                <a:latin typeface="Times New Roman"/>
              </a:rPr>
              <a:t>Exact</a:t>
            </a:r>
            <a:r>
              <a:rPr b="1" lang="en-US" sz="4800" spc="-1" strike="noStrike">
                <a:solidFill>
                  <a:srgbClr val="ffffcc"/>
                </a:solidFill>
                <a:latin typeface="Times New Roman"/>
              </a:rPr>
              <a:t>; 2) </a:t>
            </a:r>
            <a:r>
              <a:rPr b="1" lang="en-US" sz="4800" spc="-1" strike="noStrike" u="sng">
                <a:solidFill>
                  <a:srgbClr val="ffffcc"/>
                </a:solidFill>
                <a:uFillTx/>
                <a:latin typeface="Times New Roman"/>
              </a:rPr>
              <a:t>Measured</a:t>
            </a:r>
            <a:r>
              <a:rPr b="1" lang="en-US" sz="4800" spc="-1" strike="noStrike">
                <a:solidFill>
                  <a:srgbClr val="ffffcc"/>
                </a:solidFill>
                <a:latin typeface="Times New Roman"/>
              </a:rPr>
              <a:t> (</a:t>
            </a:r>
            <a:r>
              <a:rPr b="1" i="1" lang="en-US" sz="4800" spc="-1" strike="noStrike">
                <a:solidFill>
                  <a:srgbClr val="ffffcc"/>
                </a:solidFill>
                <a:latin typeface="Times New Roman"/>
              </a:rPr>
              <a:t>or Approximate</a:t>
            </a:r>
            <a:r>
              <a:rPr b="1" lang="en-US" sz="4800" spc="-1" strike="noStrike">
                <a:solidFill>
                  <a:srgbClr val="ffffcc"/>
                </a:solidFill>
                <a:latin typeface="Times New Roman"/>
              </a:rPr>
              <a:t>)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11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Examples of Exact</a:t>
            </a:r>
            <a:r>
              <a:rPr b="1" lang="en-US" sz="4800" spc="-1" strike="noStrike">
                <a:solidFill>
                  <a:srgbClr val="ffffcc"/>
                </a:solidFill>
                <a:latin typeface="Times New Roman"/>
              </a:rPr>
              <a:t>:  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1 dozen = exactly 12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1 m = exactly 100 cm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4" name="Rectangle 2"/>
          <p:cNvSpPr/>
          <p:nvPr/>
        </p:nvSpPr>
        <p:spPr>
          <a:xfrm>
            <a:off x="2286000" y="2274840"/>
            <a:ext cx="6172200" cy="43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1" lang="en-US" sz="4800" spc="-1" strike="noStrike">
                <a:solidFill>
                  <a:srgbClr val="ffffcc"/>
                </a:solidFill>
                <a:latin typeface="Times New Roman"/>
              </a:rPr>
              <a:t>7.432cm 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Times New Roman"/>
              </a:rPr>
              <a:t>+  8       cm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Times New Roman"/>
              </a:rPr>
              <a:t>------------------------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en-US" sz="4800" spc="-1" strike="noStrike">
                <a:solidFill>
                  <a:srgbClr val="ffffcc"/>
                </a:solidFill>
                <a:latin typeface="Times New Roman"/>
              </a:rPr>
              <a:t>15.432  round to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en-US" sz="4800" spc="-1" strike="noStrike">
                <a:solidFill>
                  <a:srgbClr val="ffffcc"/>
                </a:solidFill>
                <a:latin typeface="Times New Roman"/>
              </a:rPr>
              <a:t>15cm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cc66"/>
                </a:solidFill>
                <a:latin typeface="Times New Roman"/>
              </a:rPr>
              <a:t>Multiplication and Division</a:t>
            </a:r>
            <a:endParaRPr b="0" i="1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Times New Roman"/>
              </a:rPr>
              <a:t>Rule: When </a:t>
            </a:r>
            <a:r>
              <a:rPr b="1" lang="en-US" sz="5400" spc="-1" strike="noStrike" u="sng">
                <a:solidFill>
                  <a:srgbClr val="ffffcc"/>
                </a:solidFill>
                <a:uFillTx/>
                <a:latin typeface="Times New Roman"/>
              </a:rPr>
              <a:t>multiplying or dividing</a:t>
            </a:r>
            <a:r>
              <a:rPr b="1" lang="en-US" sz="5400" spc="-1" strike="noStrike">
                <a:solidFill>
                  <a:srgbClr val="ffffcc"/>
                </a:solidFill>
                <a:latin typeface="Times New Roman"/>
              </a:rPr>
              <a:t>, the result can have no more TOTAL significant figures than the least reliable measurement.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cc66"/>
                </a:solidFill>
                <a:latin typeface="Times New Roman"/>
              </a:rPr>
              <a:t>A couple of examples</a:t>
            </a:r>
            <a:endParaRPr b="0" i="1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440" y="205704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56.78 cm x 2.45cm = 139.111 cm</a:t>
            </a:r>
            <a:r>
              <a:rPr b="1" lang="en-US" sz="4400" spc="-1" strike="noStrike" baseline="30000">
                <a:solidFill>
                  <a:srgbClr val="ffffcc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Round to               </a:t>
            </a:r>
            <a:r>
              <a:rPr b="1" lang="en-US" sz="4400" spc="-1" strike="noStrike">
                <a:solidFill>
                  <a:srgbClr val="ffffcc"/>
                </a:solidFill>
                <a:latin typeface="Wingdings"/>
                <a:ea typeface="Wingdings"/>
              </a:rPr>
              <a:t></a:t>
            </a: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 139cm</a:t>
            </a:r>
            <a:r>
              <a:rPr b="1" lang="en-US" sz="4400" spc="-1" strike="noStrike" baseline="30000">
                <a:solidFill>
                  <a:srgbClr val="ffffcc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Or 1.39 X 10</a:t>
            </a:r>
            <a:r>
              <a:rPr b="1" lang="en-US" sz="4000" spc="-1" strike="noStrike" baseline="30000">
                <a:solidFill>
                  <a:srgbClr val="ffffcc"/>
                </a:solidFill>
                <a:latin typeface="Times New Roman"/>
              </a:rPr>
              <a:t>2</a:t>
            </a: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 cm</a:t>
            </a:r>
            <a:r>
              <a:rPr b="1" lang="en-US" sz="4000" spc="-1" strike="noStrike" baseline="30000">
                <a:solidFill>
                  <a:srgbClr val="ffffcc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cc"/>
                </a:solidFill>
                <a:latin typeface="Times New Roman"/>
              </a:rPr>
              <a:t>That’s 3 </a:t>
            </a:r>
            <a:r>
              <a:rPr b="1" i="1" lang="en-US" sz="3600" spc="-1" strike="noStrike" u="sng">
                <a:solidFill>
                  <a:srgbClr val="ffffcc"/>
                </a:solidFill>
                <a:uFillTx/>
                <a:latin typeface="Times New Roman"/>
              </a:rPr>
              <a:t>TOTAL</a:t>
            </a:r>
            <a:r>
              <a:rPr b="1" i="1" lang="en-US" sz="3600" spc="-1" strike="noStrike">
                <a:solidFill>
                  <a:srgbClr val="ffffcc"/>
                </a:solidFill>
                <a:latin typeface="Times New Roman"/>
              </a:rPr>
              <a:t> sig. figs. in </a:t>
            </a:r>
            <a:r>
              <a:rPr b="1" i="1" lang="en-US" sz="4000" spc="-1" strike="noStrike">
                <a:solidFill>
                  <a:srgbClr val="ffffcc"/>
                </a:solidFill>
                <a:latin typeface="Times New Roman"/>
              </a:rPr>
              <a:t>answer!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cc"/>
                </a:solidFill>
                <a:latin typeface="Times New Roman"/>
              </a:rPr>
              <a:t>75.8cm x 9.6cm = ?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727.68 cm</a:t>
            </a:r>
            <a:r>
              <a:rPr b="0" lang="en-US" sz="6000" spc="-1" strike="noStrike" baseline="30000">
                <a:solidFill>
                  <a:srgbClr val="ffffcc"/>
                </a:solidFill>
                <a:latin typeface="Times New Roman"/>
              </a:rPr>
              <a:t>2</a:t>
            </a: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 = 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65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cc"/>
                </a:solidFill>
                <a:latin typeface="Times New Roman"/>
              </a:rPr>
              <a:t>730 cm</a:t>
            </a:r>
            <a:r>
              <a:rPr b="0" lang="en-US" sz="6600" spc="-1" strike="noStrike" baseline="30000">
                <a:solidFill>
                  <a:srgbClr val="ffffcc"/>
                </a:solidFill>
                <a:latin typeface="Times New Roman"/>
              </a:rPr>
              <a:t>2  </a:t>
            </a:r>
            <a:r>
              <a:rPr b="0" lang="en-US" sz="6600" spc="-1" strike="noStrike">
                <a:solidFill>
                  <a:srgbClr val="ffffcc"/>
                </a:solidFill>
                <a:latin typeface="Times New Roman"/>
              </a:rPr>
              <a:t>!!</a:t>
            </a:r>
            <a:endParaRPr b="0" lang="en-US" sz="6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ffcc66"/>
                </a:solidFill>
                <a:latin typeface="Times New Roman"/>
              </a:rPr>
              <a:t>The End</a:t>
            </a:r>
            <a:endParaRPr b="0" i="1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Have Fun Measuring and Happy Calculating!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304560" y="457200"/>
            <a:ext cx="8381880" cy="601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the amount of money in your account. Known with certainty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$5,436.52 does not get cut to $5,000 if other amounts have only 1 sig. fig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66"/>
              </a:buClr>
              <a:buFont typeface="Aharon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e5e500"/>
                </a:solidFill>
                <a:uFillTx/>
                <a:latin typeface="Aharoni"/>
                <a:ea typeface="Aharoni"/>
              </a:rPr>
              <a:t>Exact numbers do NOT limit significant figures.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1 day is an exact measurement of time.  It does not have a limit to significant digits.  (1.000000000000000000…day)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cc66"/>
                </a:solidFill>
                <a:latin typeface="Times New Roman"/>
              </a:rPr>
              <a:t>What is a significant figure?</a:t>
            </a:r>
            <a:endParaRPr b="0" i="1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545840"/>
            <a:ext cx="8458200" cy="523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45720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--</a:t>
            </a:r>
            <a:r>
              <a:rPr b="1" lang="en-US" sz="4800" spc="-1" strike="noStrike">
                <a:solidFill>
                  <a:srgbClr val="ffffcc"/>
                </a:solidFill>
                <a:latin typeface="Times New Roman"/>
              </a:rPr>
              <a:t>Approximate: velocity, height, distance—anything MEASURED.  No measurement is perfect.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--We are limited by our LEAST accurate measurement when calculating with measured numbers which are approximat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Times New Roman"/>
              </a:rPr>
              <a:t>When to use Significant figure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Times New Roman"/>
              </a:rPr>
              <a:t>When a </a:t>
            </a:r>
            <a:r>
              <a:rPr b="1" lang="en-US" sz="5400" spc="-1" strike="noStrike">
                <a:solidFill>
                  <a:srgbClr val="e5e500"/>
                </a:solidFill>
                <a:latin typeface="Times New Roman"/>
              </a:rPr>
              <a:t>measurement</a:t>
            </a:r>
            <a:r>
              <a:rPr b="1" lang="en-US" sz="5400" spc="-1" strike="noStrike">
                <a:solidFill>
                  <a:srgbClr val="ffffcc"/>
                </a:solidFill>
                <a:latin typeface="Times New Roman"/>
              </a:rPr>
              <a:t> is recorded, only those digits that are dependable are written down. 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34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cc"/>
                </a:solidFill>
                <a:latin typeface="Times New Roman"/>
              </a:rPr>
              <a:t>Meaningful. 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34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cc"/>
                </a:solidFill>
                <a:latin typeface="Times New Roman"/>
              </a:rPr>
              <a:t>Significant.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Times New Roman"/>
              </a:rPr>
              <a:t>When to use Significant figure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Times New Roman"/>
              </a:rPr>
              <a:t>If you measured the width of a paper with your ruler you might record 21.7cm. To a mathematician 21.70, or 21.700 is the same.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But, to a scientist 21.7cm and 21.70cm is NOT the sam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34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Times New Roman"/>
              </a:rPr>
              <a:t>21.700cm to a scientist means the measurement is accurate to within one thousandth of a cm.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But, to a scientist 21.7cm and 21.70cm is NOT the sam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If you used an ordinary ruler, the smallest marking is the mm, so your measurement has to be recorded as 21.7cm plus 1 estimated digit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00"/>
                </a:solidFill>
                <a:latin typeface="Times New Roman"/>
              </a:rPr>
              <a:t>21.74cm (or 217.4mm) more accurate than 21.7cm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Times New Roman"/>
              </a:rPr>
              <a:t>How do I know how many Sig Figs?</a:t>
            </a:r>
            <a:endParaRPr b="0" i="1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34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5e500"/>
                </a:solidFill>
                <a:latin typeface="Times New Roman"/>
              </a:rPr>
              <a:t>Rule 1:  All non-zero digits are significant. 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Times New Roman"/>
              </a:rPr>
              <a:t>Rule 2:  All zeros BETWEEN significant digits are significant.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11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00"/>
                </a:solidFill>
                <a:latin typeface="Times New Roman"/>
              </a:rPr>
              <a:t>101 has 3.    100.002 has 6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14T21:18:33Z</dcterms:created>
  <dc:creator>SDUHSD</dc:creator>
  <dc:description/>
  <dc:language>en-US</dc:language>
  <cp:lastModifiedBy>Victoria Evans</cp:lastModifiedBy>
  <dcterms:modified xsi:type="dcterms:W3CDTF">2014-09-04T20:22:43Z</dcterms:modified>
  <cp:revision>26</cp:revision>
  <dc:subject/>
  <dc:title>Significant Figures</dc:title>
</cp:coreProperties>
</file>