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079B-C6B1-4479-9BAB-E850FC442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141A-479C-4037-83B2-C32B6696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408D-56EB-4074-AD40-AC4927390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07F6-E6A4-4133-820F-855E886F9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FE89-973A-4BB7-A15F-0F695B4C7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2408-95CF-478C-97CD-D3696A7C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E848-798B-49E3-BD02-53E848C7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AC63-581D-4DE2-A719-8529948C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9374-422F-404E-88F0-0C3A3C48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F4EB-4C36-4A51-BDB7-04612AAB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AB6B-11DC-4889-B006-93E5D3F7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0C21-D842-4262-8C74-F29D7B0C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4DF1-0DB2-4803-9376-09E1481B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B629-D218-4C96-87D1-19324014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816F-1F6A-4894-9520-4B51C625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FEC8-F2E8-4AEA-A4E7-1C2C3A396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825E-EDD2-4E57-9D80-E4350DAEF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811C-1289-4B14-B04E-098FDA4B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D9A8-6FE6-45FB-8EDE-E3D6D3E6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C295-BF39-4D38-8E44-A9FA04CE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3B57-8B5C-47B8-8F3C-6FC897EC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2D1E-C233-4156-9E3E-066A1847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4DBC-CC94-409A-AFB8-F7EFC1AC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CC2B-C22F-468E-8904-0B5D2E39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8B29-90BD-4E1D-9097-2EA1806FAA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2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3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4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741D-3449-4046-A518-65FA149E9C2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Significant Figure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hysic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do I know how many Sig Figs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Rule 3: 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LL zeroes which are SIMULTANEOUSLY to the right of the decimal point AND at the end of the number are ALWAYS significant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00"/>
                </a:solidFill>
                <a:latin typeface="Times New Roman"/>
              </a:rPr>
              <a:t>0.00230   has 3 sig. figs.!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27432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Rule 4: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4479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ALL zeroes which are to the left of a written decimal point and are in a number &gt; or = 10 are ALWAYS significant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10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1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10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100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92199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do I know how many Sig Figs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e500"/>
                </a:solidFill>
                <a:latin typeface="Times New Roman"/>
              </a:rPr>
              <a:t>100 has only 1 sig. fig. !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Times New Roman"/>
              </a:rPr>
              <a:t>100. has 3 and 100.0 has 4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Times New Roman"/>
              </a:rPr>
              <a:t>How about 101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66"/>
                </a:solidFill>
                <a:latin typeface="Times New Roman"/>
              </a:rPr>
              <a:t>How many sig figs?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40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0.5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0.00003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7 x 10</a:t>
            </a:r>
            <a:r>
              <a:rPr b="0" lang="en-US" sz="4800" spc="-1" strike="noStrike" baseline="30000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7,000,000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3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3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3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do I know how many Sig Figs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i="1" lang="en-US" sz="5400" spc="-1" strike="noStrike" baseline="30000">
                <a:solidFill>
                  <a:srgbClr val="ffffcc"/>
                </a:solidFill>
                <a:latin typeface="Times New Roman"/>
              </a:rPr>
              <a:t>nd</a:t>
            </a:r>
            <a:r>
              <a:rPr b="1" i="1" lang="en-US" sz="5400" spc="-1" strike="noStrike">
                <a:solidFill>
                  <a:srgbClr val="ffffcc"/>
                </a:solidFill>
                <a:latin typeface="Times New Roman"/>
              </a:rPr>
              <a:t> Exception to rule:</a:t>
            </a: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 If zeros are sandwiched between non-zero digits, the zeros become significant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do I know how many Sig Figs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cc"/>
                </a:solidFill>
                <a:latin typeface="Times New Roman"/>
              </a:rPr>
              <a:t>3rd Exception to rule:</a:t>
            </a: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 These zeros are showing how accurate the measurement or calculation are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66"/>
                </a:solidFill>
                <a:latin typeface="Times New Roman"/>
              </a:rPr>
              <a:t>How many sig figs here?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1.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21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56.76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4.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0.079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7,083,000,0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3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3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3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3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3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3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3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3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66"/>
                </a:solidFill>
                <a:latin typeface="Times New Roman"/>
              </a:rPr>
              <a:t>How many sig figs here?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3401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21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2100.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5.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0.0041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8,000,050,0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3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3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3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3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3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3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3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3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3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3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3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3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66"/>
                </a:solidFill>
                <a:latin typeface="Times New Roman"/>
              </a:rPr>
              <a:t>What about calculations with sig figs?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Rule: When </a:t>
            </a:r>
            <a:r>
              <a:rPr b="1" lang="en-US" sz="4800" spc="-1" strike="noStrike" u="sng">
                <a:solidFill>
                  <a:srgbClr val="ffffcc"/>
                </a:solidFill>
                <a:uFillTx/>
                <a:latin typeface="Times New Roman"/>
              </a:rPr>
              <a:t>adding or subtracting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measured numbers, the answer can have no more places after the decimal than the LEAST of the measured number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06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66"/>
                </a:solidFill>
                <a:latin typeface="Times New Roman"/>
              </a:rPr>
              <a:t>Add/Subtract examples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6880" y="1211400"/>
            <a:ext cx="7772400" cy="5333760"/>
          </a:xfrm>
          <a:prstGeom prst="rect">
            <a:avLst/>
          </a:prstGeom>
          <a:noFill/>
          <a:ln w="28440">
            <a:solidFill>
              <a:srgbClr val="b9005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2.4  cm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+11.20 cm =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----------------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13.60cm,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ound off to least exact DECIMAL place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13.6cm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596880" y="3619440"/>
            <a:ext cx="819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What is a significant figure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There are 2 kinds of numbers: 1) </a:t>
            </a:r>
            <a:r>
              <a:rPr b="1" lang="en-US" sz="4800" spc="-1" strike="noStrike" u="sng">
                <a:solidFill>
                  <a:srgbClr val="ffffcc"/>
                </a:solidFill>
                <a:uFillTx/>
                <a:latin typeface="Times New Roman"/>
              </a:rPr>
              <a:t>Exact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; 2) </a:t>
            </a:r>
            <a:r>
              <a:rPr b="1" lang="en-US" sz="4800" spc="-1" strike="noStrike" u="sng">
                <a:solidFill>
                  <a:srgbClr val="ffffcc"/>
                </a:solidFill>
                <a:uFillTx/>
                <a:latin typeface="Times New Roman"/>
              </a:rPr>
              <a:t>Measured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(</a:t>
            </a: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or Approximate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Examples of Exact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: 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1 dozen = exactly 1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1 m = exactly 100 c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2286000" y="2274840"/>
            <a:ext cx="617220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7.432cm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+  8       cm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------------------------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15.432  round t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15cm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Multiplication and Division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Rule: When 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Times New Roman"/>
              </a:rPr>
              <a:t>multiplying or dividing</a:t>
            </a: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, the result can have no more TOTAL significant figures than the least reliable measurement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cc66"/>
                </a:solidFill>
                <a:latin typeface="Times New Roman"/>
              </a:rPr>
              <a:t>A couple of examples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56.78 cm x 2.45cm = 139.111 cm</a:t>
            </a:r>
            <a:r>
              <a:rPr b="1" lang="en-US" sz="4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Round to               </a:t>
            </a:r>
            <a:r>
              <a:rPr b="1" lang="en-US" sz="44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 139cm</a:t>
            </a:r>
            <a:r>
              <a:rPr b="1" lang="en-US" sz="4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Or 1.39 X 10</a:t>
            </a:r>
            <a:r>
              <a:rPr b="1" lang="en-US" sz="4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cm</a:t>
            </a:r>
            <a:r>
              <a:rPr b="1" lang="en-US" sz="4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That’s 3 </a:t>
            </a:r>
            <a:r>
              <a:rPr b="1" i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TOTAL</a:t>
            </a: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 sig. figs. in </a:t>
            </a: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answer!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75.8cm x 9.6cm = ?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727.68 cm</a:t>
            </a:r>
            <a:r>
              <a:rPr b="0" lang="en-US" sz="6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=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730 cm</a:t>
            </a:r>
            <a:r>
              <a:rPr b="0" lang="en-US" sz="6600" spc="-1" strike="noStrike" baseline="30000">
                <a:solidFill>
                  <a:srgbClr val="ffffcc"/>
                </a:solidFill>
                <a:latin typeface="Times New Roman"/>
              </a:rPr>
              <a:t>2  </a:t>
            </a: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!!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66"/>
                </a:solidFill>
                <a:latin typeface="Times New Roman"/>
              </a:rPr>
              <a:t>The End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ave Fun Measuring and Happy Calculating!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04560" y="457200"/>
            <a:ext cx="83818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the amount of money in your account. Known with certainty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$5,436.52 does not get cut to $5,000 if other amounts have only 1 sig. fig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5e500"/>
                </a:solidFill>
                <a:uFillTx/>
                <a:latin typeface="Aharoni"/>
                <a:ea typeface="Aharoni"/>
              </a:rPr>
              <a:t>Exact numbers do NOT limit significant figures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 day is an exact measurement of time.  It does not have a limit to significant digits.  (1.000000000000000000…day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What is a significant figure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45840"/>
            <a:ext cx="8458200" cy="52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--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Approximate: velocity, height, distance—anything MEASURED.  No measurement is perfect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-We are limited by our LEAST accurate measurement when calculating with measured numbers which are approxima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When to use Significant figur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When a </a:t>
            </a:r>
            <a:r>
              <a:rPr b="1" lang="en-US" sz="5400" spc="-1" strike="noStrike">
                <a:solidFill>
                  <a:srgbClr val="e5e500"/>
                </a:solidFill>
                <a:latin typeface="Times New Roman"/>
              </a:rPr>
              <a:t>measurement</a:t>
            </a: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 is recorded, only those digits that are dependable are written down. 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cc"/>
                </a:solidFill>
                <a:latin typeface="Times New Roman"/>
              </a:rPr>
              <a:t>Meaningful. 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cc"/>
                </a:solidFill>
                <a:latin typeface="Times New Roman"/>
              </a:rPr>
              <a:t>Significant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When to use Significant figur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If you measured the width of a paper with your ruler you might record 21.7cm. To a mathematician 21.70, or 21.700 is the same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ut, to a scientist 21.7cm and 21.70cm is NOT the sam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21.700cm to a scientist means the measurement is accurate to within one thousandth of a cm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ut, to a scientist 21.7cm and 21.70cm is NOT the sam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If you used an ordinary ruler, the smallest marking is the mm, so your measurement has to be recorded as 21.7cm plus 1 estimated digit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00"/>
                </a:solidFill>
                <a:latin typeface="Times New Roman"/>
              </a:rPr>
              <a:t>21.74cm (or 217.4mm) more accurate than 21.7cm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do I know how many Sig Figs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00"/>
                </a:solidFill>
                <a:latin typeface="Times New Roman"/>
              </a:rPr>
              <a:t>Rule 1:  All non-zero digits are significant. 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Rule 2:  All zeros BETWEEN significant digits are significant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00"/>
                </a:solidFill>
                <a:latin typeface="Times New Roman"/>
              </a:rPr>
              <a:t>101 has 3.    100.002 has 6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4T21:18:33Z</dcterms:created>
  <dc:creator>SDUHSD</dc:creator>
  <dc:description/>
  <dc:language>en-US</dc:language>
  <cp:lastModifiedBy>Victoria Evans</cp:lastModifiedBy>
  <dcterms:modified xsi:type="dcterms:W3CDTF">2014-09-04T20:22:43Z</dcterms:modified>
  <cp:revision>26</cp:revision>
  <dc:subject/>
  <dc:title>Significant Figures</dc:title>
</cp:coreProperties>
</file>