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E0D98-14DA-4B53-BA25-A498FB96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A04B-8C0D-4DDA-905D-746631000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7E33-278B-4FEB-8D58-0DB744177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3AA5-E83B-47C3-B128-0D4D08C09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BDE1-AA5D-4B8A-89E2-A760EC5D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03B1-93A6-4D17-8F7D-B40B087E6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0D79-27F2-49BC-AD3A-F85EC536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7518C-8055-4EDB-B479-0AE860D6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E1054-35BB-4768-926E-EE631E4E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49E2-182F-4EC9-A6C4-164E218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D521-F347-44F2-9ADA-27FC0A18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591C-4127-433B-A35B-CADDFA617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0BB9-B262-4980-9B08-F35D5CA0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FFE9C-2A5C-49D5-9475-4242511F5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73AB4-1C42-4EF9-AFD5-8FA90130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DE28-E224-408F-9E79-24B626568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26FC-2788-43FF-92AD-8EFAA9135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F2C-2199-4198-801A-650DCA460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EA1-7FFF-4E08-BF46-6EFE438E0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47FD-E68B-43D9-A136-5E1792A82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A039-1A67-4F36-A39D-8C5E8F4F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6B37-1ACE-422E-80D8-A8E74DED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D8D-189E-434C-B4A0-D076ED56F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683A-919E-467A-A69D-041CDEE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BB27-00E8-4FCC-98B0-ACA898DC664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6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2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3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4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A771-0E04-49C2-A7B8-3DE879113A0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cc66"/>
                </a:solidFill>
                <a:latin typeface="Times New Roman"/>
              </a:rPr>
              <a:t>Significant Figures</a:t>
            </a:r>
            <a:endParaRPr b="0" i="1" lang="en-US" sz="6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hysic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 3:  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L zeroes which are SIMULTANEOUSLY to the right of the decimal point AND at the end of the number are ALWAYS significan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e500"/>
                </a:solidFill>
                <a:latin typeface="Times New Roman"/>
              </a:rPr>
              <a:t>0.00230   has 3 sig. figs.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27432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Rule 4: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4479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ALL zeroes which are to the left of a written decimal point and are in a number &gt; or = 10 are ALWAYS significant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100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45720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9246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e5e500"/>
                </a:solidFill>
                <a:latin typeface="Times New Roman"/>
              </a:rPr>
              <a:t>100 has only 1 sig. fig. 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100. has 3 and 100.0 has 4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cc"/>
                </a:solidFill>
                <a:latin typeface="Times New Roman"/>
              </a:rPr>
              <a:t>How about 101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4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0.00003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 x 10</a:t>
            </a:r>
            <a:r>
              <a:rPr b="0" lang="en-US" sz="4800" spc="-1" strike="noStrike" baseline="30000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7,000,000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3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2</a:t>
            </a:r>
            <a:r>
              <a:rPr b="1" i="1" lang="en-US" sz="5400" spc="-1" strike="noStrike" baseline="30000">
                <a:solidFill>
                  <a:srgbClr val="ffffcc"/>
                </a:solidFill>
                <a:latin typeface="Times New Roman"/>
              </a:rPr>
              <a:t>nd</a:t>
            </a: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f zeros are sandwiched between non-zero digits, the zeros become 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3rd Exception to rule: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These zeros are showing how accurate the measurement or calculation are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.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6.7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79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7,083,00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3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3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How many sig figs here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401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100.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.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0.004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8,000,050,00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6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3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3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3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3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3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3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What about calculations with sig figs?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adding or subtracting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measured numbers, the answer can have no more places after the decimal than the LEAST of the measured numbers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064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Add/Subtract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6880" y="1211400"/>
            <a:ext cx="7772400" cy="5333760"/>
          </a:xfrm>
          <a:prstGeom prst="rect">
            <a:avLst/>
          </a:prstGeom>
          <a:noFill/>
          <a:ln w="28440">
            <a:solidFill>
              <a:srgbClr val="b9005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2.4  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11.20 cm =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0cm,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Round off to least exact DECIMAL place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3.6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596880" y="3619440"/>
            <a:ext cx="819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There are 2 kinds of numbers: 1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; 2) </a:t>
            </a:r>
            <a:r>
              <a:rPr b="1" lang="en-US" sz="4800" spc="-1" strike="noStrike" u="sng">
                <a:solidFill>
                  <a:srgbClr val="ffffcc"/>
                </a:solidFill>
                <a:uFillTx/>
                <a:latin typeface="Times New Roman"/>
              </a:rPr>
              <a:t>Measured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(</a:t>
            </a:r>
            <a:r>
              <a:rPr b="1" i="1" lang="en-US" sz="4800" spc="-1" strike="noStrike">
                <a:solidFill>
                  <a:srgbClr val="ffffcc"/>
                </a:solidFill>
                <a:latin typeface="Times New Roman"/>
              </a:rPr>
              <a:t>or Approximate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Examples of Exact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: 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dozen = exactly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1 m = exactly 100 cm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2286000" y="2274840"/>
            <a:ext cx="6172200" cy="43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7.432cm 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+  8       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------------------------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.432  round to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15cm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Multiplication and Divis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Rule: When </a:t>
            </a:r>
            <a:r>
              <a:rPr b="1" lang="en-US" sz="5400" spc="-1" strike="noStrike" u="sng">
                <a:solidFill>
                  <a:srgbClr val="ffffcc"/>
                </a:solidFill>
                <a:uFillTx/>
                <a:latin typeface="Times New Roman"/>
              </a:rPr>
              <a:t>multiplying or dividing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, the result can have no more TOTAL significant figures than the least reliable measureme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cc66"/>
                </a:solidFill>
                <a:latin typeface="Times New Roman"/>
              </a:rPr>
              <a:t>A couple of examples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205704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56.78 cm x 2.45cm = 139.111 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Round to               </a:t>
            </a:r>
            <a:r>
              <a:rPr b="1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 139cm</a:t>
            </a:r>
            <a:r>
              <a:rPr b="1" lang="en-US" sz="44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Or 1.39 X 10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cm</a:t>
            </a:r>
            <a:r>
              <a:rPr b="1" lang="en-US" sz="4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That’s 3 </a:t>
            </a:r>
            <a:r>
              <a:rPr b="1" i="1" lang="en-US" sz="3600" spc="-1" strike="noStrike" u="sng">
                <a:solidFill>
                  <a:srgbClr val="ffffcc"/>
                </a:solidFill>
                <a:uFillTx/>
                <a:latin typeface="Times New Roman"/>
              </a:rPr>
              <a:t>TOTAL</a:t>
            </a:r>
            <a:r>
              <a:rPr b="1" i="1" lang="en-US" sz="3600" spc="-1" strike="noStrike">
                <a:solidFill>
                  <a:srgbClr val="ffffcc"/>
                </a:solidFill>
                <a:latin typeface="Times New Roman"/>
              </a:rPr>
              <a:t> sig. figs. in </a:t>
            </a:r>
            <a:r>
              <a:rPr b="1" i="1" lang="en-US" sz="4000" spc="-1" strike="noStrike">
                <a:solidFill>
                  <a:srgbClr val="ffffcc"/>
                </a:solidFill>
                <a:latin typeface="Times New Roman"/>
              </a:rPr>
              <a:t>answer!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Times New Roman"/>
              </a:rPr>
              <a:t>75.8cm x 9.6cm = ?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727.68 cm</a:t>
            </a:r>
            <a:r>
              <a:rPr b="0" lang="en-US" sz="6000" spc="-1" strike="noStrike" baseline="30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6000" spc="-1" strike="noStrike">
                <a:solidFill>
                  <a:srgbClr val="ffffcc"/>
                </a:solidFill>
                <a:latin typeface="Times New Roman"/>
              </a:rPr>
              <a:t> = </a:t>
            </a:r>
            <a:endParaRPr b="0" lang="en-US" sz="6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730 cm</a:t>
            </a:r>
            <a:r>
              <a:rPr b="0" lang="en-US" sz="6600" spc="-1" strike="noStrike" baseline="30000">
                <a:solidFill>
                  <a:srgbClr val="ffffcc"/>
                </a:solidFill>
                <a:latin typeface="Times New Roman"/>
              </a:rPr>
              <a:t>2  </a:t>
            </a:r>
            <a:r>
              <a:rPr b="0" lang="en-US" sz="6600" spc="-1" strike="noStrike">
                <a:solidFill>
                  <a:srgbClr val="ffffcc"/>
                </a:solidFill>
                <a:latin typeface="Times New Roman"/>
              </a:rPr>
              <a:t>!!</a:t>
            </a:r>
            <a:endParaRPr b="0" lang="en-US" sz="6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cc66"/>
                </a:solidFill>
                <a:latin typeface="Times New Roman"/>
              </a:rPr>
              <a:t>The End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ave Fun Measuring and Happy Calculating!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04560" y="457200"/>
            <a:ext cx="8381880" cy="601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the amount of money in your account. Known with certainty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$5,436.52 does not get cut to $5,000 if other amounts have only 1 sig. fig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66"/>
              </a:buClr>
              <a:buFont typeface="Aharon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5e500"/>
                </a:solidFill>
                <a:uFillTx/>
                <a:latin typeface="Aharoni"/>
                <a:ea typeface="Aharoni"/>
              </a:rPr>
              <a:t>Exact numbers do NOT limit significant figures.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1 day is an exact measurement of time.  It does not have a limit to significant digits.  (1.000000000000000000…day)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Times New Roman"/>
              </a:rPr>
              <a:t>What is a significant figure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545840"/>
            <a:ext cx="8458200" cy="52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457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--</a:t>
            </a: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Approximate: velocity, height, distance—anything MEASURED.  No measurement is perfec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-We are limited by our LEAST accurate measurement when calculating with measured numbers which are approximat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When a </a:t>
            </a: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measurement</a:t>
            </a: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 is recorded, only those digits that are dependable are written down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Meaningful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cc"/>
                </a:solidFill>
                <a:latin typeface="Times New Roman"/>
              </a:rPr>
              <a:t>Significant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When to use Significant figur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If you measured the width of a paper with your ruler you might record 21.7cm. To a mathematician 21.70, or 21.700 is the same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imes New Roman"/>
              </a:rPr>
              <a:t>21.700cm to a scientist means the measurement is accurate to within one thousandth of a cm.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But, to a scientist 21.7cm and 21.70cm is NOT the sam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imes New Roman"/>
              </a:rPr>
              <a:t>If you used an ordinary ruler, the smallest marking is the mm, so your measurement has to be recorded as 21.7cm plus 1 estimated digi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21.74cm (or 217.4mm) more accurate than 21.7cm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How do I know how many Sig Figs?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5e500"/>
                </a:solidFill>
                <a:latin typeface="Times New Roman"/>
              </a:rPr>
              <a:t>Rule 1:  All non-zero digits are significant. 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imes New Roman"/>
              </a:rPr>
              <a:t>Rule 2:  All zeros BETWEEN significant digits are significant.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11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00"/>
                </a:solidFill>
                <a:latin typeface="Times New Roman"/>
              </a:rPr>
              <a:t>101 has 3.    100.002 has 6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21:18:33Z</dcterms:created>
  <dc:creator>SDUHSD</dc:creator>
  <dc:description/>
  <dc:language>en-US</dc:language>
  <cp:lastModifiedBy>Victoria Evans</cp:lastModifiedBy>
  <dcterms:modified xsi:type="dcterms:W3CDTF">2014-09-04T20:22:43Z</dcterms:modified>
  <cp:revision>26</cp:revision>
  <dc:subject/>
  <dc:title>Significant Figures</dc:title>
</cp:coreProperties>
</file>