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7659-5B2F-4BB4-8363-211451FF1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3137-9779-486B-83C8-B1BB10905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D630-D6F9-4E85-93F6-B3964CFC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A94C-B45F-4AC9-AB40-09F0F88C8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E0127-0E06-4C8D-AF8D-40E2EC95B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D52C-E93F-44C1-9F16-6279E8D35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AF35-B570-4D1B-AA8C-27E0FB8C3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9E9A1-1738-49B3-A2A2-EE1AB95E7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6BBEA-6A1D-4D50-A711-B3628CF98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84D8D-E0E1-4CE3-A9DE-5A8F88FA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3A2F-957B-436F-B319-4474424CF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3F03-3298-40A5-9566-BA15D6E2D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D274-518C-486F-86E3-913C6152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8856-5268-4F08-B017-E8BC2A33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B54E-FEE3-4AE6-B9A0-42F2B997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AE83A-9480-4ABC-95B2-710F03251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B66F-EA98-47B3-AF7F-671DB7E60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A436-87AC-44F3-B71E-22A70EE5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D5BC-FEAE-461E-A669-E3C8D88C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D653-B715-4DAF-A7EE-08D1F0A1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27FE-F8C4-4471-9560-E089E262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ADDB-BA4A-475D-9BEE-93167B09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453-F833-4C08-93FF-5EACAA832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C417-66DF-4CC5-BD5C-1A4E6C61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FEE69-695E-42C3-9059-80BBA4E5C6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6E455-C9FC-4E18-860C-BCC44440C8C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 2 min v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gan Freeman weird stuff with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er half hour on electromagnetic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ppler Effect &amp; Red Shif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aws.kettering.edu/~drussell/Demos/doppler/dopple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1280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member that light (and all EM) waves are pure ENERGY…and energy i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2680" y="270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to “do work” or make a CHANGE in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has many forms, and all can be transformed from on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CONSTANT amount of energy in any given closed system, even in the universe as a who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9636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uction of T-T Dimers by UV radiation</a:t>
            </a:r>
            <a:br>
              <a:rPr sz="2400"/>
            </a:br>
            <a:br>
              <a:rPr sz="16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ymidine Dimers are produced when adjacent thymidine residues are covalently linked by exposure to ultraviolet radiation. Covalent linkage may result in the dimer being replicated as a single base, which results in a frameshift mutation..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www.mun.ca/biology/scarr/Thymine-Thymine_Dimers.htm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3276720" y="3672000"/>
            <a:ext cx="5506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956960"/>
            <a:ext cx="810252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artescapesonline.com/movies/stirling_solar_dish_animation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5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eaking the sound barri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hyperphysics.phy-astr.gsu.edu/hbase/sound/souba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hysics.info/shock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transferr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energy                            transferred from the                             SUN, to you walking                        down the sidewal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sun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5-03-02T19:50:11Z</dcterms:modified>
  <cp:revision>158</cp:revision>
  <dc:subject/>
  <dc:title>Objective 1: Relate the Conservation of Energy to energy transformations</dc:title>
</cp:coreProperties>
</file>