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B51C-AC88-4AF4-84EA-CA948F72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6A27-669E-4117-8191-C695FC9C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07C2-F23F-4049-AD07-E759D725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BA22-94F1-4826-AAAB-B1702FF5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FD73-3055-4471-9E55-73203759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3D58-6154-43BB-80EF-51A01EFD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0EED-FAE1-42D3-9845-47177030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880E-64E4-4B3B-A93F-3984C93B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8A8B-DE0B-4F73-8BF8-A2D70687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5C93-6D1D-4700-B737-B9CBADD5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2788-AF44-43E0-A29C-5F53B768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A1A6-22E9-4785-90F0-FCDBC6F7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4421-B414-42B6-B31F-3819F4CD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0567-739D-4EC0-8A0F-761F8660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4370-5601-4060-9AF8-1FAC6338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8449-BB9B-49E8-A42A-EF8E808E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ABC6-81AC-494E-9DA0-42E4B0BD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4228-1F7F-47D3-9BEB-380D223A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B036-AF9E-4083-BE3E-A5340DEE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0A8C-742D-4987-B0EF-F2BF9654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1D00-1CC8-4CA7-9EE1-49D24833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3564-10D2-4040-BF71-3A6BF0E6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8120-C5D0-4C08-A513-330E37DC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3495-F1A3-4C2B-8EDD-B2929635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DBE5-0BC6-47DA-9CD2-F6F2C75768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C817-AA10-4417-9A50-0B5A5D5FAC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V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 2 min v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gan Freeman weird stuff with wa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nger half hour on electromagnetic wa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agnetic waves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rom low to high frequency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581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DIO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HEA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BLE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LTRAVIO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-RAYS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MMA R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733560" y="2209320"/>
            <a:ext cx="50036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wavelength, LOW frequency A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 = 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wavelength, HIGH frequency A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to app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for ALL electromagnetic wave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the FREQUENCEY gets higher, what happens to the WAVELENGTH since the SPEED is THE SAME for all EM radi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avelength gets SHORTER as frequency gets higher, of cours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SIBLE LIGHT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a SMALL band of the EM spect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ular “white” light can be separated into all the different colors with a pr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was discovered by Isaac Newto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 (longest wavelength, lowest energy) to VIOLET (shortest wavelength, highest energy)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Y G BIV stands for Red, Orange, Yellow, Green, Blue, Indigo, Viol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agnetic vs Soun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39880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vel at the “speed of light”, 186,000 miles/second or 300,000,000 m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ve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need a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vel through outer space, all across the unive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vels MANY MANY times slower, only about 370 m/s (almost a million times slower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itud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 medium (mechanic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not travel through outer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ergy gets dispersed(spreads out) quick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oppler Effect &amp; Red Shif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paws.kettering.edu/~drussell/Demos/doppler/doppler.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12808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member that light (and all EM) waves are pure ENERGY…and energy is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2680" y="270684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bility to “do work” or make a CHANGE in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gy has many forms, and all can be transformed from one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 CONSTANT amount of energy in any given closed system, even in the universe as a whol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96360" cy="36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duction of T-T Dimers by UV radiation</a:t>
            </a:r>
            <a:br>
              <a:rPr sz="2400"/>
            </a:br>
            <a:br>
              <a:rPr sz="16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ymidine Dimers are produced when adjacent thymidine residues are covalently linked by exposure to ultraviolet radiation. Covalent linkage may result in the dimer being replicated as a single base, which results in a frameshift mutation..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ttp://www.mun.ca/biology/scarr/Thymine-Thymine_Dimers.htm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Content Placeholder 3" descr=""/>
          <p:cNvPicPr/>
          <p:nvPr/>
        </p:nvPicPr>
        <p:blipFill>
          <a:blip r:embed="rId1"/>
          <a:stretch/>
        </p:blipFill>
        <p:spPr>
          <a:xfrm>
            <a:off x="3276720" y="3672000"/>
            <a:ext cx="55069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160" y="1956960"/>
            <a:ext cx="8102520" cy="38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AR ANI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artescapesonline.com/movies/stirling_solar_dish_animation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05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reaking the sound barri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hyperphysics.phy-astr.gsu.edu/hbase/sound/soubar.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physics.info/shock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5230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ergy transferred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2670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is energy                            transferred from the                             SUN, to you walking                        down the sidewal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4" descr="sun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ive 1: Relate the Conservation of Energy to energy transform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883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energy--mechanical, electrical, chemical, light, sound, and heat--can be transformed from one form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w understanding that energy transformations result in no net gain or loss of energy, but that in energy conversions less energy is available due to heat lo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ive 2: Relate waves to the transfer of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wavelength to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frequency to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wavelength to frequ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waves travel through different kinds of 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ter, Sound, Slinky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56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cribe how waves can be destructive &amp;/or benefici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waves--earthquake waves, water waves, and electromagnetic waves--can be destructive (harmful) or beneficial (good) due to the transfer of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truction (c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efits (pro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ALL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WAV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er energy from one                            place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gy transferred does NOT have ma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ual particles of the wave (such as water waves) are NOT transferred, but stay in the same pl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wavelength, frequency, amplit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RTER WAVELENGTH means HIGHER FREQUENCY AND ENERG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Picture 1028" descr="flagWaves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ngitudinal vs. Transver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ession waves where one part of a medium smashes in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particles travel parallel to the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ND WAVES are longitudinal.  They cannot travel in space because there is no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24280" y="1523520"/>
            <a:ext cx="4267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and down waves, like wiggling a rope back and fo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particles travel perpendicular (at right angles) to the energy being transfer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waves are transvers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TO SI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chanical vs. Electromagnetic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MECHANICAL WAVE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191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 medium, or something to travel through (cannot travel through spa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ter waves, waves in a rope or slinky,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und wa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Picture 5" descr="wavesBreak"/>
          <p:cNvPicPr/>
          <p:nvPr/>
        </p:nvPicPr>
        <p:blipFill>
          <a:blip r:embed="rId1"/>
          <a:stretch/>
        </p:blipFill>
        <p:spPr>
          <a:xfrm>
            <a:off x="4267080" y="2133720"/>
            <a:ext cx="44960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ELECTROMAGNETIC WAVE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228600" y="1676520"/>
          <a:ext cx="4927680" cy="29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4927680" cy="29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05520" y="17521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 medium, can travel through outer spa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L EM waves travel at the “speed of light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m/s 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86,000 miles/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3"/>
          <p:cNvGraphicFramePr/>
          <p:nvPr/>
        </p:nvGraphicFramePr>
        <p:xfrm>
          <a:off x="0" y="431640"/>
          <a:ext cx="9144000" cy="45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1640"/>
                    <a:ext cx="914400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19:06:28Z</dcterms:created>
  <dc:creator>Ria Evans</dc:creator>
  <dc:description/>
  <dc:language>en-US</dc:language>
  <cp:lastModifiedBy>Victoria Evans</cp:lastModifiedBy>
  <dcterms:modified xsi:type="dcterms:W3CDTF">2015-03-02T19:50:11Z</dcterms:modified>
  <cp:revision>158</cp:revision>
  <dc:subject/>
  <dc:title>Objective 1: Relate the Conservation of Energy to energy transformations</dc:title>
</cp:coreProperties>
</file>