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F502-07F0-48B0-A7B6-5ECE5A95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502-103A-4CA3-B695-100A63CC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339-B6B4-4BB7-8290-BA738118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FB83-5B0C-4B75-B1CF-F807DBF2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0A61-61C5-431F-A7B9-6DE1AC38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B6C2-14DD-4D98-B2DD-FA6F2056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AC58-DBC0-4A5F-876A-38FE5005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145B-30B9-49C8-9F5B-CBD434DE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EDC1-03A3-44BD-96F2-680B04EF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864D-9636-4C02-B904-87C1B1C2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3C1E-87B3-4E4D-909E-FD1BF5BA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9B6-19C2-4581-A176-52E66CBA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1F2F-BE9E-4D8F-A73B-A26FD09B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318E-B9E0-4532-93AB-B173FE3A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7CCE-AE05-4B41-AA0B-710D7E10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D56C-9BF4-4FE7-ACBA-F1FB1969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07C1-5751-46A7-9548-69D6F766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B81B-FCDA-4F88-AD02-913BAC59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729-46FE-4D14-9318-20484BF0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5FA5-C8AD-4E28-A13A-935C7C97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124-7C81-4D44-966C-6D43EFF9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75DD-D613-4AC5-B990-CF4A056F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8B93-54ED-4952-A513-7B4A4FBA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5CC-A23D-42E6-B5AA-7CDB15D3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B034-FFF4-4A5F-851C-9B32E155B9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52FD-AEEC-4039-8851-D1302F70F4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 2 min v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gan Freeman weird stuff with wa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ger half hour on electromagnetic wa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wave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rom low to high frequency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581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O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HEA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BLE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LTRAVIO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-RAY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MMA 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33560" y="2209320"/>
            <a:ext cx="50036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wavelength, LOW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 = 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wavelength, HIGH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app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for ALL electromagnetic wave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the FREQUENCEY gets higher, what happens to the WAVELENGTH since the SPEED is THE SAME for all EM radi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velength gets SHORTER as frequency gets higher, of cour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SIBLE LIGH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a SMALL band of the EM spect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 “white” light can be separated into all the different colors with a pr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was discovered by Isaac Newto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 (longest wavelength, lowest energy) to VIOLET (shortest wavelength, highest energy)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Y G BIV stands for Red, Orange, Yellow, Green, Blue, Indigo, Vio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vs Soun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9880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vel at the “speed of light”, 186,000 miles/second or 300,000,000 m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need a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vel through outer space, all across the uni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s MANY MANY times slower, only about 370 m/s (almost a million times slower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itud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 (mechanic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travel through outer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 gets dispersed(spreads out) quick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ppler Effect &amp; Red Shif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paws.kettering.edu/~drussell/Demos/doppler/doppler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12808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member that light (and all EM) waves are pure ENERGY…and energy is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2680" y="270684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bility to “do work” or make a CHANGE in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has many forms, and all can be transformed from one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 CONSTANT amount of energy in any given closed system, even in the universe as a whol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96360" cy="36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duction of T-T Dimers by UV radiation</a:t>
            </a:r>
            <a:br>
              <a:rPr sz="2400"/>
            </a:br>
            <a:br>
              <a:rPr sz="16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ymidine Dimers are produced when adjacent thymidine residues are covalently linked by exposure to ultraviolet radiation. Covalent linkage may result in the dimer being replicated as a single base, which results in a frameshift mutation..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ttp://www.mun.ca/biology/scarr/Thymine-Thymine_Dimers.htm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Content Placeholder 3" descr=""/>
          <p:cNvPicPr/>
          <p:nvPr/>
        </p:nvPicPr>
        <p:blipFill>
          <a:blip r:embed="rId1"/>
          <a:stretch/>
        </p:blipFill>
        <p:spPr>
          <a:xfrm>
            <a:off x="3276720" y="3672000"/>
            <a:ext cx="55069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160" y="1956960"/>
            <a:ext cx="810252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AR ANI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artescapesonline.com/movies/stirling_solar_dish_animation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05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reaking the sound barri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hyperphysics.phy-astr.gsu.edu/hbase/sound/soubar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physics.info/shock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5230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transferred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2670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s energy                            transferred from the                             SUN, to you walking                        down the sidewal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sun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1: Relate the Conservation of Energy to energy transform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energy--mechanical, electrical, chemical, light, sound, and heat--can be transformed from one form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understanding that energy transformations result in no net gain or loss of energy, but that in energy conversions less energy is available due to heat lo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2: Relate waves to the transfer of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frequency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 travel through different kinds of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ter, Sound, Slinky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56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cribe how waves can be destructive &amp;/or benefic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--earthquake waves, water waves, and electromagnetic waves--can be destructive (harmful) or beneficial (good) due to the transfer of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truction (c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 (pr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WA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er energy from one                            place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transferred does NOT have m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ual particles of the wave (such as water waves) are NOT transferred, but stay in the same p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wavelength, frequency, ampl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RTER WAVELENGTH means HIGHER FREQUENCY AND ENERG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1028" descr="flagWaves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ngitudinal vs. Transver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ssion waves where one part of a medium smashes in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arallel to the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ND WAVES are longitudinal.  They cannot travel in space because there is no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24280" y="1523520"/>
            <a:ext cx="4267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and down waves, like wiggling a rope back and fo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erpendicular (at right angles) to the energy being transfer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 are transver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SI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chanical vs. Electromagnetic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MECHANICAL WAV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, or something to travel through (cannot travel through spa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er waves, waves in a rope or slinky,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und wa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Picture 5" descr="wavesBreak"/>
          <p:cNvPicPr/>
          <p:nvPr/>
        </p:nvPicPr>
        <p:blipFill>
          <a:blip r:embed="rId1"/>
          <a:stretch/>
        </p:blipFill>
        <p:spPr>
          <a:xfrm>
            <a:off x="4267080" y="2133720"/>
            <a:ext cx="44960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ELECTROMAGNETIC WAV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228600" y="1676520"/>
          <a:ext cx="4927680" cy="29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4927680" cy="29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0552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 medium, can travel through outer spa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EM waves travel at the “speed of ligh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m/s 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86,000 miles/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3"/>
          <p:cNvGraphicFramePr/>
          <p:nvPr/>
        </p:nvGraphicFramePr>
        <p:xfrm>
          <a:off x="0" y="431640"/>
          <a:ext cx="914400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91440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9:06:28Z</dcterms:created>
  <dc:creator>Ria Evans</dc:creator>
  <dc:description/>
  <dc:language>en-US</dc:language>
  <cp:lastModifiedBy>Victoria Evans</cp:lastModifiedBy>
  <dcterms:modified xsi:type="dcterms:W3CDTF">2015-03-02T19:50:11Z</dcterms:modified>
  <cp:revision>158</cp:revision>
  <dc:subject/>
  <dc:title>Objective 1: Relate the Conservation of Energy to energy transformations</dc:title>
</cp:coreProperties>
</file>