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8583-5DA7-4DD6-994C-9D9B79EB1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FD12-A878-40FC-B23B-4D47CD72A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476F1-2BB8-424A-9ABC-95FE9B0A5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5497-CAC5-4483-BF53-677496EB4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49493-257B-489D-A70B-0E10CEB70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74118-03FE-42D7-9F73-A18DB6F82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99DF-0A0B-4DF2-B38B-3A97EEA6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8D32E-BF9E-4653-9E14-802D2C9F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E66CE-8A71-4639-AD17-DFB0A03F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04C90-A7D8-4CD6-BBBC-7779E05D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F672-E47B-4A4D-9AA6-D6A03FFB4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A249-921C-4C56-9FC9-51FFE8456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F965-207A-412D-912C-7CFF65E0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8CFB8-9938-453E-8009-4C1D3766A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F5492-DB4D-40DD-B211-94DFDF27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CF384-A964-4C15-B540-14EC0859A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18F6-3E1E-445A-BBEB-09FA9555D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2120-F289-4C7B-97E2-FACEF175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112DC-9C94-41AA-81B3-2E634D647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4AE9-6A0E-4157-8FF3-C2DF5D01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3D4F-FF22-4249-8D5D-9F092A1A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432E-D98E-4667-B9B0-C290800DE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C9C1-4AEA-4AE1-B358-0524F1DE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A6D8-8E8C-43AF-8A42-1FD0DCD5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E879-0B75-4266-8B35-CF0AB300101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FE959-1051-4CEB-B33C-810522D8E50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AV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 2 min v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gan Freeman weird stuff with wa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nger half hour on electromagnetic wa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magnetic waves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rom low to high frequency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581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DIO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CRO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HEA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BLE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LTRAVIOL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-RAYS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MMA R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733560" y="2209320"/>
            <a:ext cx="50036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wavelength, LOW frequency AND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 = 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wavelength, HIGH frequency AND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to appl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4582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 for ALL electromagnetic waves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the FREQUENCEY gets higher, what happens to the WAVELENGTH since the SPEED is THE SAME for all EM radi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Wavelength gets SHORTER as frequency gets higher, of cours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2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SIBLE LIGHT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a SMALL band of the EM spectr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ular “white” light can be separated into all the different colors with a pr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was discovered by Isaac Newto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 (longest wavelength, lowest energy) to VIOLET (shortest wavelength, highest energy)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Y G BIV stands for Red, Orange, Yellow, Green, Blue, Indigo, Viol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magnetic vs Soun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398808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vel at the “speed of light”, 186,000 miles/second or 300,000,000 m/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ver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need a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vel through outer space, all across the univer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vels MANY MANY times slower, only about 370 m/s (almost a million times slower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itud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 medium (mechanic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not travel through outer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ergy gets dispersed(spreads out) quick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oppler Effect &amp; Red Shif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paws.kettering.edu/~drussell/Demos/doppler/doppler.ht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8128080" cy="19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member that light (and all EM) waves are pure ENERGY…and energy is…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02680" y="270684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bility to “do work” or make a CHANGE in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ergy has many forms, and all can be transformed from one to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 CONSTANT amount of energy in any given closed system, even in the universe as a whol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496360" cy="365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duction of T-T Dimers by UV radiation</a:t>
            </a:r>
            <a:br>
              <a:rPr sz="2400"/>
            </a:br>
            <a:br>
              <a:rPr sz="16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ymidine Dimers are produced when adjacent thymidine residues are covalently linked by exposure to ultraviolet radiation. Covalent linkage may result in the dimer being replicated as a single base, which results in a frameshift mutation..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http://www.mun.ca/biology/scarr/Thymine-Thymine_Dimers.html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Content Placeholder 3" descr=""/>
          <p:cNvPicPr/>
          <p:nvPr/>
        </p:nvPicPr>
        <p:blipFill>
          <a:blip r:embed="rId1"/>
          <a:stretch/>
        </p:blipFill>
        <p:spPr>
          <a:xfrm>
            <a:off x="3276720" y="3672000"/>
            <a:ext cx="550692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3160" y="1956960"/>
            <a:ext cx="8102520" cy="38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LAR ANI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artescapesonline.com/movies/stirling_solar_dish_animation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05176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reaking the sound barri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hyperphysics.phy-astr.gsu.edu/hbase/sound/soubar.ht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physics.info/shock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5230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nergy transferred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2670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is energy                            transferred from the                             SUN, to you walking                        down the sidewalk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4" descr="sun"/>
          <p:cNvPicPr/>
          <p:nvPr/>
        </p:nvPicPr>
        <p:blipFill>
          <a:blip r:embed="rId1"/>
          <a:stretch/>
        </p:blipFill>
        <p:spPr>
          <a:xfrm>
            <a:off x="5029200" y="0"/>
            <a:ext cx="41148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ctive 1: Relate the Conservation of Energy to energy transform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2362320"/>
            <a:ext cx="8839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 how energy--mechanical, electrical, chemical, light, sound, and heat--can be transformed from one form to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w understanding that energy transformations result in no net gain or loss of energy, but that in energy conversions less energy is available due to heat lo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ctive 2: Relate waves to the transfer of ener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wavelength to ener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frequency to ener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wavelength to frequ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 how waves travel through different kinds of me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ter, Sound, Slinky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56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cribe how waves can be destructive &amp;/or benefici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3059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 how waves--earthquake waves, water waves, and electromagnetic waves--can be destructive (harmful) or beneficial (good) due to the transfer of ener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truction (c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nefits (pro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ALL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WAV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er energy from one                            place to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ergy transferred does NOT have ma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ual particles of the wave (such as water waves) are NOT transferred, but stay in the same pl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wavelength, frequency, amplit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RTER WAVELENGTH means HIGHER FREQUENCY AND ENERGY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Picture 1028" descr="flagWaves"/>
          <p:cNvPicPr/>
          <p:nvPr/>
        </p:nvPicPr>
        <p:blipFill>
          <a:blip r:embed="rId1"/>
          <a:stretch/>
        </p:blipFill>
        <p:spPr>
          <a:xfrm>
            <a:off x="5334120" y="0"/>
            <a:ext cx="38098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ongitudinal vs. Transvers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572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ression waves where one part of a medium smashes in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 particles travel parallel to the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ND WAVES are longitudinal.  They cannot travel in space because there is no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24280" y="1523520"/>
            <a:ext cx="4267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and down waves, like wiggling a rope back and for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 particles travel perpendicular (at right angles) to the energy being transfer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waves are transvers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TO SI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chanical vs. Electromagnetic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MECHANICAL WAVES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4191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 medium, or something to travel through (cannot travel through spa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ter waves, waves in a rope or slinky, an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ound wav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Picture 5" descr="wavesBreak"/>
          <p:cNvPicPr/>
          <p:nvPr/>
        </p:nvPicPr>
        <p:blipFill>
          <a:blip r:embed="rId1"/>
          <a:stretch/>
        </p:blipFill>
        <p:spPr>
          <a:xfrm>
            <a:off x="4267080" y="2133720"/>
            <a:ext cx="449604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ELECTROMAGNETIC WAVES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228600" y="1676520"/>
          <a:ext cx="4927680" cy="29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4927680" cy="29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05520" y="175212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O medium, can travel through outer spac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LL EM waves travel at the “speed of light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m/s 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86,000 miles/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Object 3"/>
          <p:cNvGraphicFramePr/>
          <p:nvPr/>
        </p:nvGraphicFramePr>
        <p:xfrm>
          <a:off x="0" y="431640"/>
          <a:ext cx="9144000" cy="453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31640"/>
                    <a:ext cx="914400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3T19:06:28Z</dcterms:created>
  <dc:creator>Ria Evans</dc:creator>
  <dc:description/>
  <dc:language>en-US</dc:language>
  <cp:lastModifiedBy>Victoria Evans</cp:lastModifiedBy>
  <dcterms:modified xsi:type="dcterms:W3CDTF">2015-03-02T19:50:11Z</dcterms:modified>
  <cp:revision>158</cp:revision>
  <dc:subject/>
  <dc:title>Objective 1: Relate the Conservation of Energy to energy transformations</dc:title>
</cp:coreProperties>
</file>