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D7D-9F6C-401A-A947-7FE8EB98F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196F-0B30-422A-BA9A-EE0E4219E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595C-5BEE-4341-86E8-3A60BAF29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DAE-D187-404F-B560-5C2F7B8B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5966-25C9-46F8-B5EB-6AFBADAD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93754-59E8-4BF8-B353-EA1C0B99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9953-EE0C-4B79-9452-689920E8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9CE3-3E07-4EAD-9696-B33B4A58E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6E960-E940-48D3-8FEB-A8AFEEF8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E339-6EE8-4C14-B6FB-BE702F03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E3534-7C30-4913-B5C4-3DE26561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C659-296D-4DA6-9D63-2DDBDED4B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867CE-C0AE-4DC1-B1CE-CAAAB060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23C5-D1C1-46FC-8DD4-2F7269C1D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EC729-EFDA-43E0-8445-590197761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97267-2E2E-46B7-8B24-E5142A5D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7453F-78D9-4B02-84BC-A33A812EB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59FE6-69A8-4B95-9DE9-C57E9EAD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B76F-751E-494A-859B-29962A60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0C07-939E-4EE4-A9A6-FC0A0C76B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DDB3-B957-445A-8A4E-9C9B5ADF2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33F1-7A6D-4F74-8AE2-F6108B401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AB83-9C48-49BA-B52F-F890649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F85-7FC5-492E-8296-46DA4FC2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E951-3B8B-40D5-8ADC-B291EB3521C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2BCC-A4C0-499A-9F11-DF43709BF1F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 2 min v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gan Freeman weird stuff with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nger half hour on electromagnetic wa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oppler Effect &amp; Red Shif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aws.kettering.edu/~drussell/Demos/doppler/dopple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440" y="228600"/>
            <a:ext cx="8128080" cy="190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member that light (and all EM) waves are pure ENERGY…and energy is…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02680" y="270684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bility to “do work” or make a CHANGE in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has many forms, and all can be transformed from on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 CONSTANT amount of energy in any given closed system, even in the universe as a whole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457200"/>
            <a:ext cx="8496360" cy="365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duction of T-T Dimers by UV radiation</a:t>
            </a:r>
            <a:br>
              <a:rPr sz="2400"/>
            </a:br>
            <a:br>
              <a:rPr sz="16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ymidine Dimers are produced when adjacent thymidine residues are covalently linked by exposure to ultraviolet radiation. Covalent linkage may result in the dimer being replicated as a single base, which results in a frameshift mutation.. </a:t>
            </a: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http://www.mun.ca/biology/scarr/Thymine-Thymine_Dimers.html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Content Placeholder 3" descr=""/>
          <p:cNvPicPr/>
          <p:nvPr/>
        </p:nvPicPr>
        <p:blipFill>
          <a:blip r:embed="rId1"/>
          <a:stretch/>
        </p:blipFill>
        <p:spPr>
          <a:xfrm>
            <a:off x="3276720" y="3672000"/>
            <a:ext cx="5506920" cy="32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956960"/>
            <a:ext cx="810252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LAR ANI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www.artescapesonline.com/movies/stirling_solar_dish_animation.ht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05176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reaking the sound barri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hyperphysics.phy-astr.gsu.edu/hbase/sound/soubar.ht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tp://physics.info/shock/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52308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nergy transferred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42670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is energy                            transferred from the                             SUN, to you walking                        down the sidewalk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4" descr="sun"/>
          <p:cNvPicPr/>
          <p:nvPr/>
        </p:nvPicPr>
        <p:blipFill>
          <a:blip r:embed="rId1"/>
          <a:stretch/>
        </p:blipFill>
        <p:spPr>
          <a:xfrm>
            <a:off x="5029200" y="0"/>
            <a:ext cx="411480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5-03-02T19:50:11Z</dcterms:modified>
  <cp:revision>158</cp:revision>
  <dc:subject/>
  <dc:title>Objective 1: Relate the Conservation of Energy to energy transformations</dc:title>
</cp:coreProperties>
</file>