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0272-7669-45A1-A98E-A6250AA43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BB5D-7027-4FA7-844C-ED7FF51C7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AD0-6D3A-4B9E-BD87-AB098974E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AE97-7B0D-46C2-83E8-AA6DA75F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3BED-03FE-4559-8BC1-8456FAEE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F025-F989-4EE2-B5A9-2856B455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612A4-B7BA-4963-B62D-3705AD0C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1DB0A-7380-46AB-91D7-DA2B40E78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0A781-EE49-4EC9-9C85-88BF62FE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3A134-E133-45FB-BE85-8EFAC3B7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D4DE-C2D1-4245-989E-425901AC9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3FC4-168D-438C-85B5-AFD0C6C3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411D-0793-4557-A10D-45EB61964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7BCE8-C0F4-4DCB-AA05-26D47736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BC3BE-3687-42D2-B881-D560DB16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A7604-730A-4A0B-AB57-AF948A06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72A22-FD00-4A5A-8A66-54FF54DC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83C1-FF8B-4232-9D09-1E0B5F0F5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9F08-8F85-4386-A9BA-D8AAA2C8E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FB93-3316-418C-A57E-4B9F990F2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AE52-DAAB-43B7-904A-E37572DBE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021A-ECCA-421E-9F3B-2C9C20AB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C49E-7AA6-467A-A3A2-23225C50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21C-1EBD-47BB-AE6B-1C49AC76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2AD5D-25D2-4496-8ABF-A33A39327B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E1D1-9F17-41E9-933B-C9CE9D4B192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1: Relate the Conservation of Energy to energy transform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energy--mechanical, electrical, chemical, light, sound, and heat--can be transformed from one form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understanding that energy transformations result in no net gain or loss of energy, but that in energy conversions less energy is available due to heat lo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for ALL electromagnetic wave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the FREQUENCEY gets higher, what happens to the WAVELENGTH since the SPEED is THE SAME for all EM radi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velength gets SHORTER as frequency gets higher, of cour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SIBLE LIGH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a SMALL band of the EM spect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 “white” light can be separated into all the different colors with a pr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was discovered by Isaac Newto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 (longest wavelength, lowest energy) to VIOLET (shortest wavelength, highest energy)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Y G BIV stands for Red, Orange, Yellow, Green, Blue, Indigo, Vio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vs Soun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9880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vel at the “speed of light”, 186,000 miles/second or 300,000,000 m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need a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vel through outer space, all across the uni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s MANY MANY times slower, only about 370 m/s (almost a million times slower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itud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 (mechanic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travel through outer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 gets dispersed(spreads out) quick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energy transformation on a ski sl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glenbrook.k12.il.us/gbssci/phys/mmedia/energy/se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energy transformation of a d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glenbrook.k12.il.us/. ../energy/dg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energy transformation on a roller coa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glenbrook.k12.il.us/. ../energy/ce.htm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2: Relate waves to the transfer of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frequency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 travel through different kinds of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ter, Sound, Slinky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56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cribe how waves can be destructive &amp;/or benefic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--earthquake waves, water waves, and electromagnetic waves--can be destructive (harmful) or beneficial (good) due to the transfer of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truction (c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 (pr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WA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er energy from one                            place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transferred does NOT have m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ual particles of the wave (such as water waves) are NOT transferred, but stay in the same p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wavelength, frequency, ampl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RTER WAVELENGTH means HIGHER FREQUENCY AND ENERG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1028" descr="flagWaves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ngitudinal vs. Transver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ssion waves where one part of a medium smashes in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arallel to the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ND WAVES are longitudinal.  They cannot travel in space because there is no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24280" y="1523520"/>
            <a:ext cx="4267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and down waves, like wiggling a rope back and fo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erpendicular (at right angles) to the energy being transfer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 are transver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SI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chanical vs. Electromagnetic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MECHANICAL WAV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, or something to travel through (cannot travel through spa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er waves, waves in a rope or slinky,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und wa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5" descr="wavesBreak"/>
          <p:cNvPicPr/>
          <p:nvPr/>
        </p:nvPicPr>
        <p:blipFill>
          <a:blip r:embed="rId1"/>
          <a:stretch/>
        </p:blipFill>
        <p:spPr>
          <a:xfrm>
            <a:off x="4267080" y="2133720"/>
            <a:ext cx="44960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ELECTROMAGNETIC WAV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228600" y="1676520"/>
          <a:ext cx="4927680" cy="29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4927680" cy="29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0552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 medium, can travel through outer spa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EM waves travel at the “speed of ligh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m/s 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86,000 miles/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3"/>
          <p:cNvGraphicFramePr/>
          <p:nvPr/>
        </p:nvGraphicFramePr>
        <p:xfrm>
          <a:off x="0" y="431640"/>
          <a:ext cx="914400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91440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wave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rom low to high frequency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581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O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HEA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BLE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LTRAVIO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-RAY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MMA 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733560" y="2209320"/>
            <a:ext cx="50036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wavelength, LOW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 = 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wavelength, HIGH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app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9:06:28Z</dcterms:created>
  <dc:creator>Ria Evans</dc:creator>
  <dc:description/>
  <dc:language>en-US</dc:language>
  <cp:lastModifiedBy>Victoria Evans</cp:lastModifiedBy>
  <dcterms:modified xsi:type="dcterms:W3CDTF">2012-03-27T19:22:07Z</dcterms:modified>
  <cp:revision>145</cp:revision>
  <dc:subject/>
  <dc:title>Objective 1: Relate the Conservation of Energy to energy transformations</dc:title>
</cp:coreProperties>
</file>