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AE1-FD44-41C9-BA62-EA45DC57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AF3-DB48-4C00-9EE3-06F6111B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665-3E07-48AF-9316-C3DB2B27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1CA-2824-47ED-A642-467E4C9F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A7F9-842D-489A-97F3-810D791A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8F33-2041-4F0A-BE38-7D607B1F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3DB3-2FA7-4921-A26F-A92D825C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C686-2FC3-4B31-A125-BA39034B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E31B-95C8-4157-B07F-C6B3CF0F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DA82-F196-4F81-9974-16429215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AAE7-4220-4653-879B-62C8DE0A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8A9-0462-4D0C-99E9-B49E3A49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347C-3259-420D-A115-BB56035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635F-1E93-45BB-BD3E-2C11461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7616-E4E3-47A1-A85C-031B4C46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A629-9BF3-46A8-8CFD-4DAD52AB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68FC-E61B-4C98-8800-89A98E67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C27-E9B9-41C3-B9B1-88CA0883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2D0-BEF7-444C-9126-B2D5C48E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186-9499-487E-A967-79ED8EBD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2CD-6437-4C54-B99A-8BADC5B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545-E733-460D-8090-E6CE6882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CE4-2D93-4D23-AFFB-C1126C5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C7C-0307-47AD-AF4B-AA9A362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0210-2E66-4B02-8B80-B901DD6749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8E0E-5854-4B97-909A-C65A86A732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n a ski sl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glenbrook.k12.il.us/gbssci/phys/mmedia/energy/se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f a d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glenbrook.k12.il.us/. ../energy/dg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n a roller coa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glenbrook.k12.il.us/. ../energy/ce.htm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2-03-27T19:22:07Z</dcterms:modified>
  <cp:revision>145</cp:revision>
  <dc:subject/>
  <dc:title>Objective 1: Relate the Conservation of Energy to energy transformations</dc:title>
</cp:coreProperties>
</file>