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B702-87D4-4C2E-B53A-C12E1B0D0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B122-E996-419C-8400-60D19700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380D-5967-4803-AF50-9C0D44317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D5EC-BD8C-4099-9F00-1B856BA1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8A726-06AA-4FC1-97B5-7383BD1E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CDA07-5BB1-446E-8618-DD21B4F3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68C23-E4E4-458B-8471-88E8565AF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A0EB8-6EE1-4DF2-BFE7-2DF113D3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5973-3D76-4F0E-A515-D7FCAC8A5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5409-1E17-4F98-8716-4E3A9AD4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9C80-612B-444F-9094-BABB35FE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D867-4DC3-4A6D-97D6-33608F641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D13D-2087-41E2-8A89-2A64713ED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FE6F4-F590-4CA2-A588-96F5C978A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A88E4-4FBD-44A9-8A8F-7EC01870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2123-E916-43FE-8F7A-CE9BC2CCA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C1C95-B7C9-4599-9E0C-48F260BAE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B11-1FEA-4E39-B2BB-90A502CD7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6B9C-2715-4C91-832C-5AE4AFEE6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9D00-8221-4956-A364-6C4BD5DA2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127-46C2-455E-9DD8-3272AFC3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42C4E-728F-4366-BF3B-D0780AE5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DC72-B684-4041-AC6E-72DB085D9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851C-11DB-452E-AB07-B49C0831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8305-67A8-4CA5-97E2-018E659A32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C63D-0F01-40F9-9372-44AE613A2F5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1: Relate the Conservation of Energy to energy transform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-360" y="236232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energy--mechanical, electrical, chemical, light, sound, and heat--can be transformed from one form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w understanding that energy transformations result in no net gain or loss of energy, but that in energy conversions less energy is available due to heat lo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5331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 for ALL electromagnetic waves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the FREQUENCEY gets higher, what happens to the WAVELENGTH since the SPEED is THE SAME for all EM radi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Wavelength gets SHORTER as frequency gets higher, of cou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2" dur="2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VISIBLE LIGHT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a SMALL band of the EM spectr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ular “white” light can be separated into all the different colors with a pr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was discovered by Isaac Newton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 (longest wavelength, lowest energy) to VIOLET (shortest wavelength, highest energy)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Y G BIV stands for Red, Orange, Yellow, Green, Blue, Indigo, Viol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vs Soun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39880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vel at the “speed of light”, 186,000 miles/second or 300,000,000 m/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need a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vel through outer space, all across the univer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vels MANY MANY times slower, only about 370 m/s (almost a million times slower!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itud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 (mechanic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not travel through outer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ergy gets dispersed(spreads out) quick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ski sl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://www.glenbrook.k12.il.us/gbssci/phys/mmedia/energy/se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f a d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dg.htm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energy transformation on a roller coa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.glenbrook.k12.il.us/. ../energy/ce.htm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Objective 2: Relate waves to the transfer of energ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frequency to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wavelength to frequ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 travel through different kinds of med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ter, Sound, Slinky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56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scribe how waves can be destructive &amp;/or beneficia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be how waves--earthquake waves, water waves, and electromagnetic waves--can be destructive (harmful) or beneficial (good) due to the transfer of ener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truction (c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nefits (pro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0592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WAVE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er energy from one                            place to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ergy transferred does NOT have mas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ual particles of the wave (such as water waves) are NOT transferred, but stay in the same pl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wavelength, frequency, amplit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RTER WAVELENGTH means HIGHER FREQUENCY AND ENERGY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1028" descr="flagWaves"/>
          <p:cNvPicPr/>
          <p:nvPr/>
        </p:nvPicPr>
        <p:blipFill>
          <a:blip r:embed="rId1"/>
          <a:stretch/>
        </p:blipFill>
        <p:spPr>
          <a:xfrm>
            <a:off x="5334120" y="0"/>
            <a:ext cx="3809880" cy="25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ongitudinal vs. Transvers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572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ression waves where one part of a medium smashes in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arallel to the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ND WAVES are longitudinal.  They cannot travel in space because there is no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24280" y="1523520"/>
            <a:ext cx="42674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and down waves, like wiggling a rope back and for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 particles travel perpendicular (at right angles) to the energy being transfer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waves are transvers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SI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echanical vs. Electromagnetic</a:t>
            </a:r>
            <a:br>
              <a:rPr sz="4000"/>
            </a:b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MECHANICAL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4191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 medium, or something to travel through (cannot travel through spa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ter waves, waves in a rope or slinky, and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und wav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re exam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8" name="Picture 5" descr="wavesBreak"/>
          <p:cNvPicPr/>
          <p:nvPr/>
        </p:nvPicPr>
        <p:blipFill>
          <a:blip r:embed="rId1"/>
          <a:stretch/>
        </p:blipFill>
        <p:spPr>
          <a:xfrm>
            <a:off x="4267080" y="2133720"/>
            <a:ext cx="449604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2803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 Black"/>
              </a:rPr>
              <a:t>ELECTROMAGNETIC WAV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00" name="Object 3"/>
          <p:cNvGraphicFramePr/>
          <p:nvPr/>
        </p:nvGraphicFramePr>
        <p:xfrm>
          <a:off x="228600" y="1676520"/>
          <a:ext cx="4927680" cy="29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4927680" cy="29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105520" y="175212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NO medium, can travel through outer spac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LL EM waves travel at the “speed of light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m/s 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186,000 miles/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Object 3"/>
          <p:cNvGraphicFramePr/>
          <p:nvPr/>
        </p:nvGraphicFramePr>
        <p:xfrm>
          <a:off x="0" y="431640"/>
          <a:ext cx="9144000" cy="453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31640"/>
                    <a:ext cx="9144000" cy="453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lectromagnetic waves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rom low to high frequency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358128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DIO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CRO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HEA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BLE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LTRAVIO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-RAYS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MMA R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733560" y="2209320"/>
            <a:ext cx="5003640" cy="41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wavelength, LOW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 = f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wavelength, HIGH frequency AND ener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to app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3T19:06:28Z</dcterms:created>
  <dc:creator>Ria Evans</dc:creator>
  <dc:description/>
  <dc:language>en-US</dc:language>
  <cp:lastModifiedBy>Victoria Evans</cp:lastModifiedBy>
  <dcterms:modified xsi:type="dcterms:W3CDTF">2012-03-27T19:22:07Z</dcterms:modified>
  <cp:revision>145</cp:revision>
  <dc:subject/>
  <dc:title>Objective 1: Relate the Conservation of Energy to energy transformations</dc:title>
</cp:coreProperties>
</file>