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1C0-388B-4799-B6F5-D13E51F1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156-0894-457D-965C-5C414A00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86B-C27D-4E37-985B-84A78FE3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C96-DA7A-4EAD-AAE9-24D8A93A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04D3-A507-484D-91C9-9598861C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08EE-3760-44B1-B660-84F7FE1F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5D93-CDE4-44D0-B9F3-C87A04F8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7F60-8FD6-4BED-BB45-C01175A0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EEC6-D831-4E45-97E5-9FAE098B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EA8B-6D12-4F59-BFA4-362CC72C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CD44-5758-4312-A36C-0B9D55EC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C1F-BCD0-44FE-A160-666E9643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0817-14CE-4A8D-8D77-3831185A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555B-BC66-4CCC-A013-872B262F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07B8-E706-41BD-A70C-E2041231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3D9A-4D38-41B8-9E99-B9046CD3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BB0B-DAD8-4819-89F3-BBCB086B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B4D-FE7E-4B84-BAA5-945CEE98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A89-D677-4320-88E8-F5BC15A0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9FB-7640-4187-893F-D002F458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296-862B-49B6-9EB2-983F66AB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2EA-05F5-4771-8AF9-11DBC0FA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15D-E3C4-4656-9C68-A730FCA3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FA6-56F7-41C2-B940-726FE6E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C278-6C86-4580-B0E0-BB87727705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91E5-DC85-46F6-B26F-7B6030C51F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or ALL electromagnetic wav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FREQUENCEY gets higher, what happens to the WAVELENGTH since the SPEED is THE SAME for all EM radi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velength gets SHORTER as frequency gets higher, of cou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988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 (mechanic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n a ski sl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glenbrook.k12.il.us/gbssci/phys/mmedia/energy/se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f a d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glenbrook.k12.il.us/. ../energy/dg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n a roller coa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glenbrook.k12.il.us/. ../energy/ce.htm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                          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1028" descr="flagWave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267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ECHANICAL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nd w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5" descr="wavesBreak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ELECTROMAGNETIC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228600" y="1676520"/>
          <a:ext cx="4927680" cy="29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92768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EM waves travel at the “speed of ligh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/s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6,000 miles/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3"/>
          <p:cNvGraphicFramePr/>
          <p:nvPr/>
        </p:nvGraphicFramePr>
        <p:xfrm>
          <a:off x="0" y="431640"/>
          <a:ext cx="91440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914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= 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ictoria Evans</cp:lastModifiedBy>
  <dcterms:modified xsi:type="dcterms:W3CDTF">2012-03-27T19:22:07Z</dcterms:modified>
  <cp:revision>145</cp:revision>
  <dc:subject/>
  <dc:title>Objective 1: Relate the Conservation of Energy to energy transformations</dc:title>
</cp:coreProperties>
</file>