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11FD-2B48-4F8F-94DC-6B5C37A61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776F-A09B-428A-8A49-A77377A42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33E8-933A-4A10-9607-A38091B21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E110-35EA-44FC-9C2C-800A9E13C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5C0C-19A2-4A8E-9AD8-FBF962443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EA1-E8F6-4F5B-90D5-621989B1D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46DF-1B57-4B88-BAFF-373528CDA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BBF6-4257-46D5-A790-7F0AE937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6B9C-98BF-4F10-BDB4-BFE19A9A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8C29-B1B1-42D3-8A2E-E3D6DB4BB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90E0-3E27-4BB2-8A41-E2A76F1A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04CE-C01F-4999-9C13-4E820F081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9D80-9638-4C58-A548-ACA14191C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95280" y="1295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133720" y="15238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Different – The car, slows down noticeably. The bug slows down, stops and revers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 rot="465000">
            <a:off x="2095920" y="425160"/>
            <a:ext cx="30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 flipV="1" rot="11218200">
            <a:off x="969480" y="517932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 rot="20502000">
            <a:off x="226440" y="449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- the size of the force, impulse and mom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r the bug, the less force, impulse, change in momentum, the bigger the bug the more of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kg*33m/s + .001kg*-7m/s = ( 1500kg + .001kg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kg ms/+ -.007kgm/s = 1500.001kg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kgm/s=1500.001kg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m/s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m/s to 32.99m/s, while the bug change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m/s to 32.99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shield hits b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362320" y="167652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ton’s third law You can only exert back as much force as is exerted o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j0233182"/>
          <p:cNvPicPr/>
          <p:nvPr/>
        </p:nvPicPr>
        <p:blipFill>
          <a:blip r:embed="rId1"/>
          <a:stretch/>
        </p:blipFill>
        <p:spPr>
          <a:xfrm>
            <a:off x="0" y="2971800"/>
            <a:ext cx="4459320" cy="3135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j0197385"/>
          <p:cNvPicPr/>
          <p:nvPr/>
        </p:nvPicPr>
        <p:blipFill>
          <a:blip r:embed="rId2"/>
          <a:stretch/>
        </p:blipFill>
        <p:spPr>
          <a:xfrm>
            <a:off x="8077320" y="1600200"/>
            <a:ext cx="761760" cy="604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95280" y="12952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47920" y="15238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33720" y="15238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– momentum is conserved in a coll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76720" y="1676520"/>
            <a:ext cx="350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ton’s third law You can only exert back as much force as is exerted o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VEvans</cp:lastModifiedBy>
  <dcterms:modified xsi:type="dcterms:W3CDTF">2009-09-03T17:51:31Z</dcterms:modified>
  <cp:revision>8</cp:revision>
  <dc:subject>newtons laws bug on windshield</dc:subject>
  <dc:title>newtons laws bug on windshield</dc:title>
</cp:coreProperties>
</file>