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A76B-DC1F-4FF8-A83B-8E7FB88B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BCD-F1EF-421C-B0FB-C9CF6C4E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8284-4864-454F-9D97-8CDA8356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0AAB-B04F-4D8A-A536-BF7AB3A9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CCC0-EE3B-474E-8AF8-C8A2A011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825-4D1F-47E3-808F-FDA95847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F4DB-DC08-44AB-8985-2E45BD1D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D5B-00DD-452B-B4D0-82914F16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188-575A-44C0-9DCF-6FF4F47F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AC85-1D07-4277-B3AE-B3EECE7C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9FE2-95F7-45DE-B0C5-21EB29F2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334-9B9A-4ED4-A5F2-B7E05037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0170-EE95-4207-A693-9F52BE3A5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On the highway of life, are you the bug or the windshield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295280" y="12952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0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1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4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33 0.39052 L -0.04166 0.39052 E">
                                      <p:cBhvr>
                                        <p:cTn id="116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133720" y="152388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Different – The car, slows down noticeably. The bug slows down, stops and reverses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2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29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32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5 0.41272 L -0.03333 0.41272 E">
                                      <p:cBhvr>
                                        <p:cTn id="134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y does the bug go splat, but a windshield doesn’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j0197385"/>
          <p:cNvPicPr/>
          <p:nvPr/>
        </p:nvPicPr>
        <p:blipFill>
          <a:blip r:embed="rId2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 rot="465000">
            <a:off x="2095920" y="425160"/>
            <a:ext cx="307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only a Small force when a bug hits the windsh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 flipV="1" rot="11218200">
            <a:off x="969480" y="5179320"/>
            <a:ext cx="70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nly takes a small force to kill a bug. That same size force won’t hurt the windsh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526E-006 L 0.31267 -0.00763 E">
                                      <p:cBhvr>
                                        <p:cTn id="14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31214E-006 L -0.16667 0.23352 E">
                                      <p:cBhvr>
                                        <p:cTn id="14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j0197385"/>
          <p:cNvPicPr/>
          <p:nvPr/>
        </p:nvPicPr>
        <p:blipFill>
          <a:blip r:embed="rId2"/>
          <a:stretch/>
        </p:blipFill>
        <p:spPr>
          <a:xfrm>
            <a:off x="6389640" y="944640"/>
            <a:ext cx="2068560" cy="1927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j0197385"/>
          <p:cNvPicPr/>
          <p:nvPr/>
        </p:nvPicPr>
        <p:blipFill>
          <a:blip r:embed="rId3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 rot="20502000">
            <a:off x="226440" y="449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s - the size of the force, impulse and momen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 flipV="1" rot="10562400">
            <a:off x="985680" y="5178960"/>
            <a:ext cx="708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er the bug, the less force, impulse, change in momentum, the bigger the bug the more of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63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6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104E-006 L -0.2 0.2774 E">
                                      <p:cBhvr>
                                        <p:cTn id="167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the bug is the same mass and same speed as a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8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8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91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9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some approximat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mass 1500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speed 60 mph   33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mass   1 g  = .001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speed bug speed 10 mph 7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0kg*33m/s + .001kg*-7m/s = ( 1500kg + .001kg)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500kg ms/+ -.007kgm/s = 1500.001kg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499.993kgm/s=1500.001kg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.99m/s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 car’s velocity changes from 33m/s to 32.99m/s, while the bug changes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m/s to 32.99m/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j0197385"/>
          <p:cNvPicPr/>
          <p:nvPr/>
        </p:nvPicPr>
        <p:blipFill>
          <a:blip r:embed="rId2"/>
          <a:stretch/>
        </p:blipFill>
        <p:spPr>
          <a:xfrm>
            <a:off x="6095880" y="1981080"/>
            <a:ext cx="762120" cy="6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shield hits b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362320" y="167652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ton’s third law You can only exert back as much force as is exerted on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9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24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j0233182"/>
          <p:cNvPicPr/>
          <p:nvPr/>
        </p:nvPicPr>
        <p:blipFill>
          <a:blip r:embed="rId1"/>
          <a:stretch/>
        </p:blipFill>
        <p:spPr>
          <a:xfrm>
            <a:off x="0" y="2971800"/>
            <a:ext cx="4459320" cy="3135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j0197385"/>
          <p:cNvPicPr/>
          <p:nvPr/>
        </p:nvPicPr>
        <p:blipFill>
          <a:blip r:embed="rId2"/>
          <a:stretch/>
        </p:blipFill>
        <p:spPr>
          <a:xfrm>
            <a:off x="8077320" y="1600200"/>
            <a:ext cx="761760" cy="604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295280" y="129528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3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42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44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447920" y="15238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Different – The car, hardly noticeable. The bug very noticeable. The bug slows down, stops and reverses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5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5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60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62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mentu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and aft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133720" y="152388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– momentum is conserved in a coll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7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75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78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80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bout a BIGGER BU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j0197385"/>
          <p:cNvPicPr/>
          <p:nvPr/>
        </p:nvPicPr>
        <p:blipFill>
          <a:blip r:embed="rId2"/>
          <a:stretch/>
        </p:blipFill>
        <p:spPr>
          <a:xfrm>
            <a:off x="7010280" y="235080"/>
            <a:ext cx="1905120" cy="1512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76720" y="1676520"/>
            <a:ext cx="350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ton’s third law You can only exert back as much force as is exerted on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9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9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96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5 0.38844 L -0.04583 0.38844 E">
                                      <p:cBhvr>
                                        <p:cTn id="98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8:51:15Z</dcterms:created>
  <dc:creator>administrator</dc:creator>
  <dc:description>newtons laws bug on windshield</dc:description>
  <cp:keywords>newtons laws bug on windshield</cp:keywords>
  <dc:language>en-US</dc:language>
  <cp:lastModifiedBy>VEvans</cp:lastModifiedBy>
  <dcterms:modified xsi:type="dcterms:W3CDTF">2009-09-03T17:51:31Z</dcterms:modified>
  <cp:revision>8</cp:revision>
  <dc:subject>newtons laws bug on windshield</dc:subject>
  <dc:title>newtons laws bug on windshield</dc:title>
</cp:coreProperties>
</file>