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E72B-601B-4BE1-9671-8D373D751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B02D-3627-444E-99EB-BA00C319C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A69E-B05B-4EBF-8266-4BBDA9AEA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15F1-CB22-4529-854F-159185E20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2041-0205-40C3-9AF7-B714E357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8AAC-344A-4C4B-957C-47E6BD841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4B70-DF48-4A81-B223-4F2A1E70F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373-22DA-4E73-AB97-3DE815C6E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7C39-2351-4D7A-8855-AB89412E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BFC1-82B3-46C7-BA4E-A594EE7E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F770-564A-449B-BB45-B08EBF81C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5ED98-144F-40BB-BE2B-2E75E2C2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EA833-D41B-4DF4-80CF-D487B6C49D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On the highway of life, are you the bug or the windshield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j0197385"/>
          <p:cNvPicPr/>
          <p:nvPr/>
        </p:nvPicPr>
        <p:blipFill>
          <a:blip r:embed="rId2"/>
          <a:stretch/>
        </p:blipFill>
        <p:spPr>
          <a:xfrm>
            <a:off x="6781680" y="54000"/>
            <a:ext cx="2133720" cy="16938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295280" y="129528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would be impossible for the bug to hit the windshield for 2 seconds while the windshield hits the bug for 3 sec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09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11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14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33 0.39052 L -0.04166 0.39052 E">
                                      <p:cBhvr>
                                        <p:cTn id="116" dur="5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j0197385"/>
          <p:cNvPicPr/>
          <p:nvPr/>
        </p:nvPicPr>
        <p:blipFill>
          <a:blip r:embed="rId2"/>
          <a:stretch/>
        </p:blipFill>
        <p:spPr>
          <a:xfrm>
            <a:off x="6781680" y="54000"/>
            <a:ext cx="2133720" cy="16938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hange of velo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2133720" y="1523880"/>
            <a:ext cx="4647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ghtly Different – The car, slows down noticeably. The bug slows down, stops and reverses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27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29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32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5 0.41272 L -0.03333 0.41272 E">
                                      <p:cBhvr>
                                        <p:cTn id="134" dur="5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hy does the bug go splat, but a windshield doesn’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j0197385"/>
          <p:cNvPicPr/>
          <p:nvPr/>
        </p:nvPicPr>
        <p:blipFill>
          <a:blip r:embed="rId2"/>
          <a:stretch/>
        </p:blipFill>
        <p:spPr>
          <a:xfrm>
            <a:off x="5486400" y="144792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0"/>
          <p:cNvSpPr/>
          <p:nvPr/>
        </p:nvSpPr>
        <p:spPr>
          <a:xfrm rot="465000">
            <a:off x="2095920" y="425160"/>
            <a:ext cx="307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only a Small force when a bug hits the windshie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2"/>
          <p:cNvSpPr/>
          <p:nvPr/>
        </p:nvSpPr>
        <p:spPr>
          <a:xfrm flipV="1" rot="11218200">
            <a:off x="969480" y="5179320"/>
            <a:ext cx="70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only takes a small force to kill a bug. That same size force won’t hurt the windshie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526E-006 L 0.31267 -0.00763 E">
                                      <p:cBhvr>
                                        <p:cTn id="145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31214E-006 L -0.16667 0.23352 E">
                                      <p:cBhvr>
                                        <p:cTn id="147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j0197385"/>
          <p:cNvPicPr/>
          <p:nvPr/>
        </p:nvPicPr>
        <p:blipFill>
          <a:blip r:embed="rId2"/>
          <a:stretch/>
        </p:blipFill>
        <p:spPr>
          <a:xfrm>
            <a:off x="6389640" y="944640"/>
            <a:ext cx="2068560" cy="1927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j0197385"/>
          <p:cNvPicPr/>
          <p:nvPr/>
        </p:nvPicPr>
        <p:blipFill>
          <a:blip r:embed="rId3"/>
          <a:stretch/>
        </p:blipFill>
        <p:spPr>
          <a:xfrm>
            <a:off x="5486400" y="144792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 rot="20502000">
            <a:off x="226440" y="44928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s - the size of the force, impulse and momentu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6"/>
          <p:cNvSpPr/>
          <p:nvPr/>
        </p:nvSpPr>
        <p:spPr>
          <a:xfrm flipV="1" rot="10562400">
            <a:off x="985680" y="5178960"/>
            <a:ext cx="708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maller the bug, the less force, impulse, change in momentum, the bigger the bug the more of ea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63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65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5104E-006 L -0.2 0.2774 E">
                                      <p:cBhvr>
                                        <p:cTn id="167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the bug is the same mass and same speed as a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j0233182"/>
          <p:cNvPicPr/>
          <p:nvPr/>
        </p:nvPicPr>
        <p:blipFill>
          <a:blip r:embed="rId1"/>
          <a:stretch/>
        </p:blipFill>
        <p:spPr>
          <a:xfrm>
            <a:off x="762120" y="335268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7" descr="j0197385"/>
          <p:cNvPicPr/>
          <p:nvPr/>
        </p:nvPicPr>
        <p:blipFill>
          <a:blip r:embed="rId2"/>
          <a:stretch/>
        </p:blipFill>
        <p:spPr>
          <a:xfrm>
            <a:off x="6248520" y="3048120"/>
            <a:ext cx="304776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33526E-006 L 0.225 -0.00855 E">
                                      <p:cBhvr>
                                        <p:cTn id="183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0.01248 L -0.325 0.01248 E">
                                      <p:cBhvr>
                                        <p:cTn id="185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j0233182"/>
          <p:cNvPicPr/>
          <p:nvPr/>
        </p:nvPicPr>
        <p:blipFill>
          <a:blip r:embed="rId1"/>
          <a:stretch/>
        </p:blipFill>
        <p:spPr>
          <a:xfrm>
            <a:off x="762120" y="335268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4" descr="j0197385"/>
          <p:cNvPicPr/>
          <p:nvPr/>
        </p:nvPicPr>
        <p:blipFill>
          <a:blip r:embed="rId2"/>
          <a:stretch/>
        </p:blipFill>
        <p:spPr>
          <a:xfrm>
            <a:off x="6248520" y="3048120"/>
            <a:ext cx="304776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33526E-006 L 0.225 -0.00855 E">
                                      <p:cBhvr>
                                        <p:cTn id="191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0.01248 L -0.325 0.01248 E">
                                      <p:cBhvr>
                                        <p:cTn id="19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are some approximat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mass 1500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speed 60 mph   33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mass   1 g  = .001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speed bug speed 10 mph 7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0kg*33m/s + .001kg*-7m/s = ( 1500kg + .001kg)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500kg ms/+ -.007kgm/s = 1500.001kg*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499.993kgm/s=1500.001kg*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.99m/s=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 car’s velocity changes from 33m/s to 32.99m/s, while the bug changes fro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m/s to 32.99m/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j0197385"/>
          <p:cNvPicPr/>
          <p:nvPr/>
        </p:nvPicPr>
        <p:blipFill>
          <a:blip r:embed="rId2"/>
          <a:stretch/>
        </p:blipFill>
        <p:spPr>
          <a:xfrm>
            <a:off x="6095880" y="1981080"/>
            <a:ext cx="762120" cy="6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ndshield hits bu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6" dur="2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1" dur="3000" fill="hold"/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13" dur="30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2362320" y="1676520"/>
            <a:ext cx="44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wton’s third law You can only exert back as much force as is exerted on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9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24" dur="3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26" dur="3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j0233182"/>
          <p:cNvPicPr/>
          <p:nvPr/>
        </p:nvPicPr>
        <p:blipFill>
          <a:blip r:embed="rId1"/>
          <a:stretch/>
        </p:blipFill>
        <p:spPr>
          <a:xfrm>
            <a:off x="0" y="2971800"/>
            <a:ext cx="4459320" cy="31352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j0197385"/>
          <p:cNvPicPr/>
          <p:nvPr/>
        </p:nvPicPr>
        <p:blipFill>
          <a:blip r:embed="rId2"/>
          <a:stretch/>
        </p:blipFill>
        <p:spPr>
          <a:xfrm>
            <a:off x="8077320" y="1600200"/>
            <a:ext cx="761760" cy="6048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1295280" y="129528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would be impossible for the bug to hit the windshield for 2 seconds while the windshield hits the bug for 3 seco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37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39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42" dur="3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44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hange of velo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1447920" y="1523880"/>
            <a:ext cx="525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Different – The car, hardly noticeable. The bug very noticeable. The bug slows down, stops and reverses dir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55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57" dur="2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60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62" dur="3000" fill="hold"/>
                                        <p:tgtEl>
                                          <p:spTgt spid="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mentum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and aft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133720" y="1523880"/>
            <a:ext cx="419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– momentum is conserved in a coll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73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75" dur="2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78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80" dur="3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about a BIGGER BU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j0197385"/>
          <p:cNvPicPr/>
          <p:nvPr/>
        </p:nvPicPr>
        <p:blipFill>
          <a:blip r:embed="rId2"/>
          <a:stretch/>
        </p:blipFill>
        <p:spPr>
          <a:xfrm>
            <a:off x="7010280" y="235080"/>
            <a:ext cx="1905120" cy="15127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3276720" y="1676520"/>
            <a:ext cx="350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wton’s third law You can only exert back as much force as is exerted on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91" dur="2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9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96" dur="5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75 0.38844 L -0.04583 0.38844 E">
                                      <p:cBhvr>
                                        <p:cTn id="98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8:51:15Z</dcterms:created>
  <dc:creator>administrator</dc:creator>
  <dc:description>newtons laws bug on windshield</dc:description>
  <cp:keywords>newtons laws bug on windshield</cp:keywords>
  <dc:language>en-US</dc:language>
  <cp:lastModifiedBy>VEvans</cp:lastModifiedBy>
  <dcterms:modified xsi:type="dcterms:W3CDTF">2009-09-03T17:51:31Z</dcterms:modified>
  <cp:revision>8</cp:revision>
  <dc:subject>newtons laws bug on windshield</dc:subject>
  <dc:title>newtons laws bug on windshield</dc:title>
</cp:coreProperties>
</file>