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9DE4-7D66-4A5C-B9A7-0BF6642F9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5C5B-C1AA-458E-8CB8-205FC8BA7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CE23-4A07-4FAA-8E93-864ECD57D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6506-4E51-4D09-B8B8-C64D5AB65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B616-ABEB-4EF1-8473-C0AE88E97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C1A4-3A00-4170-A620-83EB20BE5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9FAE-1F2C-4A73-AA1D-1513F6149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0A0E-4E6B-4E41-8CB1-69DE60B39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FE7B-0403-43A9-BE5B-52557DCEE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0621-8D83-4AE1-8D3A-58F7FB507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D85F-A839-4D6A-A702-C4400238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DB6E-A90D-4C52-B5D8-C8D3F0D9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7014B-8ABD-4C62-9086-6E396920EB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On the highway of life, are you the bug or the windshield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j0233182"/>
          <p:cNvPicPr/>
          <p:nvPr/>
        </p:nvPicPr>
        <p:blipFill>
          <a:blip r:embed="rId1"/>
          <a:stretch/>
        </p:blipFill>
        <p:spPr>
          <a:xfrm>
            <a:off x="0" y="266688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j0197385"/>
          <p:cNvPicPr/>
          <p:nvPr/>
        </p:nvPicPr>
        <p:blipFill>
          <a:blip r:embed="rId2"/>
          <a:stretch/>
        </p:blipFill>
        <p:spPr>
          <a:xfrm>
            <a:off x="6781680" y="54000"/>
            <a:ext cx="2133720" cy="16938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6094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ime of impact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295280" y="1295280"/>
            <a:ext cx="525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ame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t would be impossible for the bug to hit the windshield for 2 seconds while the windshield hits the bug for 3 seco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109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111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114" dur="5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8333 0.39052 L -0.04166 0.39052 E">
                                      <p:cBhvr>
                                        <p:cTn id="116" dur="5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j0233182"/>
          <p:cNvPicPr/>
          <p:nvPr/>
        </p:nvPicPr>
        <p:blipFill>
          <a:blip r:embed="rId1"/>
          <a:stretch/>
        </p:blipFill>
        <p:spPr>
          <a:xfrm>
            <a:off x="0" y="266688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j0197385"/>
          <p:cNvPicPr/>
          <p:nvPr/>
        </p:nvPicPr>
        <p:blipFill>
          <a:blip r:embed="rId2"/>
          <a:stretch/>
        </p:blipFill>
        <p:spPr>
          <a:xfrm>
            <a:off x="6781680" y="54000"/>
            <a:ext cx="2133720" cy="16938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4"/>
          <p:cNvSpPr/>
          <p:nvPr/>
        </p:nvSpPr>
        <p:spPr>
          <a:xfrm>
            <a:off x="6094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hange of velocit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n each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2133720" y="1523880"/>
            <a:ext cx="4647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ghtly Different – The car, slows down noticeably. The bug slows down, stops and reverses dir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127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129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132" dur="5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5 0.41272 L -0.03333 0.41272 E">
                                      <p:cBhvr>
                                        <p:cTn id="134" dur="5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why does the bug go splat, but a windshield doesn’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j0233182"/>
          <p:cNvPicPr/>
          <p:nvPr/>
        </p:nvPicPr>
        <p:blipFill>
          <a:blip r:embed="rId1"/>
          <a:stretch/>
        </p:blipFill>
        <p:spPr>
          <a:xfrm>
            <a:off x="874800" y="2736720"/>
            <a:ext cx="3201840" cy="2251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j0197385"/>
          <p:cNvPicPr/>
          <p:nvPr/>
        </p:nvPicPr>
        <p:blipFill>
          <a:blip r:embed="rId2"/>
          <a:stretch/>
        </p:blipFill>
        <p:spPr>
          <a:xfrm>
            <a:off x="5486400" y="1447920"/>
            <a:ext cx="762120" cy="6048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0"/>
          <p:cNvSpPr/>
          <p:nvPr/>
        </p:nvSpPr>
        <p:spPr>
          <a:xfrm rot="465000">
            <a:off x="2095920" y="425160"/>
            <a:ext cx="307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only a Small force when a bug hits the windshie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2"/>
          <p:cNvSpPr/>
          <p:nvPr/>
        </p:nvSpPr>
        <p:spPr>
          <a:xfrm flipV="1" rot="11218200">
            <a:off x="969480" y="5179320"/>
            <a:ext cx="709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only takes a small force to kill a bug. That same size force won’t hurt the windsh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3526E-006 L 0.31267 -0.00763 E">
                                      <p:cBhvr>
                                        <p:cTn id="145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31214E-006 L -0.16667 0.23352 E">
                                      <p:cBhvr>
                                        <p:cTn id="147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j0233182"/>
          <p:cNvPicPr/>
          <p:nvPr/>
        </p:nvPicPr>
        <p:blipFill>
          <a:blip r:embed="rId1"/>
          <a:stretch/>
        </p:blipFill>
        <p:spPr>
          <a:xfrm>
            <a:off x="874800" y="2736720"/>
            <a:ext cx="3201840" cy="2251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j0197385"/>
          <p:cNvPicPr/>
          <p:nvPr/>
        </p:nvPicPr>
        <p:blipFill>
          <a:blip r:embed="rId2"/>
          <a:stretch/>
        </p:blipFill>
        <p:spPr>
          <a:xfrm>
            <a:off x="6389640" y="944640"/>
            <a:ext cx="2068560" cy="1927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j0197385"/>
          <p:cNvPicPr/>
          <p:nvPr/>
        </p:nvPicPr>
        <p:blipFill>
          <a:blip r:embed="rId3"/>
          <a:stretch/>
        </p:blipFill>
        <p:spPr>
          <a:xfrm>
            <a:off x="5486400" y="1447920"/>
            <a:ext cx="762120" cy="6048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 rot="20502000">
            <a:off x="226440" y="449280"/>
            <a:ext cx="312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fferences - the size of the force, impulse and moment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 flipV="1" rot="10562400">
            <a:off x="985680" y="5178960"/>
            <a:ext cx="7089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maller the bug, the less force, impulse, change in momentum, the bigger the bug the more of ea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163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165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5104E-006 L -0.2 0.2774 E">
                                      <p:cBhvr>
                                        <p:cTn id="167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f the bug is the same mass and same speed as a c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j0233182"/>
          <p:cNvPicPr/>
          <p:nvPr/>
        </p:nvPicPr>
        <p:blipFill>
          <a:blip r:embed="rId1"/>
          <a:stretch/>
        </p:blipFill>
        <p:spPr>
          <a:xfrm>
            <a:off x="762120" y="3352680"/>
            <a:ext cx="3201840" cy="2251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j0197385"/>
          <p:cNvPicPr/>
          <p:nvPr/>
        </p:nvPicPr>
        <p:blipFill>
          <a:blip r:embed="rId2"/>
          <a:stretch/>
        </p:blipFill>
        <p:spPr>
          <a:xfrm>
            <a:off x="6248520" y="3048120"/>
            <a:ext cx="3047760" cy="241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33526E-006 L 0.225 -0.00855 E">
                                      <p:cBhvr>
                                        <p:cTn id="183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167 0.01248 L -0.325 0.01248 E">
                                      <p:cBhvr>
                                        <p:cTn id="185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y s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j0233182"/>
          <p:cNvPicPr/>
          <p:nvPr/>
        </p:nvPicPr>
        <p:blipFill>
          <a:blip r:embed="rId1"/>
          <a:stretch/>
        </p:blipFill>
        <p:spPr>
          <a:xfrm>
            <a:off x="762120" y="3352680"/>
            <a:ext cx="3201840" cy="2251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j0197385"/>
          <p:cNvPicPr/>
          <p:nvPr/>
        </p:nvPicPr>
        <p:blipFill>
          <a:blip r:embed="rId2"/>
          <a:stretch/>
        </p:blipFill>
        <p:spPr>
          <a:xfrm>
            <a:off x="6248520" y="3048120"/>
            <a:ext cx="3047760" cy="241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33526E-006 L 0.225 -0.00855 E">
                                      <p:cBhvr>
                                        <p:cTn id="191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167 0.01248 L -0.325 0.01248 E">
                                      <p:cBhvr>
                                        <p:cTn id="193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are some approximate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 mass 1500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 speed 60 mph   33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g mass   1 g  = .001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g speed bug speed 10 mph 7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00kg*33m/s + .001kg*-7m/s = ( 1500kg + .001kg)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9500kg ms/+ -.007kgm/s = 1500.001kg*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9499.993kgm/s=1500.001kg*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2.99m/s=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the car’s velocity changes from 33m/s to 32.99m/s, while the bug changes fr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m/s to 32.99m/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g hits windshi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j0233182"/>
          <p:cNvPicPr/>
          <p:nvPr/>
        </p:nvPicPr>
        <p:blipFill>
          <a:blip r:embed="rId1"/>
          <a:stretch/>
        </p:blipFill>
        <p:spPr>
          <a:xfrm>
            <a:off x="874800" y="273672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j0197385"/>
          <p:cNvPicPr/>
          <p:nvPr/>
        </p:nvPicPr>
        <p:blipFill>
          <a:blip r:embed="rId2"/>
          <a:stretch/>
        </p:blipFill>
        <p:spPr>
          <a:xfrm>
            <a:off x="6095880" y="1981080"/>
            <a:ext cx="762120" cy="60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ndshield hits bu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j0233182"/>
          <p:cNvPicPr/>
          <p:nvPr/>
        </p:nvPicPr>
        <p:blipFill>
          <a:blip r:embed="rId1"/>
          <a:stretch/>
        </p:blipFill>
        <p:spPr>
          <a:xfrm>
            <a:off x="0" y="266688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j0197385"/>
          <p:cNvPicPr/>
          <p:nvPr/>
        </p:nvPicPr>
        <p:blipFill>
          <a:blip r:embed="rId2"/>
          <a:stretch/>
        </p:blipFill>
        <p:spPr>
          <a:xfrm>
            <a:off x="8153280" y="1143000"/>
            <a:ext cx="762120" cy="60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6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8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11" dur="3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166 0.34443 L -0.1 0.34443 E">
                                      <p:cBhvr>
                                        <p:cTn id="13" dur="3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j0233182"/>
          <p:cNvPicPr/>
          <p:nvPr/>
        </p:nvPicPr>
        <p:blipFill>
          <a:blip r:embed="rId1"/>
          <a:stretch/>
        </p:blipFill>
        <p:spPr>
          <a:xfrm>
            <a:off x="0" y="266688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j0197385"/>
          <p:cNvPicPr/>
          <p:nvPr/>
        </p:nvPicPr>
        <p:blipFill>
          <a:blip r:embed="rId2"/>
          <a:stretch/>
        </p:blipFill>
        <p:spPr>
          <a:xfrm>
            <a:off x="8153280" y="1143000"/>
            <a:ext cx="762120" cy="6048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6094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orce on each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2362320" y="167652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ame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wton’s third law You can only exert back as much force as is exerted on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19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21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24" dur="3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166 0.34443 L -0.1 0.34443 E">
                                      <p:cBhvr>
                                        <p:cTn id="26" dur="3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j0233182"/>
          <p:cNvPicPr/>
          <p:nvPr/>
        </p:nvPicPr>
        <p:blipFill>
          <a:blip r:embed="rId1"/>
          <a:stretch/>
        </p:blipFill>
        <p:spPr>
          <a:xfrm>
            <a:off x="0" y="2971800"/>
            <a:ext cx="4459320" cy="3135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j0197385"/>
          <p:cNvPicPr/>
          <p:nvPr/>
        </p:nvPicPr>
        <p:blipFill>
          <a:blip r:embed="rId2"/>
          <a:stretch/>
        </p:blipFill>
        <p:spPr>
          <a:xfrm>
            <a:off x="8077320" y="1600200"/>
            <a:ext cx="761760" cy="6048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4"/>
          <p:cNvSpPr/>
          <p:nvPr/>
        </p:nvSpPr>
        <p:spPr>
          <a:xfrm>
            <a:off x="6094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ime of impact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295280" y="1295280"/>
            <a:ext cx="4343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ame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t would be impossible for the bug to hit the windshield for 2 seconds while the windshield hits the bug for 3 seco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37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39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42" dur="3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166 0.34443 L -0.1 0.34443 E">
                                      <p:cBhvr>
                                        <p:cTn id="44" dur="3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j0233182"/>
          <p:cNvPicPr/>
          <p:nvPr/>
        </p:nvPicPr>
        <p:blipFill>
          <a:blip r:embed="rId1"/>
          <a:stretch/>
        </p:blipFill>
        <p:spPr>
          <a:xfrm>
            <a:off x="0" y="266688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j0197385"/>
          <p:cNvPicPr/>
          <p:nvPr/>
        </p:nvPicPr>
        <p:blipFill>
          <a:blip r:embed="rId2"/>
          <a:stretch/>
        </p:blipFill>
        <p:spPr>
          <a:xfrm>
            <a:off x="8153280" y="1143000"/>
            <a:ext cx="762120" cy="6048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"/>
          <p:cNvSpPr/>
          <p:nvPr/>
        </p:nvSpPr>
        <p:spPr>
          <a:xfrm>
            <a:off x="6094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hange of velocit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n each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1447920" y="1523880"/>
            <a:ext cx="525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Different – The car, hardly noticeable. The bug very noticeable. The bug slows down, stops and reverses dir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55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57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60" dur="3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166 0.34443 L -0.1 0.34443 E">
                                      <p:cBhvr>
                                        <p:cTn id="62" dur="3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j0233182"/>
          <p:cNvPicPr/>
          <p:nvPr/>
        </p:nvPicPr>
        <p:blipFill>
          <a:blip r:embed="rId1"/>
          <a:stretch/>
        </p:blipFill>
        <p:spPr>
          <a:xfrm>
            <a:off x="0" y="266688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j0197385"/>
          <p:cNvPicPr/>
          <p:nvPr/>
        </p:nvPicPr>
        <p:blipFill>
          <a:blip r:embed="rId2"/>
          <a:stretch/>
        </p:blipFill>
        <p:spPr>
          <a:xfrm>
            <a:off x="8153280" y="1143000"/>
            <a:ext cx="762120" cy="6048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4"/>
          <p:cNvSpPr/>
          <p:nvPr/>
        </p:nvSpPr>
        <p:spPr>
          <a:xfrm>
            <a:off x="6094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omentum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and aft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2133720" y="1523880"/>
            <a:ext cx="419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me – momentum is conserved in a colli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73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75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78" dur="3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166 0.34443 L -0.1 0.34443 E">
                                      <p:cBhvr>
                                        <p:cTn id="80" dur="3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about a BIGGER BU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j0233182"/>
          <p:cNvPicPr/>
          <p:nvPr/>
        </p:nvPicPr>
        <p:blipFill>
          <a:blip r:embed="rId1"/>
          <a:stretch/>
        </p:blipFill>
        <p:spPr>
          <a:xfrm>
            <a:off x="0" y="266688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j0197385"/>
          <p:cNvPicPr/>
          <p:nvPr/>
        </p:nvPicPr>
        <p:blipFill>
          <a:blip r:embed="rId2"/>
          <a:stretch/>
        </p:blipFill>
        <p:spPr>
          <a:xfrm>
            <a:off x="7010280" y="235080"/>
            <a:ext cx="1905120" cy="15127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4"/>
          <p:cNvSpPr/>
          <p:nvPr/>
        </p:nvSpPr>
        <p:spPr>
          <a:xfrm>
            <a:off x="6094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orce on each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3276720" y="1676520"/>
            <a:ext cx="3504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ame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wton’s third law You can only exert back as much force as is exerted on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91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93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96" dur="5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875 0.38844 L -0.04583 0.38844 E">
                                      <p:cBhvr>
                                        <p:cTn id="98" dur="5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18:51:15Z</dcterms:created>
  <dc:creator>administrator</dc:creator>
  <dc:description>newtons laws bug on windshield</dc:description>
  <cp:keywords>newtons laws bug on windshield</cp:keywords>
  <dc:language>en-US</dc:language>
  <cp:lastModifiedBy>VEvans</cp:lastModifiedBy>
  <dcterms:modified xsi:type="dcterms:W3CDTF">2009-09-03T17:51:31Z</dcterms:modified>
  <cp:revision>8</cp:revision>
  <dc:subject>newtons laws bug on windshield</dc:subject>
  <dc:title>newtons laws bug on windshield</dc:title>
</cp:coreProperties>
</file>